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0AE-86D2-41B7-B008-0F91EEF5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475-2B7B-40D6-97FB-6C4D0AF4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17C-85EF-46E1-8B5F-9B737356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FDD-7932-404F-A60C-9E78FB83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7619-B675-46D2-A528-B455FB7D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728-0BEA-466B-9E58-954F5856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FC33-2C7F-4E7B-A07E-55932EE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DB01-CCEF-4EC4-9F10-362A5B51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D0D0-8918-43ED-A5B3-16974478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4979-0669-482B-939B-7B2D978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CAA2-2986-45D8-9321-B19EB740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A31-DB9C-4B9C-8707-CBCEB0CE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9B5B-2567-4DE0-A66F-5B4B235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521B-6E06-424C-B795-E37CFB31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C2C2-60D2-4DE9-9472-5726BD34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0E85-D8FA-4996-89EA-A4D7A410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5CBB-5092-4134-8C03-ABBA9430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C14-70E9-488E-9172-D873640B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CCC-024E-4DAD-A4A7-76B7D501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361-9D66-45EB-A4AC-C00F3A74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5FA-5B6D-4248-95F8-A2A14088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7F3-98DC-4B67-9D6F-41284F7F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9CF-BF1C-4D6F-A1AA-1A1EEA39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92D-0FC0-4415-B2C8-8FAC024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0374-C610-4A86-AA51-BB07B31ED7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9AE2-B6F8-4635-9E10-41D2573460B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Užití Thaletovy kružnic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Konstrukce pravoúhlého trojúhelníku, </a:t>
            </a:r>
            <a:br>
              <a:rPr sz="4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je-li zadána </a:t>
            </a:r>
            <a:br>
              <a:rPr sz="2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1) jeho přepona a jedna odvěsna,</a:t>
            </a:r>
            <a:br>
              <a:rPr sz="2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2) jeho přepona a jeden nepravý úh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84c6a"/>
                </a:solidFill>
                <a:latin typeface="Arial"/>
              </a:rPr>
              <a:t>Autor obrázků </a:t>
            </a:r>
            <a:r>
              <a:rPr b="0" lang="en-US" sz="1400" spc="-1" strike="noStrike">
                <a:solidFill>
                  <a:srgbClr val="284c6a"/>
                </a:solidFill>
                <a:latin typeface="Arial"/>
                <a:ea typeface="Arial"/>
              </a:rPr>
              <a:t>©</a:t>
            </a:r>
            <a:r>
              <a:rPr b="0" lang="cs-CZ" sz="1400" spc="-1" strike="noStrike">
                <a:solidFill>
                  <a:srgbClr val="284c6a"/>
                </a:solidFill>
                <a:latin typeface="Arial"/>
                <a:ea typeface="Arial"/>
              </a:rPr>
              <a:t> Mgr. Radomír Machá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232092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8" descr=""/>
          <p:cNvPicPr/>
          <p:nvPr/>
        </p:nvPicPr>
        <p:blipFill>
          <a:blip r:embed="rId2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9" descr=""/>
          <p:cNvPicPr/>
          <p:nvPr/>
        </p:nvPicPr>
        <p:blipFill>
          <a:blip r:embed="rId3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0" descr=""/>
          <p:cNvPicPr/>
          <p:nvPr/>
        </p:nvPicPr>
        <p:blipFill>
          <a:blip r:embed="rId4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1" descr=""/>
          <p:cNvPicPr/>
          <p:nvPr/>
        </p:nvPicPr>
        <p:blipFill>
          <a:blip r:embed="rId5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2" descr=""/>
          <p:cNvPicPr/>
          <p:nvPr/>
        </p:nvPicPr>
        <p:blipFill>
          <a:blip r:embed="rId6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3" descr=""/>
          <p:cNvPicPr/>
          <p:nvPr/>
        </p:nvPicPr>
        <p:blipFill>
          <a:blip r:embed="rId7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4" descr=""/>
          <p:cNvPicPr/>
          <p:nvPr/>
        </p:nvPicPr>
        <p:blipFill>
          <a:blip r:embed="rId8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5" descr=""/>
          <p:cNvPicPr/>
          <p:nvPr/>
        </p:nvPicPr>
        <p:blipFill>
          <a:blip r:embed="rId9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6" descr=""/>
          <p:cNvPicPr/>
          <p:nvPr/>
        </p:nvPicPr>
        <p:blipFill>
          <a:blip r:embed="rId10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7" descr=""/>
          <p:cNvPicPr/>
          <p:nvPr/>
        </p:nvPicPr>
        <p:blipFill>
          <a:blip r:embed="rId11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8" descr=""/>
          <p:cNvPicPr/>
          <p:nvPr/>
        </p:nvPicPr>
        <p:blipFill>
          <a:blip r:embed="rId12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9" descr=""/>
          <p:cNvPicPr/>
          <p:nvPr/>
        </p:nvPicPr>
        <p:blipFill>
          <a:blip r:embed="rId13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0" descr=""/>
          <p:cNvPicPr/>
          <p:nvPr/>
        </p:nvPicPr>
        <p:blipFill>
          <a:blip r:embed="rId14"/>
          <a:stretch/>
        </p:blipFill>
        <p:spPr>
          <a:xfrm>
            <a:off x="1811160" y="2413080"/>
            <a:ext cx="5353200" cy="38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8 cm, odvěsna a = 3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8 cm, odvěsna a = 3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2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4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5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6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7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8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9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7" descr=""/>
          <p:cNvPicPr/>
          <p:nvPr/>
        </p:nvPicPr>
        <p:blipFill>
          <a:blip r:embed="rId10"/>
          <a:stretch/>
        </p:blipFill>
        <p:spPr>
          <a:xfrm>
            <a:off x="1441440" y="1814400"/>
            <a:ext cx="6154920" cy="44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= 6 cm a odvěsna b = 5,5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= 6 cm a odvěsna b = 5,5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2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3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4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5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6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"/>
          <p:cNvPicPr/>
          <p:nvPr/>
        </p:nvPicPr>
        <p:blipFill>
          <a:blip r:embed="rId7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"/>
          <p:cNvPicPr/>
          <p:nvPr/>
        </p:nvPicPr>
        <p:blipFill>
          <a:blip r:embed="rId8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"/>
          <p:cNvPicPr/>
          <p:nvPr/>
        </p:nvPicPr>
        <p:blipFill>
          <a:blip r:embed="rId9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"/>
          <p:cNvPicPr/>
          <p:nvPr/>
        </p:nvPicPr>
        <p:blipFill>
          <a:blip r:embed="rId10"/>
          <a:stretch/>
        </p:blipFill>
        <p:spPr>
          <a:xfrm>
            <a:off x="1131840" y="1773360"/>
            <a:ext cx="6753240" cy="44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1116000" y="2409840"/>
            <a:ext cx="5472000" cy="3852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4"/>
          <p:cNvSpPr/>
          <p:nvPr/>
        </p:nvSpPr>
        <p:spPr>
          <a:xfrm>
            <a:off x="914400" y="17002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A nyní již přikročíme ke konstrukci pravoúhlého trojúhelníku, je-li zadána jeho přepona a jeden z nepravých úhlů.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pravoúhlý trojúhelník ABC, ve kterém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8 cm a úhel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0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rc 7"/>
          <p:cNvSpPr/>
          <p:nvPr/>
        </p:nvSpPr>
        <p:spPr>
          <a:xfrm flipV="1" rot="1738200">
            <a:off x="3693960" y="2814480"/>
            <a:ext cx="1098720" cy="1009800"/>
          </a:xfrm>
          <a:custGeom>
            <a:avLst/>
            <a:gdLst>
              <a:gd name="textAreaLeft" fmla="*/ 0 w 1098720"/>
              <a:gd name="textAreaRight" fmla="*/ 1099080 w 1098720"/>
              <a:gd name="textAreaTop" fmla="*/ -360 h 1009800"/>
              <a:gd name="textAreaBottom" fmla="*/ 1009800 h 1009800"/>
            </a:gdLst>
            <a:ahLst/>
            <a:rect l="textAreaLeft" t="textAreaTop" r="textAreaRight" b="textAreaBottom"/>
            <a:pathLst>
              <a:path fill="none" w="29233" h="21600">
                <a:moveTo>
                  <a:pt x="0" y="2651"/>
                </a:moveTo>
                <a:cubicBezTo>
                  <a:pt x="3178" y="911"/>
                  <a:pt x="6744" y="-1"/>
                  <a:pt x="10368" y="0"/>
                </a:cubicBezTo>
                <a:cubicBezTo>
                  <a:pt x="18200" y="0"/>
                  <a:pt x="25418" y="4239"/>
                  <a:pt x="29233" y="11079"/>
                </a:cubicBezTo>
              </a:path>
              <a:path stroke="0" w="29233" h="21600">
                <a:moveTo>
                  <a:pt x="0" y="2651"/>
                </a:moveTo>
                <a:cubicBezTo>
                  <a:pt x="3178" y="911"/>
                  <a:pt x="6744" y="-1"/>
                  <a:pt x="10368" y="0"/>
                </a:cubicBezTo>
                <a:cubicBezTo>
                  <a:pt x="18200" y="0"/>
                  <a:pt x="25418" y="4239"/>
                  <a:pt x="29233" y="11079"/>
                </a:cubicBezTo>
                <a:lnTo>
                  <a:pt x="10368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167360" y="487044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720960" y="318780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5435640" y="2565360"/>
            <a:ext cx="3529080" cy="2519280"/>
          </a:xfrm>
          <a:prstGeom prst="cloudCallout">
            <a:avLst>
              <a:gd name="adj1" fmla="val -79462"/>
              <a:gd name="adj2" fmla="val -92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bychom mohli sestrojit trojúhelník, potřebujeme mít zadány tři údaje. Zdálo by se tedy, že nám jeden chybí. Ale není tomu tak. Je ukrytý ve slůvku pravoúhl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614920" y="1484280"/>
            <a:ext cx="3349800" cy="2305080"/>
          </a:xfrm>
          <a:prstGeom prst="cloudCallout">
            <a:avLst>
              <a:gd name="adj1" fmla="val -92324"/>
              <a:gd name="adj2" fmla="val 21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avý úhel, tj. úh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 velikosti 90° leží vždy proti přeponě, tzn. nejdelší straně pravoúhlého trojúhelní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1663560" y="4984920"/>
            <a:ext cx="4248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rc 13"/>
          <p:cNvSpPr/>
          <p:nvPr/>
        </p:nvSpPr>
        <p:spPr>
          <a:xfrm>
            <a:off x="1649520" y="4314960"/>
            <a:ext cx="1063440" cy="668160"/>
          </a:xfrm>
          <a:custGeom>
            <a:avLst/>
            <a:gdLst>
              <a:gd name="textAreaLeft" fmla="*/ 0 w 1063440"/>
              <a:gd name="textAreaRight" fmla="*/ 1063800 w 106344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fill="none" w="21600" h="13581">
                <a:moveTo>
                  <a:pt x="16796" y="-1"/>
                </a:moveTo>
                <a:cubicBezTo>
                  <a:pt x="19904" y="3843"/>
                  <a:pt x="21600" y="8637"/>
                  <a:pt x="21600" y="13581"/>
                </a:cubicBezTo>
              </a:path>
              <a:path stroke="0" w="21600" h="13581">
                <a:moveTo>
                  <a:pt x="16796" y="-1"/>
                </a:moveTo>
                <a:cubicBezTo>
                  <a:pt x="19904" y="3843"/>
                  <a:pt x="21600" y="8637"/>
                  <a:pt x="21600" y="13581"/>
                </a:cubicBezTo>
                <a:lnTo>
                  <a:pt x="0" y="1358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1863720" y="4581360"/>
            <a:ext cx="865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 flipV="1">
            <a:off x="1647720" y="2406240"/>
            <a:ext cx="3097440" cy="25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1244520" y="2622600"/>
            <a:ext cx="5112000" cy="36003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496800" y="722160"/>
            <a:ext cx="8533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1) Začneme jako vždy stranou, v tomto případě přepo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, proti které leží pravý úh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96800" y="1125360"/>
            <a:ext cx="83962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2) Následuje použití pravého úhlu, lépe řečeno toho, že při vrcholu C bude pravý úhel – sestrojíme tedy množinu všech bodů, z nichž je přepona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vidět pod úhlem 90° -  sestrojíme Thaletovu kružn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525600" y="170028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3) Jako poslední využijeme ze zadání úhel </a:t>
            </a:r>
            <a:r>
              <a:rPr b="1" i="1" lang="cs-CZ" sz="14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– sestrojíme jeho druhé rameno, polopřímku AY, jejíž částí je i množina všech bodů, které tvoří stran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a na které leží i vrchol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1187280" y="50418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179244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572436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7394400" y="489744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378000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 flipV="1">
            <a:off x="178272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4095720" y="491328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728800" y="3760920"/>
            <a:ext cx="2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16"/>
          <p:cNvSpPr/>
          <p:nvPr/>
        </p:nvSpPr>
        <p:spPr>
          <a:xfrm>
            <a:off x="1793880" y="3773520"/>
            <a:ext cx="2260440" cy="25351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fill="none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</a:path>
              <a:path stroke="0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  <a:lnTo>
                  <a:pt x="0" y="121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17"/>
          <p:cNvSpPr/>
          <p:nvPr/>
        </p:nvSpPr>
        <p:spPr>
          <a:xfrm rot="16200000">
            <a:off x="3281400" y="3859200"/>
            <a:ext cx="2612880" cy="2260800"/>
          </a:xfrm>
          <a:custGeom>
            <a:avLst/>
            <a:gdLst>
              <a:gd name="textAreaLeft" fmla="*/ 0 w 2612880"/>
              <a:gd name="textAreaRight" fmla="*/ 2613240 w 2612880"/>
              <a:gd name="textAreaTop" fmla="*/ 0 h 2260800"/>
              <a:gd name="textAreaBottom" fmla="*/ 2260800 h 2260800"/>
            </a:gdLst>
            <a:ahLst/>
            <a:rect l="textAreaLeft" t="textAreaTop" r="textAreaRight" b="textAreaBottom"/>
            <a:pathLst>
              <a:path fill="none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</a:path>
              <a:path stroke="0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  <a:lnTo>
                  <a:pt x="1210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 flipV="1">
            <a:off x="3754440" y="242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3708360" y="4968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0"/>
          <p:cNvSpPr/>
          <p:nvPr/>
        </p:nvSpPr>
        <p:spPr>
          <a:xfrm>
            <a:off x="5508720" y="2349360"/>
            <a:ext cx="3348000" cy="2519640"/>
          </a:xfrm>
          <a:prstGeom prst="cloudCallout">
            <a:avLst>
              <a:gd name="adj1" fmla="val -66120"/>
              <a:gd name="adj2" fmla="val -796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strojíme střed přepony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tj. střed Thaletovy kružnice. Poloměr je dán vzdáleností středu přepony od jejích krajních bodů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j.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B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21"/>
          <p:cNvSpPr/>
          <p:nvPr/>
        </p:nvSpPr>
        <p:spPr>
          <a:xfrm>
            <a:off x="1774800" y="3054240"/>
            <a:ext cx="3954600" cy="3235320"/>
          </a:xfrm>
          <a:custGeom>
            <a:avLst/>
            <a:gdLst>
              <a:gd name="textAreaLeft" fmla="*/ 0 w 3954600"/>
              <a:gd name="textAreaRight" fmla="*/ 3954960 w 3954600"/>
              <a:gd name="textAreaTop" fmla="*/ 0 h 3235320"/>
              <a:gd name="textAreaBottom" fmla="*/ 3235680 h 3235320"/>
            </a:gdLst>
            <a:ahLst/>
            <a:rect l="textAreaLeft" t="textAreaTop" r="textAreaRight" b="textAreaBottom"/>
            <a:pathLst>
              <a:path fill="none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</a:path>
              <a:path stroke="0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2268360" y="3213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4052880" y="3054240"/>
            <a:ext cx="82440" cy="82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4830840" y="373212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rc 25"/>
          <p:cNvSpPr/>
          <p:nvPr/>
        </p:nvSpPr>
        <p:spPr>
          <a:xfrm>
            <a:off x="1763640" y="4357800"/>
            <a:ext cx="1063800" cy="66816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fill="none" w="21600" h="13581">
                <a:moveTo>
                  <a:pt x="16796" y="-1"/>
                </a:moveTo>
                <a:cubicBezTo>
                  <a:pt x="19904" y="3843"/>
                  <a:pt x="21600" y="8637"/>
                  <a:pt x="21600" y="13581"/>
                </a:cubicBezTo>
              </a:path>
              <a:path stroke="0" w="21600" h="13581">
                <a:moveTo>
                  <a:pt x="16796" y="-1"/>
                </a:moveTo>
                <a:cubicBezTo>
                  <a:pt x="19904" y="3843"/>
                  <a:pt x="21600" y="8637"/>
                  <a:pt x="21600" y="13581"/>
                </a:cubicBezTo>
                <a:lnTo>
                  <a:pt x="0" y="13581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 flipV="1">
            <a:off x="1762200" y="2449080"/>
            <a:ext cx="309708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4572000" y="25509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4334040" y="23623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 flipH="1" flipV="1">
            <a:off x="4095720" y="3096720"/>
            <a:ext cx="1641600" cy="192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 flipV="1">
            <a:off x="1778040" y="3097080"/>
            <a:ext cx="2303280" cy="194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3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5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35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45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547640" y="103824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1549440" y="175896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S; ½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A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40°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5796000" y="14414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546200" y="141300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S; S je střed 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5796000" y="1816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>
            <a:off x="1906560" y="5041800"/>
            <a:ext cx="561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49696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644364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7236000" y="489744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449892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 flipV="1">
            <a:off x="250200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6"/>
          <p:cNvSpPr/>
          <p:nvPr/>
        </p:nvSpPr>
        <p:spPr>
          <a:xfrm>
            <a:off x="4815000" y="491328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3448080" y="3760920"/>
            <a:ext cx="28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18"/>
          <p:cNvSpPr/>
          <p:nvPr/>
        </p:nvSpPr>
        <p:spPr>
          <a:xfrm>
            <a:off x="2513160" y="3773520"/>
            <a:ext cx="2260440" cy="25351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fill="none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</a:path>
              <a:path stroke="0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  <a:lnTo>
                  <a:pt x="0" y="121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rc 19"/>
          <p:cNvSpPr/>
          <p:nvPr/>
        </p:nvSpPr>
        <p:spPr>
          <a:xfrm rot="16200000">
            <a:off x="4000320" y="3859200"/>
            <a:ext cx="2612880" cy="2260440"/>
          </a:xfrm>
          <a:custGeom>
            <a:avLst/>
            <a:gdLst>
              <a:gd name="textAreaLeft" fmla="*/ 0 w 2612880"/>
              <a:gd name="textAreaRight" fmla="*/ 2613240 w 261288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fill="none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</a:path>
              <a:path stroke="0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  <a:lnTo>
                  <a:pt x="1210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 flipV="1">
            <a:off x="4473720" y="242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4427640" y="4968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rc 22"/>
          <p:cNvSpPr/>
          <p:nvPr/>
        </p:nvSpPr>
        <p:spPr>
          <a:xfrm>
            <a:off x="2494080" y="3054240"/>
            <a:ext cx="3954240" cy="3235320"/>
          </a:xfrm>
          <a:custGeom>
            <a:avLst/>
            <a:gdLst>
              <a:gd name="textAreaLeft" fmla="*/ 0 w 3954240"/>
              <a:gd name="textAreaRight" fmla="*/ 3954600 w 3954240"/>
              <a:gd name="textAreaTop" fmla="*/ 0 h 3235320"/>
              <a:gd name="textAreaBottom" fmla="*/ 3235680 h 3235320"/>
            </a:gdLst>
            <a:ahLst/>
            <a:rect l="textAreaLeft" t="textAreaTop" r="textAreaRight" b="textAreaBottom"/>
            <a:pathLst>
              <a:path fill="none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</a:path>
              <a:path stroke="0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2987640" y="3213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5549760" y="373212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5"/>
          <p:cNvSpPr/>
          <p:nvPr/>
        </p:nvSpPr>
        <p:spPr>
          <a:xfrm flipV="1">
            <a:off x="2481120" y="2449080"/>
            <a:ext cx="309744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6"/>
          <p:cNvSpPr/>
          <p:nvPr/>
        </p:nvSpPr>
        <p:spPr>
          <a:xfrm>
            <a:off x="5291280" y="25509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5052960" y="23623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"/>
          <p:cNvSpPr/>
          <p:nvPr/>
        </p:nvSpPr>
        <p:spPr>
          <a:xfrm flipH="1" flipV="1">
            <a:off x="4814640" y="3096720"/>
            <a:ext cx="1641240" cy="192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9"/>
          <p:cNvSpPr/>
          <p:nvPr/>
        </p:nvSpPr>
        <p:spPr>
          <a:xfrm flipV="1">
            <a:off x="2496960" y="3097080"/>
            <a:ext cx="2303640" cy="194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2259000" y="49989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6443640" y="49705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4686480" y="2722680"/>
            <a:ext cx="32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042920" y="232092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3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4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5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6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"/>
          <p:cNvPicPr/>
          <p:nvPr/>
        </p:nvPicPr>
        <p:blipFill>
          <a:blip r:embed="rId7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"/>
          <p:cNvPicPr/>
          <p:nvPr/>
        </p:nvPicPr>
        <p:blipFill>
          <a:blip r:embed="rId8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"/>
          <p:cNvPicPr/>
          <p:nvPr/>
        </p:nvPicPr>
        <p:blipFill>
          <a:blip r:embed="rId9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"/>
          <p:cNvPicPr/>
          <p:nvPr/>
        </p:nvPicPr>
        <p:blipFill>
          <a:blip r:embed="rId10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"/>
          <p:cNvPicPr/>
          <p:nvPr/>
        </p:nvPicPr>
        <p:blipFill>
          <a:blip r:embed="rId11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"/>
          <p:cNvPicPr/>
          <p:nvPr/>
        </p:nvPicPr>
        <p:blipFill>
          <a:blip r:embed="rId12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7" descr=""/>
          <p:cNvPicPr/>
          <p:nvPr/>
        </p:nvPicPr>
        <p:blipFill>
          <a:blip r:embed="rId13"/>
          <a:stretch/>
        </p:blipFill>
        <p:spPr>
          <a:xfrm>
            <a:off x="1820880" y="2409840"/>
            <a:ext cx="541512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6 cm, odvěsn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75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0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1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avoúhlý trojúhelník je speciální typ trojúhelníku, tzn. rovinného geometrického útvaru sestávajícího ze tří stran, tří vrcholů a tří vnitřních úhlů, z nichž jeden je prav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 flipH="1">
            <a:off x="5003280" y="1916280"/>
            <a:ext cx="2521080" cy="18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3059280" y="1916280"/>
            <a:ext cx="4465440" cy="2089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4500720" y="1916280"/>
            <a:ext cx="3024000" cy="3241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1476360" y="2205000"/>
            <a:ext cx="57456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1476360" y="2205000"/>
            <a:ext cx="518328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1476360" y="2205000"/>
            <a:ext cx="208764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>
            <a:off x="2195640" y="2205000"/>
            <a:ext cx="180000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3995640" y="2205000"/>
            <a:ext cx="2664000" cy="295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H="1">
            <a:off x="3779640" y="2205000"/>
            <a:ext cx="215640" cy="863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851280" y="2205000"/>
            <a:ext cx="2665440" cy="936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6 cm, odvěsn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7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4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5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6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"/>
          <p:cNvPicPr/>
          <p:nvPr/>
        </p:nvPicPr>
        <p:blipFill>
          <a:blip r:embed="rId7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"/>
          <p:cNvPicPr/>
          <p:nvPr/>
        </p:nvPicPr>
        <p:blipFill>
          <a:blip r:embed="rId8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"/>
          <p:cNvPicPr/>
          <p:nvPr/>
        </p:nvPicPr>
        <p:blipFill>
          <a:blip r:embed="rId9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10"/>
          <a:stretch/>
        </p:blipFill>
        <p:spPr>
          <a:xfrm>
            <a:off x="1555920" y="1773360"/>
            <a:ext cx="5752800" cy="44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75 mm, odvěsn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6004080" y="6064200"/>
            <a:ext cx="212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likni pro ukázku řeš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1700280"/>
            <a:ext cx="691380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927000" y="1068480"/>
            <a:ext cx="777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Sestrojte pravoúhlý trojúhelník ABC, jestliže: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b = 75 mm, odvěsna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2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3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4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5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6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7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8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9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0"/>
          <a:stretch/>
        </p:blipFill>
        <p:spPr>
          <a:xfrm>
            <a:off x="1420920" y="1773360"/>
            <a:ext cx="6175440" cy="45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</a:t>
            </a:r>
            <a:br>
              <a:rPr sz="3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86" name="Picture 9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8" descr=""/>
          <p:cNvPicPr/>
          <p:nvPr/>
        </p:nvPicPr>
        <p:blipFill>
          <a:blip r:embed="rId2"/>
          <a:stretch/>
        </p:blipFill>
        <p:spPr>
          <a:xfrm>
            <a:off x="1378080" y="2421000"/>
            <a:ext cx="5786280" cy="3894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050560" y="1916280"/>
            <a:ext cx="1729080" cy="3241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3780000" y="1916280"/>
            <a:ext cx="2736720" cy="331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3635280" y="1916280"/>
            <a:ext cx="14472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protractor0"/>
          <p:cNvPicPr/>
          <p:nvPr/>
        </p:nvPicPr>
        <p:blipFill>
          <a:blip r:embed="rId3"/>
          <a:stretch/>
        </p:blipFill>
        <p:spPr>
          <a:xfrm>
            <a:off x="-209520" y="327024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protractor0"/>
          <p:cNvPicPr/>
          <p:nvPr/>
        </p:nvPicPr>
        <p:blipFill>
          <a:blip r:embed="rId4"/>
          <a:stretch/>
        </p:blipFill>
        <p:spPr>
          <a:xfrm>
            <a:off x="4687920" y="327024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protractor0"/>
          <p:cNvPicPr/>
          <p:nvPr/>
        </p:nvPicPr>
        <p:blipFill>
          <a:blip r:embed="rId5"/>
          <a:stretch/>
        </p:blipFill>
        <p:spPr>
          <a:xfrm rot="7560000">
            <a:off x="2196000" y="2291400"/>
            <a:ext cx="4032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7000" y="126828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šechny vrcholy pravoúhlého trojúhelníku leží na Thaletově kruž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942840" y="170028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haletova kružnice je taková kružnice, která má střed uprostřed přepony pravoúhlého trojúhelníku a poloměr poloviny přepony.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 flipH="1">
            <a:off x="5724360" y="1628640"/>
            <a:ext cx="1152720" cy="144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1" descr=""/>
          <p:cNvPicPr/>
          <p:nvPr/>
        </p:nvPicPr>
        <p:blipFill>
          <a:blip r:embed="rId4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5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42840" y="155592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haletova kružnice sestrojená nad přeponou trojúhelníku je tedy množinou všech bodů, které mohou být vrcholem pravoúhlého trojúhelníku s danou přepo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2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4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avoúhlý trojúhelník a jeho vlastnost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42840" y="1555920"/>
            <a:ext cx="777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haletova kružnice sestrojená nad přeponou trojúhelníku je tedy množinou všech bodů, které mohou být vrcholem pravoúhlého trojúhelníku s danou přepo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3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4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5"/>
          <a:stretch/>
        </p:blipFill>
        <p:spPr>
          <a:xfrm>
            <a:off x="1593720" y="2406600"/>
            <a:ext cx="5786640" cy="38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7" descr=""/>
          <p:cNvPicPr/>
          <p:nvPr/>
        </p:nvPicPr>
        <p:blipFill>
          <a:blip r:embed="rId2"/>
          <a:stretch/>
        </p:blipFill>
        <p:spPr>
          <a:xfrm>
            <a:off x="1090440" y="2413080"/>
            <a:ext cx="5353200" cy="3851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914400" y="17002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6144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A nyní již přikročíme ke konstrukci pravoúhlého trojúhelníku, je-li zadána jeho přepona a jedna odvěsna.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pravoúhlý trojúhelník ABC, ve kterém přepona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7 cm a odvěsna b = 5,5 c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3"/>
          <p:cNvSpPr/>
          <p:nvPr/>
        </p:nvSpPr>
        <p:spPr>
          <a:xfrm flipV="1">
            <a:off x="178272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54"/>
          <p:cNvSpPr/>
          <p:nvPr/>
        </p:nvSpPr>
        <p:spPr>
          <a:xfrm flipV="1" rot="1738200">
            <a:off x="3732120" y="3011400"/>
            <a:ext cx="1098720" cy="1009800"/>
          </a:xfrm>
          <a:custGeom>
            <a:avLst/>
            <a:gdLst>
              <a:gd name="textAreaLeft" fmla="*/ 0 w 1098720"/>
              <a:gd name="textAreaRight" fmla="*/ 1099080 w 1098720"/>
              <a:gd name="textAreaTop" fmla="*/ -360 h 1009800"/>
              <a:gd name="textAreaBottom" fmla="*/ 1009800 h 1009800"/>
            </a:gdLst>
            <a:ahLst/>
            <a:rect l="textAreaLeft" t="textAreaTop" r="textAreaRight" b="textAreaBottom"/>
            <a:pathLst>
              <a:path fill="none" w="29233" h="21600">
                <a:moveTo>
                  <a:pt x="0" y="2651"/>
                </a:moveTo>
                <a:cubicBezTo>
                  <a:pt x="3178" y="911"/>
                  <a:pt x="6744" y="-1"/>
                  <a:pt x="10368" y="0"/>
                </a:cubicBezTo>
                <a:cubicBezTo>
                  <a:pt x="18200" y="0"/>
                  <a:pt x="25418" y="4239"/>
                  <a:pt x="29233" y="11079"/>
                </a:cubicBezTo>
              </a:path>
              <a:path stroke="0" w="29233" h="21600">
                <a:moveTo>
                  <a:pt x="0" y="2651"/>
                </a:moveTo>
                <a:cubicBezTo>
                  <a:pt x="3178" y="911"/>
                  <a:pt x="6744" y="-1"/>
                  <a:pt x="10368" y="0"/>
                </a:cubicBezTo>
                <a:cubicBezTo>
                  <a:pt x="18200" y="0"/>
                  <a:pt x="25418" y="4239"/>
                  <a:pt x="29233" y="11079"/>
                </a:cubicBezTo>
                <a:lnTo>
                  <a:pt x="10368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1"/>
          <p:cNvSpPr/>
          <p:nvPr/>
        </p:nvSpPr>
        <p:spPr>
          <a:xfrm flipV="1">
            <a:off x="1781640" y="3117240"/>
            <a:ext cx="2434320" cy="1915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4"/>
          <p:cNvSpPr/>
          <p:nvPr/>
        </p:nvSpPr>
        <p:spPr>
          <a:xfrm>
            <a:off x="4095720" y="491328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5"/>
          <p:cNvSpPr/>
          <p:nvPr/>
        </p:nvSpPr>
        <p:spPr>
          <a:xfrm>
            <a:off x="2828880" y="3760920"/>
            <a:ext cx="2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6"/>
          <p:cNvSpPr/>
          <p:nvPr/>
        </p:nvSpPr>
        <p:spPr>
          <a:xfrm>
            <a:off x="3780000" y="337176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8"/>
          <p:cNvSpPr/>
          <p:nvPr/>
        </p:nvSpPr>
        <p:spPr>
          <a:xfrm>
            <a:off x="5364000" y="2565360"/>
            <a:ext cx="3529080" cy="2519280"/>
          </a:xfrm>
          <a:prstGeom prst="cloudCallout">
            <a:avLst>
              <a:gd name="adj1" fmla="val -72898"/>
              <a:gd name="adj2" fmla="val -83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bychom mohli sestrojit trojúhelník, potřebujeme mít zadány tři údaje. Zdálo by se tedy, že nám jeden chybí. Ale není tomu tak. Je ukrytý ve slůvku pravoúhl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9"/>
          <p:cNvSpPr/>
          <p:nvPr/>
        </p:nvSpPr>
        <p:spPr>
          <a:xfrm>
            <a:off x="5614920" y="1484280"/>
            <a:ext cx="3349800" cy="2305080"/>
          </a:xfrm>
          <a:prstGeom prst="cloudCallout">
            <a:avLst>
              <a:gd name="adj1" fmla="val -87962"/>
              <a:gd name="adj2" fmla="val 307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ravý úhel, tj. úh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o velikosti 90° leží vždy proti přeponě, tzn. nejdelší straně pravoúhlého trojúhelní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8" descr=""/>
          <p:cNvPicPr/>
          <p:nvPr/>
        </p:nvPicPr>
        <p:blipFill>
          <a:blip r:embed="rId2"/>
          <a:stretch/>
        </p:blipFill>
        <p:spPr>
          <a:xfrm>
            <a:off x="1090440" y="2413080"/>
            <a:ext cx="5353200" cy="3851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496800" y="722160"/>
            <a:ext cx="8533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1) Začneme jako vždy stranou, v tomto případě přepono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, proti které leží pravý úh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96800" y="1139760"/>
            <a:ext cx="8396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2) Následuje použití pravého úhlu, lépe řečeno toho, že při vrcholu C bude pravý úhel – sestrojíme tedy množinu všech bodů, z nichž je přepona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vidět pod úhlem 90° -  sestrojíme Thaletovu kružnic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25600" y="170028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3) Jako poslední využijeme ze zadání stran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– její velikost je poloměrem kružnice se středem </a:t>
            </a:r>
            <a:br>
              <a:rPr sz="1400"/>
            </a:b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 bodě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, tj. kružnice, která je množinou všech bodů majících od bodu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 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vzdálenost rovnu velikosti strany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4"/>
          <p:cNvSpPr/>
          <p:nvPr/>
        </p:nvSpPr>
        <p:spPr>
          <a:xfrm>
            <a:off x="1187280" y="504180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5"/>
          <p:cNvSpPr/>
          <p:nvPr/>
        </p:nvSpPr>
        <p:spPr>
          <a:xfrm>
            <a:off x="179244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6"/>
          <p:cNvSpPr/>
          <p:nvPr/>
        </p:nvSpPr>
        <p:spPr>
          <a:xfrm>
            <a:off x="572436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7394400" y="489744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4"/>
          <p:cNvSpPr/>
          <p:nvPr/>
        </p:nvSpPr>
        <p:spPr>
          <a:xfrm>
            <a:off x="378000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9"/>
          <p:cNvSpPr/>
          <p:nvPr/>
        </p:nvSpPr>
        <p:spPr>
          <a:xfrm flipV="1">
            <a:off x="178272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2"/>
          <p:cNvSpPr/>
          <p:nvPr/>
        </p:nvSpPr>
        <p:spPr>
          <a:xfrm>
            <a:off x="4095720" y="491328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3"/>
          <p:cNvSpPr/>
          <p:nvPr/>
        </p:nvSpPr>
        <p:spPr>
          <a:xfrm>
            <a:off x="2814480" y="374652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75"/>
          <p:cNvSpPr/>
          <p:nvPr/>
        </p:nvSpPr>
        <p:spPr>
          <a:xfrm>
            <a:off x="1793880" y="3773520"/>
            <a:ext cx="2260440" cy="253512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fill="none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</a:path>
              <a:path stroke="0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  <a:lnTo>
                  <a:pt x="0" y="121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76"/>
          <p:cNvSpPr/>
          <p:nvPr/>
        </p:nvSpPr>
        <p:spPr>
          <a:xfrm rot="16200000">
            <a:off x="3281400" y="3859200"/>
            <a:ext cx="2612880" cy="2260800"/>
          </a:xfrm>
          <a:custGeom>
            <a:avLst/>
            <a:gdLst>
              <a:gd name="textAreaLeft" fmla="*/ 0 w 2612880"/>
              <a:gd name="textAreaRight" fmla="*/ 2613240 w 2612880"/>
              <a:gd name="textAreaTop" fmla="*/ 0 h 2260800"/>
              <a:gd name="textAreaBottom" fmla="*/ 2260800 h 2260800"/>
            </a:gdLst>
            <a:ahLst/>
            <a:rect l="textAreaLeft" t="textAreaTop" r="textAreaRight" b="textAreaBottom"/>
            <a:pathLst>
              <a:path fill="none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</a:path>
              <a:path stroke="0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  <a:lnTo>
                  <a:pt x="1210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7"/>
          <p:cNvSpPr/>
          <p:nvPr/>
        </p:nvSpPr>
        <p:spPr>
          <a:xfrm flipV="1">
            <a:off x="3754440" y="242064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8"/>
          <p:cNvSpPr/>
          <p:nvPr/>
        </p:nvSpPr>
        <p:spPr>
          <a:xfrm>
            <a:off x="3708360" y="4968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9"/>
          <p:cNvSpPr/>
          <p:nvPr/>
        </p:nvSpPr>
        <p:spPr>
          <a:xfrm>
            <a:off x="5508720" y="2349360"/>
            <a:ext cx="3348000" cy="2519640"/>
          </a:xfrm>
          <a:prstGeom prst="cloudCallout">
            <a:avLst>
              <a:gd name="adj1" fmla="val -70055"/>
              <a:gd name="adj2" fmla="val -819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strojíme střed přepony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, tj. střed Thaletovy kružnice. Poloměr je dán vzdáleností středu přepony od jejích krajních bodů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j.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B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80"/>
          <p:cNvSpPr/>
          <p:nvPr/>
        </p:nvSpPr>
        <p:spPr>
          <a:xfrm>
            <a:off x="1774800" y="3054240"/>
            <a:ext cx="3954600" cy="3235320"/>
          </a:xfrm>
          <a:custGeom>
            <a:avLst/>
            <a:gdLst>
              <a:gd name="textAreaLeft" fmla="*/ 0 w 3954600"/>
              <a:gd name="textAreaRight" fmla="*/ 3954960 w 3954600"/>
              <a:gd name="textAreaTop" fmla="*/ 0 h 3235320"/>
              <a:gd name="textAreaBottom" fmla="*/ 3235680 h 3235320"/>
            </a:gdLst>
            <a:ahLst/>
            <a:rect l="textAreaLeft" t="textAreaTop" r="textAreaRight" b="textAreaBottom"/>
            <a:pathLst>
              <a:path fill="none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</a:path>
              <a:path stroke="0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2268360" y="3213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rc 82"/>
          <p:cNvSpPr/>
          <p:nvPr/>
        </p:nvSpPr>
        <p:spPr>
          <a:xfrm>
            <a:off x="1785960" y="2394000"/>
            <a:ext cx="2938320" cy="252720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fill="none" w="20899" h="17980">
                <a:moveTo>
                  <a:pt x="11969" y="0"/>
                </a:moveTo>
                <a:cubicBezTo>
                  <a:pt x="16382" y="2937"/>
                  <a:pt x="19560" y="7394"/>
                  <a:pt x="20899" y="12522"/>
                </a:cubicBezTo>
              </a:path>
              <a:path stroke="0" w="20899" h="17980">
                <a:moveTo>
                  <a:pt x="11969" y="0"/>
                </a:moveTo>
                <a:cubicBezTo>
                  <a:pt x="16382" y="2937"/>
                  <a:pt x="19560" y="7394"/>
                  <a:pt x="20899" y="12522"/>
                </a:cubicBezTo>
                <a:lnTo>
                  <a:pt x="0" y="179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3"/>
          <p:cNvSpPr/>
          <p:nvPr/>
        </p:nvSpPr>
        <p:spPr>
          <a:xfrm>
            <a:off x="3203640" y="227664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4"/>
          <p:cNvSpPr/>
          <p:nvPr/>
        </p:nvSpPr>
        <p:spPr>
          <a:xfrm>
            <a:off x="4183200" y="3068640"/>
            <a:ext cx="8244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1"/>
          <p:cNvSpPr/>
          <p:nvPr/>
        </p:nvSpPr>
        <p:spPr>
          <a:xfrm flipV="1">
            <a:off x="1781640" y="3117240"/>
            <a:ext cx="2434320" cy="1915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6"/>
          <p:cNvSpPr/>
          <p:nvPr/>
        </p:nvSpPr>
        <p:spPr>
          <a:xfrm>
            <a:off x="4228200" y="3114360"/>
            <a:ext cx="1479600" cy="1897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7"/>
          <p:cNvSpPr/>
          <p:nvPr/>
        </p:nvSpPr>
        <p:spPr>
          <a:xfrm>
            <a:off x="4932360" y="377496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547640" y="103824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c = 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1549440" y="175896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S; ½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S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l; l(A; b = 5,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5796000" y="14414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546200" y="1413000"/>
            <a:ext cx="4321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S; S je střed 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1870200" y="50418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>
            <a:off x="246060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>
            <a:off x="6407280" y="494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9"/>
          <p:cNvSpPr/>
          <p:nvPr/>
        </p:nvSpPr>
        <p:spPr>
          <a:xfrm>
            <a:off x="6838920" y="489744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0"/>
          <p:cNvSpPr/>
          <p:nvPr/>
        </p:nvSpPr>
        <p:spPr>
          <a:xfrm>
            <a:off x="446256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 flipV="1">
            <a:off x="2465280" y="5027760"/>
            <a:ext cx="3940200" cy="1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2"/>
          <p:cNvSpPr/>
          <p:nvPr/>
        </p:nvSpPr>
        <p:spPr>
          <a:xfrm>
            <a:off x="4778280" y="491328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3"/>
          <p:cNvSpPr/>
          <p:nvPr/>
        </p:nvSpPr>
        <p:spPr>
          <a:xfrm>
            <a:off x="3497400" y="374652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rc 104"/>
          <p:cNvSpPr/>
          <p:nvPr/>
        </p:nvSpPr>
        <p:spPr>
          <a:xfrm>
            <a:off x="2476440" y="3773520"/>
            <a:ext cx="2260800" cy="2535120"/>
          </a:xfrm>
          <a:custGeom>
            <a:avLst/>
            <a:gdLst>
              <a:gd name="textAreaLeft" fmla="*/ 0 w 2260800"/>
              <a:gd name="textAreaRight" fmla="*/ 2260800 w 2260800"/>
              <a:gd name="textAreaTop" fmla="*/ 0 h 2535120"/>
              <a:gd name="textAreaBottom" fmla="*/ 2535480 h 2535120"/>
            </a:gdLst>
            <a:ahLst/>
            <a:rect l="textAreaLeft" t="textAreaTop" r="textAreaRight" b="textAreaBottom"/>
            <a:pathLst>
              <a:path fill="none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</a:path>
              <a:path stroke="0" w="21600" h="24226">
                <a:moveTo>
                  <a:pt x="17878" y="0"/>
                </a:moveTo>
                <a:cubicBezTo>
                  <a:pt x="20303" y="3577"/>
                  <a:pt x="21600" y="7799"/>
                  <a:pt x="21600" y="12121"/>
                </a:cubicBezTo>
                <a:cubicBezTo>
                  <a:pt x="21600" y="16436"/>
                  <a:pt x="20307" y="20652"/>
                  <a:pt x="17889" y="24226"/>
                </a:cubicBezTo>
                <a:lnTo>
                  <a:pt x="0" y="1212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105"/>
          <p:cNvSpPr/>
          <p:nvPr/>
        </p:nvSpPr>
        <p:spPr>
          <a:xfrm rot="16200000">
            <a:off x="3963960" y="3859200"/>
            <a:ext cx="2612880" cy="2260440"/>
          </a:xfrm>
          <a:custGeom>
            <a:avLst/>
            <a:gdLst>
              <a:gd name="textAreaLeft" fmla="*/ 0 w 2612880"/>
              <a:gd name="textAreaRight" fmla="*/ 2613240 w 2612880"/>
              <a:gd name="textAreaTop" fmla="*/ 0 h 2260440"/>
              <a:gd name="textAreaBottom" fmla="*/ 2260800 h 2260440"/>
            </a:gdLst>
            <a:ahLst/>
            <a:rect l="textAreaLeft" t="textAreaTop" r="textAreaRight" b="textAreaBottom"/>
            <a:pathLst>
              <a:path fill="none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</a:path>
              <a:path stroke="0" w="24956" h="21600">
                <a:moveTo>
                  <a:pt x="-1" y="3707"/>
                </a:moveTo>
                <a:cubicBezTo>
                  <a:pt x="3572" y="1291"/>
                  <a:pt x="7787" y="-1"/>
                  <a:pt x="12101" y="0"/>
                </a:cubicBezTo>
                <a:cubicBezTo>
                  <a:pt x="16729" y="0"/>
                  <a:pt x="21236" y="1486"/>
                  <a:pt x="24956" y="4241"/>
                </a:cubicBezTo>
                <a:lnTo>
                  <a:pt x="1210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437000" y="2435400"/>
            <a:ext cx="0" cy="38145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7"/>
          <p:cNvSpPr/>
          <p:nvPr/>
        </p:nvSpPr>
        <p:spPr>
          <a:xfrm>
            <a:off x="4390920" y="4968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08"/>
          <p:cNvSpPr/>
          <p:nvPr/>
        </p:nvSpPr>
        <p:spPr>
          <a:xfrm>
            <a:off x="2457360" y="3054240"/>
            <a:ext cx="3954600" cy="3235320"/>
          </a:xfrm>
          <a:custGeom>
            <a:avLst/>
            <a:gdLst>
              <a:gd name="textAreaLeft" fmla="*/ 0 w 3954600"/>
              <a:gd name="textAreaRight" fmla="*/ 3954960 w 3954600"/>
              <a:gd name="textAreaTop" fmla="*/ 0 h 3235320"/>
              <a:gd name="textAreaBottom" fmla="*/ 3235680 h 3235320"/>
            </a:gdLst>
            <a:ahLst/>
            <a:rect l="textAreaLeft" t="textAreaTop" r="textAreaRight" b="textAreaBottom"/>
            <a:pathLst>
              <a:path fill="none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</a:path>
              <a:path stroke="0" w="43200" h="35329">
                <a:moveTo>
                  <a:pt x="3638" y="-31938"/>
                </a:moveTo>
                <a:cubicBezTo>
                  <a:pt x="1266" y="30046"/>
                  <a:pt x="0" y="25871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608"/>
                  <a:pt x="-24077" y="31461"/>
                  <a:pt x="-27261" y="-30208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9"/>
          <p:cNvSpPr/>
          <p:nvPr/>
        </p:nvSpPr>
        <p:spPr>
          <a:xfrm>
            <a:off x="2951280" y="3213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110"/>
          <p:cNvSpPr/>
          <p:nvPr/>
        </p:nvSpPr>
        <p:spPr>
          <a:xfrm>
            <a:off x="2468520" y="2394000"/>
            <a:ext cx="2938680" cy="252720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fill="none" w="20899" h="17980">
                <a:moveTo>
                  <a:pt x="11969" y="0"/>
                </a:moveTo>
                <a:cubicBezTo>
                  <a:pt x="16382" y="2937"/>
                  <a:pt x="19560" y="7394"/>
                  <a:pt x="20899" y="12522"/>
                </a:cubicBezTo>
              </a:path>
              <a:path stroke="0" w="20899" h="17980">
                <a:moveTo>
                  <a:pt x="11969" y="0"/>
                </a:moveTo>
                <a:cubicBezTo>
                  <a:pt x="16382" y="2937"/>
                  <a:pt x="19560" y="7394"/>
                  <a:pt x="20899" y="12522"/>
                </a:cubicBezTo>
                <a:lnTo>
                  <a:pt x="0" y="179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1"/>
          <p:cNvSpPr/>
          <p:nvPr/>
        </p:nvSpPr>
        <p:spPr>
          <a:xfrm>
            <a:off x="3886200" y="227664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3"/>
          <p:cNvSpPr/>
          <p:nvPr/>
        </p:nvSpPr>
        <p:spPr>
          <a:xfrm flipV="1">
            <a:off x="2464200" y="3117240"/>
            <a:ext cx="2434680" cy="1915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4"/>
          <p:cNvSpPr/>
          <p:nvPr/>
        </p:nvSpPr>
        <p:spPr>
          <a:xfrm>
            <a:off x="4910760" y="3114360"/>
            <a:ext cx="1479960" cy="1897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5"/>
          <p:cNvSpPr/>
          <p:nvPr/>
        </p:nvSpPr>
        <p:spPr>
          <a:xfrm>
            <a:off x="5614920" y="3774960"/>
            <a:ext cx="289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6"/>
          <p:cNvSpPr/>
          <p:nvPr/>
        </p:nvSpPr>
        <p:spPr>
          <a:xfrm>
            <a:off x="2236680" y="49849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7"/>
          <p:cNvSpPr/>
          <p:nvPr/>
        </p:nvSpPr>
        <p:spPr>
          <a:xfrm>
            <a:off x="6362640" y="49849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8"/>
          <p:cNvSpPr/>
          <p:nvPr/>
        </p:nvSpPr>
        <p:spPr>
          <a:xfrm>
            <a:off x="4822920" y="27669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0"/>
          <p:cNvSpPr/>
          <p:nvPr/>
        </p:nvSpPr>
        <p:spPr>
          <a:xfrm>
            <a:off x="5796000" y="18162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05T12:50:46Z</dcterms:modified>
  <cp:revision>157</cp:revision>
  <dc:subject/>
  <dc:title>Konstrukce trojúhelníku pomocí Thaletovy kružnice 1</dc:title>
</cp:coreProperties>
</file>