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255-6C87-428F-B387-2F1522C4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167-3F38-46A6-92FF-28C46E11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DE8-4C71-4726-B4D2-803AEFF6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12C-6723-400E-BFBC-5040A606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CE66-9024-470D-BBA5-A8EF6BA6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BD18-8237-4B1B-B97A-0B2EC8BE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D4D5-B179-4644-BA3B-0A58EED5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C60A-B90C-45DD-B9D6-6B14A4E8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30FD-6A93-494C-BFCF-577E7EA4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32BA-C1E6-41A4-BD90-3C16F937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6E11-400C-4E19-8883-FAE2A81F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76C-FB98-48C1-BA68-E0BBAE9E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C4D4-336C-486B-8B8B-A12C7028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94CE-0CBB-4ACD-9551-098643DA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0B7E-E5F5-4367-875A-580967A7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9097-AC54-4A77-9E89-95B90932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63E0-EAE4-4F97-9F92-4E02052D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B1B-BDDC-446B-AEA8-353183B6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A9D-0DEC-4ECF-8E5E-17B9B770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029-52A5-4102-A0B7-50000344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BC0-B900-4F59-A75E-F3BBDE50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72B-4EE9-4A5C-A5FE-CFCB681F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CD8-5B1C-4304-9629-D6FD2D65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F3F-F840-4FC9-B01F-F820119D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828-C19D-4DF3-A1E6-7E5FA6E5B1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8E77-CEDB-47FC-BAEC-C69F3A02B11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trojúhel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Známe-li délku strany, </a:t>
            </a:r>
            <a:br>
              <a:rPr sz="3200"/>
            </a:b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úhel k ní přilehlý </a:t>
            </a:r>
            <a:br>
              <a:rPr sz="3200"/>
            </a:b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a úhel protilehl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84c6a"/>
                </a:solidFill>
                <a:latin typeface="Arial"/>
              </a:rPr>
              <a:t>Autor obrázků </a:t>
            </a:r>
            <a:r>
              <a:rPr b="0" lang="en-US" sz="1400" spc="-1" strike="noStrike">
                <a:solidFill>
                  <a:srgbClr val="284c6a"/>
                </a:solidFill>
                <a:latin typeface="Arial"/>
                <a:ea typeface="Arial"/>
              </a:rPr>
              <a:t>©</a:t>
            </a:r>
            <a:r>
              <a:rPr b="0" lang="cs-CZ" sz="1400" spc="-1" strike="noStrike">
                <a:solidFill>
                  <a:srgbClr val="284c6a"/>
                </a:solidFill>
                <a:latin typeface="Arial"/>
                <a:ea typeface="Arial"/>
              </a:rPr>
              <a:t> Mgr. Radomír Machá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00000" y="1282680"/>
            <a:ext cx="251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c; c =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7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901800" y="2003400"/>
            <a:ext cx="2806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V; V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7"/>
          <p:cNvSpPr/>
          <p:nvPr/>
        </p:nvSpPr>
        <p:spPr>
          <a:xfrm>
            <a:off x="3780000" y="1268280"/>
            <a:ext cx="33591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4.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;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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WVA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60°,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8"/>
          <p:cNvSpPr/>
          <p:nvPr/>
        </p:nvSpPr>
        <p:spPr>
          <a:xfrm>
            <a:off x="3790800" y="1643040"/>
            <a:ext cx="251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p; p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W, B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900000" y="1641600"/>
            <a:ext cx="3024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. 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;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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Y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35°,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5"/>
          <p:cNvSpPr/>
          <p:nvPr/>
        </p:nvSpPr>
        <p:spPr>
          <a:xfrm>
            <a:off x="900000" y="83664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íklad: Sestrojte trojúhelník ABC, ve kterém c = 7 cm,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= 35°,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= 60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39"/>
          <p:cNvSpPr/>
          <p:nvPr/>
        </p:nvSpPr>
        <p:spPr>
          <a:xfrm>
            <a:off x="1187280" y="55324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0"/>
          <p:cNvSpPr/>
          <p:nvPr/>
        </p:nvSpPr>
        <p:spPr>
          <a:xfrm>
            <a:off x="2575080" y="54309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2"/>
          <p:cNvSpPr/>
          <p:nvPr/>
        </p:nvSpPr>
        <p:spPr>
          <a:xfrm>
            <a:off x="7394400" y="545940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4"/>
          <p:cNvSpPr/>
          <p:nvPr/>
        </p:nvSpPr>
        <p:spPr>
          <a:xfrm>
            <a:off x="6386400" y="230508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5"/>
          <p:cNvSpPr/>
          <p:nvPr/>
        </p:nvSpPr>
        <p:spPr>
          <a:xfrm flipV="1">
            <a:off x="2570040" y="2521080"/>
            <a:ext cx="4248360" cy="30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7"/>
          <p:cNvSpPr/>
          <p:nvPr/>
        </p:nvSpPr>
        <p:spPr>
          <a:xfrm>
            <a:off x="6443640" y="2622600"/>
            <a:ext cx="1443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49"/>
          <p:cNvSpPr/>
          <p:nvPr/>
        </p:nvSpPr>
        <p:spPr>
          <a:xfrm>
            <a:off x="4713120" y="4006800"/>
            <a:ext cx="178200" cy="201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52"/>
          <p:cNvSpPr/>
          <p:nvPr/>
        </p:nvSpPr>
        <p:spPr>
          <a:xfrm>
            <a:off x="4643280" y="3905280"/>
            <a:ext cx="1447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3"/>
          <p:cNvSpPr/>
          <p:nvPr/>
        </p:nvSpPr>
        <p:spPr>
          <a:xfrm>
            <a:off x="4600440" y="3602160"/>
            <a:ext cx="3398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4"/>
          <p:cNvSpPr/>
          <p:nvPr/>
        </p:nvSpPr>
        <p:spPr>
          <a:xfrm>
            <a:off x="5724360" y="2421000"/>
            <a:ext cx="331920" cy="360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8"/>
          <p:cNvSpPr/>
          <p:nvPr/>
        </p:nvSpPr>
        <p:spPr>
          <a:xfrm>
            <a:off x="5730840" y="2867040"/>
            <a:ext cx="339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0"/>
          <p:cNvSpPr/>
          <p:nvPr/>
        </p:nvSpPr>
        <p:spPr>
          <a:xfrm>
            <a:off x="2316240" y="548784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1"/>
          <p:cNvSpPr/>
          <p:nvPr/>
        </p:nvSpPr>
        <p:spPr>
          <a:xfrm>
            <a:off x="5997600" y="5473800"/>
            <a:ext cx="325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695920" y="2278080"/>
            <a:ext cx="339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772520" y="5866920"/>
            <a:ext cx="230760" cy="1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4"/>
          <p:cNvSpPr/>
          <p:nvPr/>
        </p:nvSpPr>
        <p:spPr>
          <a:xfrm>
            <a:off x="4873680" y="5819760"/>
            <a:ext cx="339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5"/>
          <p:cNvSpPr/>
          <p:nvPr/>
        </p:nvSpPr>
        <p:spPr>
          <a:xfrm>
            <a:off x="3794040" y="20034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p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6"/>
          <p:cNvSpPr/>
          <p:nvPr/>
        </p:nvSpPr>
        <p:spPr>
          <a:xfrm>
            <a:off x="6834240" y="1282680"/>
            <a:ext cx="11937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7.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67"/>
          <p:cNvSpPr/>
          <p:nvPr/>
        </p:nvSpPr>
        <p:spPr>
          <a:xfrm>
            <a:off x="6012000" y="5416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8"/>
          <p:cNvSpPr/>
          <p:nvPr/>
        </p:nvSpPr>
        <p:spPr>
          <a:xfrm>
            <a:off x="4284720" y="544500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9"/>
          <p:cNvSpPr/>
          <p:nvPr/>
        </p:nvSpPr>
        <p:spPr>
          <a:xfrm>
            <a:off x="2570040" y="5530680"/>
            <a:ext cx="345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70"/>
          <p:cNvSpPr/>
          <p:nvPr/>
        </p:nvSpPr>
        <p:spPr>
          <a:xfrm flipH="1" flipV="1">
            <a:off x="5796000" y="3270240"/>
            <a:ext cx="218880" cy="2262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2569680" y="3241800"/>
            <a:ext cx="3240360" cy="23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trojúhel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042920" y="232092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 a trojúhelník vytáhneme silněji. A takto vypadá celá konstru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8" descr=""/>
          <p:cNvPicPr/>
          <p:nvPr/>
        </p:nvPicPr>
        <p:blipFill>
          <a:blip r:embed="rId2"/>
          <a:stretch/>
        </p:blipFill>
        <p:spPr>
          <a:xfrm>
            <a:off x="1979640" y="2365200"/>
            <a:ext cx="5054400" cy="3900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9" descr=""/>
          <p:cNvPicPr/>
          <p:nvPr/>
        </p:nvPicPr>
        <p:blipFill>
          <a:blip r:embed="rId3"/>
          <a:stretch/>
        </p:blipFill>
        <p:spPr>
          <a:xfrm>
            <a:off x="1979640" y="2365200"/>
            <a:ext cx="5054400" cy="3900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0" descr=""/>
          <p:cNvPicPr/>
          <p:nvPr/>
        </p:nvPicPr>
        <p:blipFill>
          <a:blip r:embed="rId4"/>
          <a:stretch/>
        </p:blipFill>
        <p:spPr>
          <a:xfrm>
            <a:off x="1979640" y="2365200"/>
            <a:ext cx="5054400" cy="3900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1" descr=""/>
          <p:cNvPicPr/>
          <p:nvPr/>
        </p:nvPicPr>
        <p:blipFill>
          <a:blip r:embed="rId5"/>
          <a:stretch/>
        </p:blipFill>
        <p:spPr>
          <a:xfrm>
            <a:off x="1979640" y="2365200"/>
            <a:ext cx="5054400" cy="3900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2" descr=""/>
          <p:cNvPicPr/>
          <p:nvPr/>
        </p:nvPicPr>
        <p:blipFill>
          <a:blip r:embed="rId6"/>
          <a:stretch/>
        </p:blipFill>
        <p:spPr>
          <a:xfrm>
            <a:off x="1979640" y="2365200"/>
            <a:ext cx="5054400" cy="390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3" descr=""/>
          <p:cNvPicPr/>
          <p:nvPr/>
        </p:nvPicPr>
        <p:blipFill>
          <a:blip r:embed="rId7"/>
          <a:stretch/>
        </p:blipFill>
        <p:spPr>
          <a:xfrm>
            <a:off x="1979640" y="2365200"/>
            <a:ext cx="5054400" cy="3900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4" descr=""/>
          <p:cNvPicPr/>
          <p:nvPr/>
        </p:nvPicPr>
        <p:blipFill>
          <a:blip r:embed="rId8"/>
          <a:stretch/>
        </p:blipFill>
        <p:spPr>
          <a:xfrm>
            <a:off x="1979640" y="2365200"/>
            <a:ext cx="5054400" cy="3900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5" descr=""/>
          <p:cNvPicPr/>
          <p:nvPr/>
        </p:nvPicPr>
        <p:blipFill>
          <a:blip r:embed="rId9"/>
          <a:stretch/>
        </p:blipFill>
        <p:spPr>
          <a:xfrm>
            <a:off x="1979640" y="2365200"/>
            <a:ext cx="5054400" cy="39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1332000" y="1413000"/>
            <a:ext cx="475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a = 4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120°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3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1347840" y="1700280"/>
            <a:ext cx="4808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) c = 5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50°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1347840" y="1959120"/>
            <a:ext cx="3889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) b = 3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95°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2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3" descr=""/>
          <p:cNvPicPr/>
          <p:nvPr/>
        </p:nvPicPr>
        <p:blipFill>
          <a:blip r:embed="rId2"/>
          <a:stretch/>
        </p:blipFill>
        <p:spPr>
          <a:xfrm>
            <a:off x="2486160" y="3471840"/>
            <a:ext cx="3914640" cy="27050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apadlo někoho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 vás během konstrukcí jiné možné řešení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685960" y="5932440"/>
            <a:ext cx="3326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4268880" y="5819760"/>
            <a:ext cx="28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2873520" y="5572080"/>
            <a:ext cx="1023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3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rc 10"/>
          <p:cNvSpPr/>
          <p:nvPr/>
        </p:nvSpPr>
        <p:spPr>
          <a:xfrm>
            <a:off x="2685960" y="5359320"/>
            <a:ext cx="1006560" cy="58752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fill="none" w="21600" h="12607">
                <a:moveTo>
                  <a:pt x="17539" y="-1"/>
                </a:moveTo>
                <a:cubicBezTo>
                  <a:pt x="20179" y="3673"/>
                  <a:pt x="21600" y="8083"/>
                  <a:pt x="21600" y="12607"/>
                </a:cubicBezTo>
              </a:path>
              <a:path stroke="0" w="21600" h="12607">
                <a:moveTo>
                  <a:pt x="17539" y="-1"/>
                </a:moveTo>
                <a:cubicBezTo>
                  <a:pt x="20179" y="3673"/>
                  <a:pt x="21600" y="8083"/>
                  <a:pt x="21600" y="12607"/>
                </a:cubicBezTo>
                <a:lnTo>
                  <a:pt x="0" y="12607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rc 11"/>
          <p:cNvSpPr/>
          <p:nvPr/>
        </p:nvSpPr>
        <p:spPr>
          <a:xfrm rot="7530000">
            <a:off x="5168520" y="3732120"/>
            <a:ext cx="1006560" cy="97128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71280"/>
              <a:gd name="textAreaBottom" fmla="*/ 971640 h 971280"/>
            </a:gdLst>
            <a:ahLst/>
            <a:rect l="textAreaLeft" t="textAreaTop" r="textAreaRight" b="textAreaBottom"/>
            <a:pathLst>
              <a:path fill="none" w="21600" h="20885">
                <a:moveTo>
                  <a:pt x="16491" y="-1"/>
                </a:moveTo>
                <a:cubicBezTo>
                  <a:pt x="19789" y="3899"/>
                  <a:pt x="21600" y="8842"/>
                  <a:pt x="21600" y="13950"/>
                </a:cubicBezTo>
                <a:cubicBezTo>
                  <a:pt x="21600" y="16308"/>
                  <a:pt x="21213" y="18651"/>
                  <a:pt x="20456" y="20885"/>
                </a:cubicBezTo>
              </a:path>
              <a:path stroke="0" w="21600" h="20885">
                <a:moveTo>
                  <a:pt x="16491" y="-1"/>
                </a:moveTo>
                <a:cubicBezTo>
                  <a:pt x="19789" y="3899"/>
                  <a:pt x="21600" y="8842"/>
                  <a:pt x="21600" y="13950"/>
                </a:cubicBezTo>
                <a:cubicBezTo>
                  <a:pt x="21600" y="16308"/>
                  <a:pt x="21213" y="18651"/>
                  <a:pt x="20456" y="20885"/>
                </a:cubicBezTo>
                <a:lnTo>
                  <a:pt x="0" y="1395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5103720" y="4132440"/>
            <a:ext cx="1024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2486160" y="3471840"/>
            <a:ext cx="3914640" cy="27050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4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 takhle využít vlastnosti součtu všech vnitřních úhlů trojúhelníku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2685960" y="5932440"/>
            <a:ext cx="3326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4268880" y="5819760"/>
            <a:ext cx="28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2873520" y="5572080"/>
            <a:ext cx="1023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3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10"/>
          <p:cNvSpPr/>
          <p:nvPr/>
        </p:nvSpPr>
        <p:spPr>
          <a:xfrm>
            <a:off x="2685960" y="5359320"/>
            <a:ext cx="1006560" cy="58752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fill="none" w="21600" h="12607">
                <a:moveTo>
                  <a:pt x="17539" y="-1"/>
                </a:moveTo>
                <a:cubicBezTo>
                  <a:pt x="20179" y="3673"/>
                  <a:pt x="21600" y="8083"/>
                  <a:pt x="21600" y="12607"/>
                </a:cubicBezTo>
              </a:path>
              <a:path stroke="0" w="21600" h="12607">
                <a:moveTo>
                  <a:pt x="17539" y="-1"/>
                </a:moveTo>
                <a:cubicBezTo>
                  <a:pt x="20179" y="3673"/>
                  <a:pt x="21600" y="8083"/>
                  <a:pt x="21600" y="12607"/>
                </a:cubicBezTo>
                <a:lnTo>
                  <a:pt x="0" y="12607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11"/>
          <p:cNvSpPr/>
          <p:nvPr/>
        </p:nvSpPr>
        <p:spPr>
          <a:xfrm rot="7530000">
            <a:off x="5168520" y="3732120"/>
            <a:ext cx="1006560" cy="97128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71280"/>
              <a:gd name="textAreaBottom" fmla="*/ 971640 h 971280"/>
            </a:gdLst>
            <a:ahLst/>
            <a:rect l="textAreaLeft" t="textAreaTop" r="textAreaRight" b="textAreaBottom"/>
            <a:pathLst>
              <a:path fill="none" w="21600" h="20885">
                <a:moveTo>
                  <a:pt x="16491" y="-1"/>
                </a:moveTo>
                <a:cubicBezTo>
                  <a:pt x="19789" y="3899"/>
                  <a:pt x="21600" y="8842"/>
                  <a:pt x="21600" y="13950"/>
                </a:cubicBezTo>
                <a:cubicBezTo>
                  <a:pt x="21600" y="16308"/>
                  <a:pt x="21213" y="18651"/>
                  <a:pt x="20456" y="20885"/>
                </a:cubicBezTo>
              </a:path>
              <a:path stroke="0" w="21600" h="20885">
                <a:moveTo>
                  <a:pt x="16491" y="-1"/>
                </a:moveTo>
                <a:cubicBezTo>
                  <a:pt x="19789" y="3899"/>
                  <a:pt x="21600" y="8842"/>
                  <a:pt x="21600" y="13950"/>
                </a:cubicBezTo>
                <a:cubicBezTo>
                  <a:pt x="21600" y="16308"/>
                  <a:pt x="21213" y="18651"/>
                  <a:pt x="20456" y="20885"/>
                </a:cubicBezTo>
                <a:lnTo>
                  <a:pt x="0" y="1395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5103720" y="4132440"/>
            <a:ext cx="1024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2486160" y="3471840"/>
            <a:ext cx="3914640" cy="27050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Kolik stupňů nám zbývá na třetí úhel, je-li součet všech tří 180°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2685960" y="5932440"/>
            <a:ext cx="3326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4268880" y="5819760"/>
            <a:ext cx="28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2873520" y="5572080"/>
            <a:ext cx="1023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3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rc 10"/>
          <p:cNvSpPr/>
          <p:nvPr/>
        </p:nvSpPr>
        <p:spPr>
          <a:xfrm>
            <a:off x="2685960" y="5359320"/>
            <a:ext cx="1006560" cy="58752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fill="none" w="21600" h="12607">
                <a:moveTo>
                  <a:pt x="17539" y="-1"/>
                </a:moveTo>
                <a:cubicBezTo>
                  <a:pt x="20179" y="3673"/>
                  <a:pt x="21600" y="8083"/>
                  <a:pt x="21600" y="12607"/>
                </a:cubicBezTo>
              </a:path>
              <a:path stroke="0" w="21600" h="12607">
                <a:moveTo>
                  <a:pt x="17539" y="-1"/>
                </a:moveTo>
                <a:cubicBezTo>
                  <a:pt x="20179" y="3673"/>
                  <a:pt x="21600" y="8083"/>
                  <a:pt x="21600" y="12607"/>
                </a:cubicBezTo>
                <a:lnTo>
                  <a:pt x="0" y="12607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rc 11"/>
          <p:cNvSpPr/>
          <p:nvPr/>
        </p:nvSpPr>
        <p:spPr>
          <a:xfrm rot="7530000">
            <a:off x="5168520" y="3732120"/>
            <a:ext cx="1006560" cy="97128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71280"/>
              <a:gd name="textAreaBottom" fmla="*/ 971640 h 971280"/>
            </a:gdLst>
            <a:ahLst/>
            <a:rect l="textAreaLeft" t="textAreaTop" r="textAreaRight" b="textAreaBottom"/>
            <a:pathLst>
              <a:path fill="none" w="21600" h="20885">
                <a:moveTo>
                  <a:pt x="16491" y="-1"/>
                </a:moveTo>
                <a:cubicBezTo>
                  <a:pt x="19789" y="3899"/>
                  <a:pt x="21600" y="8842"/>
                  <a:pt x="21600" y="13950"/>
                </a:cubicBezTo>
                <a:cubicBezTo>
                  <a:pt x="21600" y="16308"/>
                  <a:pt x="21213" y="18651"/>
                  <a:pt x="20456" y="20885"/>
                </a:cubicBezTo>
              </a:path>
              <a:path stroke="0" w="21600" h="20885">
                <a:moveTo>
                  <a:pt x="16491" y="-1"/>
                </a:moveTo>
                <a:cubicBezTo>
                  <a:pt x="19789" y="3899"/>
                  <a:pt x="21600" y="8842"/>
                  <a:pt x="21600" y="13950"/>
                </a:cubicBezTo>
                <a:cubicBezTo>
                  <a:pt x="21600" y="16308"/>
                  <a:pt x="21213" y="18651"/>
                  <a:pt x="20456" y="20885"/>
                </a:cubicBezTo>
                <a:lnTo>
                  <a:pt x="0" y="1395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5103720" y="4132440"/>
            <a:ext cx="1024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13"/>
          <p:cNvSpPr/>
          <p:nvPr/>
        </p:nvSpPr>
        <p:spPr>
          <a:xfrm flipH="1">
            <a:off x="5160960" y="5060880"/>
            <a:ext cx="866880" cy="862200"/>
          </a:xfrm>
          <a:custGeom>
            <a:avLst/>
            <a:gdLst>
              <a:gd name="textAreaLeft" fmla="*/ 360 w 866880"/>
              <a:gd name="textAreaRight" fmla="*/ 867600 w 86688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fill="none" w="21600" h="21491">
                <a:moveTo>
                  <a:pt x="2164" y="-1"/>
                </a:moveTo>
                <a:cubicBezTo>
                  <a:pt x="13199" y="1110"/>
                  <a:pt x="21600" y="10399"/>
                  <a:pt x="21600" y="21491"/>
                </a:cubicBezTo>
              </a:path>
              <a:path stroke="0" w="21600" h="21491">
                <a:moveTo>
                  <a:pt x="2164" y="-1"/>
                </a:moveTo>
                <a:cubicBezTo>
                  <a:pt x="13199" y="1110"/>
                  <a:pt x="21600" y="10399"/>
                  <a:pt x="21600" y="21491"/>
                </a:cubicBezTo>
                <a:lnTo>
                  <a:pt x="0" y="21491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5191200" y="5530680"/>
            <a:ext cx="1023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=8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2486160" y="3471840"/>
            <a:ext cx="3914640" cy="270504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4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říklad tak můžeme převést na konstrukci podle vět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s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2685960" y="5932440"/>
            <a:ext cx="3326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4268880" y="5819760"/>
            <a:ext cx="28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2873520" y="5572080"/>
            <a:ext cx="1023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3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rc 10"/>
          <p:cNvSpPr/>
          <p:nvPr/>
        </p:nvSpPr>
        <p:spPr>
          <a:xfrm>
            <a:off x="2685960" y="5359320"/>
            <a:ext cx="1006560" cy="58752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fill="none" w="21600" h="12607">
                <a:moveTo>
                  <a:pt x="17539" y="-1"/>
                </a:moveTo>
                <a:cubicBezTo>
                  <a:pt x="20179" y="3673"/>
                  <a:pt x="21600" y="8083"/>
                  <a:pt x="21600" y="12607"/>
                </a:cubicBezTo>
              </a:path>
              <a:path stroke="0" w="21600" h="12607">
                <a:moveTo>
                  <a:pt x="17539" y="-1"/>
                </a:moveTo>
                <a:cubicBezTo>
                  <a:pt x="20179" y="3673"/>
                  <a:pt x="21600" y="8083"/>
                  <a:pt x="21600" y="12607"/>
                </a:cubicBezTo>
                <a:lnTo>
                  <a:pt x="0" y="12607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rc 11"/>
          <p:cNvSpPr/>
          <p:nvPr/>
        </p:nvSpPr>
        <p:spPr>
          <a:xfrm rot="7530000">
            <a:off x="5168520" y="3732120"/>
            <a:ext cx="1006560" cy="97128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71280"/>
              <a:gd name="textAreaBottom" fmla="*/ 971640 h 971280"/>
            </a:gdLst>
            <a:ahLst/>
            <a:rect l="textAreaLeft" t="textAreaTop" r="textAreaRight" b="textAreaBottom"/>
            <a:pathLst>
              <a:path fill="none" w="21600" h="20885">
                <a:moveTo>
                  <a:pt x="16491" y="-1"/>
                </a:moveTo>
                <a:cubicBezTo>
                  <a:pt x="19789" y="3899"/>
                  <a:pt x="21600" y="8842"/>
                  <a:pt x="21600" y="13950"/>
                </a:cubicBezTo>
                <a:cubicBezTo>
                  <a:pt x="21600" y="16308"/>
                  <a:pt x="21213" y="18651"/>
                  <a:pt x="20456" y="20885"/>
                </a:cubicBezTo>
              </a:path>
              <a:path stroke="0" w="21600" h="20885">
                <a:moveTo>
                  <a:pt x="16491" y="-1"/>
                </a:moveTo>
                <a:cubicBezTo>
                  <a:pt x="19789" y="3899"/>
                  <a:pt x="21600" y="8842"/>
                  <a:pt x="21600" y="13950"/>
                </a:cubicBezTo>
                <a:cubicBezTo>
                  <a:pt x="21600" y="16308"/>
                  <a:pt x="21213" y="18651"/>
                  <a:pt x="20456" y="20885"/>
                </a:cubicBezTo>
                <a:lnTo>
                  <a:pt x="0" y="1395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5103720" y="4132440"/>
            <a:ext cx="1024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rc 13"/>
          <p:cNvSpPr/>
          <p:nvPr/>
        </p:nvSpPr>
        <p:spPr>
          <a:xfrm flipH="1">
            <a:off x="5160960" y="5060880"/>
            <a:ext cx="866880" cy="862200"/>
          </a:xfrm>
          <a:custGeom>
            <a:avLst/>
            <a:gdLst>
              <a:gd name="textAreaLeft" fmla="*/ 360 w 866880"/>
              <a:gd name="textAreaRight" fmla="*/ 867600 w 86688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fill="none" w="21600" h="21491">
                <a:moveTo>
                  <a:pt x="2164" y="-1"/>
                </a:moveTo>
                <a:cubicBezTo>
                  <a:pt x="13199" y="1110"/>
                  <a:pt x="21600" y="10399"/>
                  <a:pt x="21600" y="21491"/>
                </a:cubicBezTo>
              </a:path>
              <a:path stroke="0" w="21600" h="21491">
                <a:moveTo>
                  <a:pt x="2164" y="-1"/>
                </a:moveTo>
                <a:cubicBezTo>
                  <a:pt x="13199" y="1110"/>
                  <a:pt x="21600" y="10399"/>
                  <a:pt x="21600" y="21491"/>
                </a:cubicBezTo>
                <a:lnTo>
                  <a:pt x="0" y="21491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5191200" y="5530680"/>
            <a:ext cx="1023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=8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1"/>
          <p:cNvSpPr/>
          <p:nvPr/>
        </p:nvSpPr>
        <p:spPr>
          <a:xfrm>
            <a:off x="1042920" y="1989000"/>
            <a:ext cx="698508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eji vám mnoho přesnosti </a:t>
            </a:r>
            <a:br>
              <a:rPr sz="3600"/>
            </a:b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330" name="Picture 9" descr=""/>
          <p:cNvPicPr/>
          <p:nvPr/>
        </p:nvPicPr>
        <p:blipFill>
          <a:blip r:embed="rId2"/>
          <a:stretch/>
        </p:blipFill>
        <p:spPr>
          <a:xfrm rot="662400">
            <a:off x="4284360" y="2276280"/>
            <a:ext cx="3367080" cy="3717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"/>
          <p:cNvPicPr/>
          <p:nvPr/>
        </p:nvPicPr>
        <p:blipFill>
          <a:blip r:embed="rId3"/>
          <a:stretch/>
        </p:blipFill>
        <p:spPr>
          <a:xfrm>
            <a:off x="1389240" y="4498920"/>
            <a:ext cx="53434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1116000" y="1916280"/>
            <a:ext cx="69134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3311280" cy="1760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 rot="3600000">
            <a:off x="3839040" y="2966040"/>
            <a:ext cx="3311640" cy="1760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4"/>
          <a:stretch/>
        </p:blipFill>
        <p:spPr>
          <a:xfrm rot="9000000">
            <a:off x="2785320" y="2781360"/>
            <a:ext cx="3311640" cy="17604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Konstrukce rovnoběžky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cházející daným bodem mimo přímku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927000" y="8938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I tentokrát lze nejsnadněji rovnoběžku narýsovat pomocí trojúhelníku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 ryskou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 flipV="1">
            <a:off x="1791000" y="2731320"/>
            <a:ext cx="5490360" cy="31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 flipH="1" flipV="1">
            <a:off x="3564000" y="2060640"/>
            <a:ext cx="251928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6948360" y="28465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5724360" y="2060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928800" y="103824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            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to tak, že se ryska přiloží na přímku, a podle hrany trojúhelníku narýsujeme pomocnou kolmici a k této pomocné kolmici pak další kolmici procházející již daným bodem 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6227640" y="5084640"/>
            <a:ext cx="155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q 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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2873520" y="36799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6227640" y="5734080"/>
            <a:ext cx="155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40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1" lang="en-US" sz="4000" spc="-1" strike="noStrike">
                <a:solidFill>
                  <a:srgbClr val="00cc00"/>
                </a:solidFill>
                <a:latin typeface="Trebuchet MS"/>
              </a:rPr>
              <a:t>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6"/>
          <p:cNvGrpSpPr/>
          <p:nvPr/>
        </p:nvGrpSpPr>
        <p:grpSpPr>
          <a:xfrm>
            <a:off x="2916360" y="3429000"/>
            <a:ext cx="287280" cy="287280"/>
            <a:chOff x="2916360" y="3429000"/>
            <a:chExt cx="287280" cy="287280"/>
          </a:xfrm>
        </p:grpSpPr>
        <p:sp>
          <p:nvSpPr>
            <p:cNvPr id="347" name="Line 17"/>
            <p:cNvSpPr/>
            <p:nvPr/>
          </p:nvSpPr>
          <p:spPr>
            <a:xfrm>
              <a:off x="3060720" y="3429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8"/>
            <p:cNvSpPr/>
            <p:nvPr/>
          </p:nvSpPr>
          <p:spPr>
            <a:xfrm flipH="1">
              <a:off x="2916360" y="3573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19"/>
          <p:cNvSpPr/>
          <p:nvPr/>
        </p:nvSpPr>
        <p:spPr>
          <a:xfrm flipV="1">
            <a:off x="1611720" y="1981080"/>
            <a:ext cx="418392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2124000" y="2924280"/>
            <a:ext cx="4896000" cy="2592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 u="sng">
                <a:solidFill>
                  <a:srgbClr val="ccccff"/>
                </a:solidFill>
                <a:uFillTx/>
                <a:latin typeface="Trebuchet MS"/>
                <a:hlinkClick r:id="rId5" action="ppaction://hlinksldjump"/>
              </a:rPr>
              <a:t>Zpět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8064360" y="5964120"/>
            <a:ext cx="97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6" action="ppaction://hlinksldjump"/>
              </a:rPr>
              <a:t>Zpě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500"/>
                            </p:stCondLst>
                            <p:childTnLst>
                              <p:par>
                                <p:cTn id="8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9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Trojúhelník je rovinný geometrický útvar sestávající ze tří stran, tří vrcholů a tří vnitřních úh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2268360" y="2060640"/>
            <a:ext cx="4032360" cy="21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2282760" y="2060640"/>
            <a:ext cx="1656000" cy="20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2268360" y="2060640"/>
            <a:ext cx="2232360" cy="367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 flipH="1">
            <a:off x="2195280" y="2060640"/>
            <a:ext cx="158436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3794040" y="2060640"/>
            <a:ext cx="293868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>
            <a:off x="3780000" y="2060640"/>
            <a:ext cx="2087280" cy="79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6"/>
          <p:cNvSpPr/>
          <p:nvPr/>
        </p:nvSpPr>
        <p:spPr>
          <a:xfrm flipH="1">
            <a:off x="2411280" y="2076480"/>
            <a:ext cx="432144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7"/>
          <p:cNvSpPr/>
          <p:nvPr/>
        </p:nvSpPr>
        <p:spPr>
          <a:xfrm flipH="1">
            <a:off x="6659640" y="2076480"/>
            <a:ext cx="8712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"/>
          <p:cNvSpPr/>
          <p:nvPr/>
        </p:nvSpPr>
        <p:spPr>
          <a:xfrm flipH="1">
            <a:off x="5867280" y="2076480"/>
            <a:ext cx="865440" cy="1136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5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 označová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27000" y="1125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zor při značení vrcholů a stran trojúhel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835280" y="1916280"/>
            <a:ext cx="4392360" cy="2376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>
            <a:off x="2268000" y="1916280"/>
            <a:ext cx="1079640" cy="367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928800" y="1484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Strana a proti vrcholu A, strana b proti vrcholu B, strana c proti vrcholu 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2484360" y="4365720"/>
            <a:ext cx="37432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>
            <a:off x="4067280" y="1916280"/>
            <a:ext cx="288720" cy="223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5867280" y="1916280"/>
            <a:ext cx="93672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 flipH="1" flipV="1">
            <a:off x="4284360" y="4365720"/>
            <a:ext cx="237492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1"/>
          <p:cNvSpPr/>
          <p:nvPr/>
        </p:nvSpPr>
        <p:spPr>
          <a:xfrm flipH="1">
            <a:off x="4571640" y="1916280"/>
            <a:ext cx="230508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2"/>
          <p:cNvSpPr/>
          <p:nvPr/>
        </p:nvSpPr>
        <p:spPr>
          <a:xfrm flipH="1">
            <a:off x="6011640" y="1916280"/>
            <a:ext cx="2376360" cy="1008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H="1">
            <a:off x="4572000" y="3141720"/>
            <a:ext cx="1295280" cy="251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součet vnitřních úhlů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nitřních úhlů trojúhelníku je vždy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 flipH="1">
            <a:off x="2411280" y="1916280"/>
            <a:ext cx="1368720" cy="38178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3780000" y="1916280"/>
            <a:ext cx="295272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780000" y="1916280"/>
            <a:ext cx="2087280" cy="1225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6877080" y="2421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6877080" y="27813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3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6877080" y="313992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6831000" y="3213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6877080" y="35877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7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7" descr=""/>
          <p:cNvPicPr/>
          <p:nvPr/>
        </p:nvPicPr>
        <p:blipFill>
          <a:blip r:embed="rId2"/>
          <a:stretch/>
        </p:blipFill>
        <p:spPr>
          <a:xfrm>
            <a:off x="2109960" y="2436840"/>
            <a:ext cx="4924080" cy="3800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914400" y="1844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říklad: Sestrojte trojúhelník ABC, ve kterém c = 7 cm,</a:t>
            </a:r>
            <a:br>
              <a:rPr sz="2200"/>
            </a:b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 = 35°,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 = 60°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3"/>
          <p:cNvSpPr/>
          <p:nvPr/>
        </p:nvSpPr>
        <p:spPr>
          <a:xfrm>
            <a:off x="2685960" y="5516640"/>
            <a:ext cx="3326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4"/>
          <p:cNvSpPr/>
          <p:nvPr/>
        </p:nvSpPr>
        <p:spPr>
          <a:xfrm>
            <a:off x="4268880" y="5403960"/>
            <a:ext cx="288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6"/>
          <p:cNvSpPr/>
          <p:nvPr/>
        </p:nvSpPr>
        <p:spPr>
          <a:xfrm>
            <a:off x="2873520" y="5156280"/>
            <a:ext cx="1023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3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68"/>
          <p:cNvSpPr/>
          <p:nvPr/>
        </p:nvSpPr>
        <p:spPr>
          <a:xfrm>
            <a:off x="2685960" y="4943520"/>
            <a:ext cx="1006560" cy="58716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fill="none" w="21600" h="12607">
                <a:moveTo>
                  <a:pt x="17539" y="-1"/>
                </a:moveTo>
                <a:cubicBezTo>
                  <a:pt x="20179" y="3673"/>
                  <a:pt x="21600" y="8083"/>
                  <a:pt x="21600" y="12607"/>
                </a:cubicBezTo>
              </a:path>
              <a:path stroke="0" w="21600" h="12607">
                <a:moveTo>
                  <a:pt x="17539" y="-1"/>
                </a:moveTo>
                <a:cubicBezTo>
                  <a:pt x="20179" y="3673"/>
                  <a:pt x="21600" y="8083"/>
                  <a:pt x="21600" y="12607"/>
                </a:cubicBezTo>
                <a:lnTo>
                  <a:pt x="0" y="12607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 69"/>
          <p:cNvSpPr/>
          <p:nvPr/>
        </p:nvSpPr>
        <p:spPr>
          <a:xfrm rot="7530000">
            <a:off x="5168520" y="3315960"/>
            <a:ext cx="1006560" cy="97128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71280"/>
              <a:gd name="textAreaBottom" fmla="*/ 971640 h 971280"/>
            </a:gdLst>
            <a:ahLst/>
            <a:rect l="textAreaLeft" t="textAreaTop" r="textAreaRight" b="textAreaBottom"/>
            <a:pathLst>
              <a:path fill="none" w="21600" h="20885">
                <a:moveTo>
                  <a:pt x="16491" y="-1"/>
                </a:moveTo>
                <a:cubicBezTo>
                  <a:pt x="19789" y="3899"/>
                  <a:pt x="21600" y="8842"/>
                  <a:pt x="21600" y="13950"/>
                </a:cubicBezTo>
                <a:cubicBezTo>
                  <a:pt x="21600" y="16308"/>
                  <a:pt x="21213" y="18651"/>
                  <a:pt x="20456" y="20885"/>
                </a:cubicBezTo>
              </a:path>
              <a:path stroke="0" w="21600" h="20885">
                <a:moveTo>
                  <a:pt x="16491" y="-1"/>
                </a:moveTo>
                <a:cubicBezTo>
                  <a:pt x="19789" y="3899"/>
                  <a:pt x="21600" y="8842"/>
                  <a:pt x="21600" y="13950"/>
                </a:cubicBezTo>
                <a:cubicBezTo>
                  <a:pt x="21600" y="16308"/>
                  <a:pt x="21213" y="18651"/>
                  <a:pt x="20456" y="20885"/>
                </a:cubicBezTo>
                <a:lnTo>
                  <a:pt x="0" y="1395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0"/>
          <p:cNvSpPr/>
          <p:nvPr/>
        </p:nvSpPr>
        <p:spPr>
          <a:xfrm>
            <a:off x="5103720" y="3716280"/>
            <a:ext cx="102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8" descr=""/>
          <p:cNvPicPr/>
          <p:nvPr/>
        </p:nvPicPr>
        <p:blipFill>
          <a:blip r:embed="rId2"/>
          <a:stretch/>
        </p:blipFill>
        <p:spPr>
          <a:xfrm>
            <a:off x="1979640" y="2365200"/>
            <a:ext cx="5054400" cy="3900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914400" y="1066680"/>
            <a:ext cx="8244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čneme jako vždy stranou, v tomto případě strano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při které leží jeden zadaný úh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914400" y="1730520"/>
            <a:ext cx="7978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ásleduje použití zadaného úhlu – dostaneme polopřímk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AY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svírající se stranou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úhel 3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1187280" y="55324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5"/>
          <p:cNvSpPr/>
          <p:nvPr/>
        </p:nvSpPr>
        <p:spPr>
          <a:xfrm>
            <a:off x="2575080" y="54309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6"/>
          <p:cNvSpPr/>
          <p:nvPr/>
        </p:nvSpPr>
        <p:spPr>
          <a:xfrm>
            <a:off x="5997600" y="5416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7394400" y="5388120"/>
            <a:ext cx="325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8"/>
          <p:cNvSpPr/>
          <p:nvPr/>
        </p:nvSpPr>
        <p:spPr>
          <a:xfrm>
            <a:off x="2560680" y="5532480"/>
            <a:ext cx="3436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4"/>
          <p:cNvSpPr/>
          <p:nvPr/>
        </p:nvSpPr>
        <p:spPr>
          <a:xfrm>
            <a:off x="6386400" y="230508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0"/>
          <p:cNvSpPr/>
          <p:nvPr/>
        </p:nvSpPr>
        <p:spPr>
          <a:xfrm flipV="1">
            <a:off x="2570040" y="2521080"/>
            <a:ext cx="4248360" cy="30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71"/>
          <p:cNvSpPr/>
          <p:nvPr/>
        </p:nvSpPr>
        <p:spPr>
          <a:xfrm>
            <a:off x="2570040" y="4951440"/>
            <a:ext cx="1009800" cy="57924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fill="none" w="21600" h="12387">
                <a:moveTo>
                  <a:pt x="17695" y="-1"/>
                </a:moveTo>
                <a:cubicBezTo>
                  <a:pt x="20236" y="3630"/>
                  <a:pt x="21600" y="7955"/>
                  <a:pt x="21600" y="12387"/>
                </a:cubicBezTo>
              </a:path>
              <a:path stroke="0" w="21600" h="12387">
                <a:moveTo>
                  <a:pt x="17695" y="-1"/>
                </a:moveTo>
                <a:cubicBezTo>
                  <a:pt x="20236" y="3630"/>
                  <a:pt x="21600" y="7955"/>
                  <a:pt x="21600" y="12387"/>
                </a:cubicBezTo>
                <a:lnTo>
                  <a:pt x="0" y="12387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2"/>
          <p:cNvSpPr/>
          <p:nvPr/>
        </p:nvSpPr>
        <p:spPr>
          <a:xfrm>
            <a:off x="6443640" y="262260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3"/>
          <p:cNvSpPr/>
          <p:nvPr/>
        </p:nvSpPr>
        <p:spPr>
          <a:xfrm>
            <a:off x="468360" y="476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979640" y="2365200"/>
            <a:ext cx="5054400" cy="3900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900000" y="7938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ako poslední využijeme ze zadání úhel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 Kde přesně jej ale sestroj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1187280" y="55324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2575080" y="54309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5997600" y="5416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394400" y="5388120"/>
            <a:ext cx="325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2560680" y="5532480"/>
            <a:ext cx="3436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6372360" y="2305080"/>
            <a:ext cx="33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 flipV="1">
            <a:off x="2570040" y="2521080"/>
            <a:ext cx="4248360" cy="30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6443640" y="262260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468360" y="476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4713120" y="4006800"/>
            <a:ext cx="178200" cy="20131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23"/>
          <p:cNvSpPr/>
          <p:nvPr/>
        </p:nvSpPr>
        <p:spPr>
          <a:xfrm rot="9525600">
            <a:off x="4164840" y="4117680"/>
            <a:ext cx="700200" cy="685800"/>
          </a:xfrm>
          <a:custGeom>
            <a:avLst/>
            <a:gdLst>
              <a:gd name="textAreaLeft" fmla="*/ 0 w 700200"/>
              <a:gd name="textAreaRight" fmla="*/ 700560 w 700200"/>
              <a:gd name="textAreaTop" fmla="*/ 0 h 685800"/>
              <a:gd name="textAreaBottom" fmla="*/ 685800 h 685800"/>
            </a:gdLst>
            <a:ahLst/>
            <a:rect l="textAreaLeft" t="textAreaTop" r="textAreaRight" b="textAreaBottom"/>
            <a:pathLst>
              <a:path fill="none" w="20995" h="20572">
                <a:moveTo>
                  <a:pt x="6584" y="-1"/>
                </a:moveTo>
                <a:cubicBezTo>
                  <a:pt x="13762" y="2297"/>
                  <a:pt x="19223" y="8170"/>
                  <a:pt x="20995" y="15495"/>
                </a:cubicBezTo>
              </a:path>
              <a:path stroke="0" w="20995" h="20572">
                <a:moveTo>
                  <a:pt x="6584" y="-1"/>
                </a:moveTo>
                <a:cubicBezTo>
                  <a:pt x="13762" y="2297"/>
                  <a:pt x="19223" y="8170"/>
                  <a:pt x="20995" y="15495"/>
                </a:cubicBezTo>
                <a:lnTo>
                  <a:pt x="0" y="20572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4313160" y="4307040"/>
            <a:ext cx="647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8"/>
          <p:cNvSpPr/>
          <p:nvPr/>
        </p:nvSpPr>
        <p:spPr>
          <a:xfrm>
            <a:off x="4643280" y="3905280"/>
            <a:ext cx="14472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4600440" y="3602160"/>
            <a:ext cx="3398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900000" y="1197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volíme na polopřímce AY libovolný bod V, který se nám stane vrcholem úhlu </a:t>
            </a:r>
            <a:br>
              <a:rPr sz="16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 požadované velikosti 6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900000" y="17002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ámi sestrojený úhel, přesněji řečeno jeho rameno však neprochází bodem B, jak bychom potřebovali. „Uděláme“ si tam tedy ještě jeden úh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2"/>
          <p:cNvSpPr/>
          <p:nvPr/>
        </p:nvSpPr>
        <p:spPr>
          <a:xfrm>
            <a:off x="5783400" y="3255840"/>
            <a:ext cx="272880" cy="27655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33"/>
          <p:cNvSpPr/>
          <p:nvPr/>
        </p:nvSpPr>
        <p:spPr>
          <a:xfrm rot="9525600">
            <a:off x="5260320" y="3368160"/>
            <a:ext cx="700200" cy="685800"/>
          </a:xfrm>
          <a:custGeom>
            <a:avLst/>
            <a:gdLst>
              <a:gd name="textAreaLeft" fmla="*/ 0 w 700200"/>
              <a:gd name="textAreaRight" fmla="*/ 700560 w 700200"/>
              <a:gd name="textAreaTop" fmla="*/ 0 h 685800"/>
              <a:gd name="textAreaBottom" fmla="*/ 685800 h 685800"/>
            </a:gdLst>
            <a:ahLst/>
            <a:rect l="textAreaLeft" t="textAreaTop" r="textAreaRight" b="textAreaBottom"/>
            <a:pathLst>
              <a:path fill="none" w="20995" h="20572">
                <a:moveTo>
                  <a:pt x="6584" y="-1"/>
                </a:moveTo>
                <a:cubicBezTo>
                  <a:pt x="13762" y="2297"/>
                  <a:pt x="19223" y="8170"/>
                  <a:pt x="20995" y="15495"/>
                </a:cubicBezTo>
              </a:path>
              <a:path stroke="0" w="20995" h="20572">
                <a:moveTo>
                  <a:pt x="6584" y="-1"/>
                </a:moveTo>
                <a:cubicBezTo>
                  <a:pt x="13762" y="2297"/>
                  <a:pt x="19223" y="8170"/>
                  <a:pt x="20995" y="15495"/>
                </a:cubicBezTo>
                <a:lnTo>
                  <a:pt x="0" y="20572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4"/>
          <p:cNvSpPr/>
          <p:nvPr/>
        </p:nvSpPr>
        <p:spPr>
          <a:xfrm>
            <a:off x="5408640" y="3557520"/>
            <a:ext cx="647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5"/>
          <p:cNvSpPr/>
          <p:nvPr/>
        </p:nvSpPr>
        <p:spPr>
          <a:xfrm>
            <a:off x="5724360" y="3156120"/>
            <a:ext cx="144720" cy="215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6"/>
          <p:cNvSpPr/>
          <p:nvPr/>
        </p:nvSpPr>
        <p:spPr>
          <a:xfrm>
            <a:off x="5695920" y="2909880"/>
            <a:ext cx="339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1979640" y="2365200"/>
            <a:ext cx="5054400" cy="3900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00000" y="7938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ako poslední využijeme ze zadání úhel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 Kde přesně jej ale sestroj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1187280" y="55324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2575080" y="54309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5997600" y="5416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7394400" y="5388120"/>
            <a:ext cx="325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>
            <a:off x="2560680" y="5532480"/>
            <a:ext cx="3436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372360" y="2305080"/>
            <a:ext cx="33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 flipV="1">
            <a:off x="2570040" y="2521080"/>
            <a:ext cx="4248360" cy="30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2"/>
          <p:cNvSpPr/>
          <p:nvPr/>
        </p:nvSpPr>
        <p:spPr>
          <a:xfrm>
            <a:off x="6443640" y="262260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468360" y="476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4713120" y="4006800"/>
            <a:ext cx="178200" cy="20131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rc 15"/>
          <p:cNvSpPr/>
          <p:nvPr/>
        </p:nvSpPr>
        <p:spPr>
          <a:xfrm rot="9525600">
            <a:off x="4164840" y="4117680"/>
            <a:ext cx="700200" cy="685800"/>
          </a:xfrm>
          <a:custGeom>
            <a:avLst/>
            <a:gdLst>
              <a:gd name="textAreaLeft" fmla="*/ 0 w 700200"/>
              <a:gd name="textAreaRight" fmla="*/ 700560 w 700200"/>
              <a:gd name="textAreaTop" fmla="*/ 0 h 685800"/>
              <a:gd name="textAreaBottom" fmla="*/ 685800 h 685800"/>
            </a:gdLst>
            <a:ahLst/>
            <a:rect l="textAreaLeft" t="textAreaTop" r="textAreaRight" b="textAreaBottom"/>
            <a:pathLst>
              <a:path fill="none" w="20995" h="20572">
                <a:moveTo>
                  <a:pt x="6584" y="-1"/>
                </a:moveTo>
                <a:cubicBezTo>
                  <a:pt x="13762" y="2297"/>
                  <a:pt x="19223" y="8170"/>
                  <a:pt x="20995" y="15495"/>
                </a:cubicBezTo>
              </a:path>
              <a:path stroke="0" w="20995" h="20572">
                <a:moveTo>
                  <a:pt x="6584" y="-1"/>
                </a:moveTo>
                <a:cubicBezTo>
                  <a:pt x="13762" y="2297"/>
                  <a:pt x="19223" y="8170"/>
                  <a:pt x="20995" y="15495"/>
                </a:cubicBezTo>
                <a:lnTo>
                  <a:pt x="0" y="20572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313160" y="4307040"/>
            <a:ext cx="647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4643280" y="3905280"/>
            <a:ext cx="14472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4600440" y="3602160"/>
            <a:ext cx="3398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900000" y="1197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Zvolíme na polopřímce AY libovolný bod V, který se nám stane vrcholem úhlu </a:t>
            </a:r>
            <a:br>
              <a:rPr sz="16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 požadované velikosti 6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900000" y="17002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ámi sestrojený úhel, přesněji řečeno jeho rameno však neprochází bodem B, jak bychom potřebovali. „Uděláme“ si tam tedy ještě jeden úh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783400" y="3255840"/>
            <a:ext cx="272880" cy="27655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rc 22"/>
          <p:cNvSpPr/>
          <p:nvPr/>
        </p:nvSpPr>
        <p:spPr>
          <a:xfrm rot="9525600">
            <a:off x="5260320" y="3368160"/>
            <a:ext cx="700200" cy="685800"/>
          </a:xfrm>
          <a:custGeom>
            <a:avLst/>
            <a:gdLst>
              <a:gd name="textAreaLeft" fmla="*/ 0 w 700200"/>
              <a:gd name="textAreaRight" fmla="*/ 700560 w 700200"/>
              <a:gd name="textAreaTop" fmla="*/ 0 h 685800"/>
              <a:gd name="textAreaBottom" fmla="*/ 685800 h 685800"/>
            </a:gdLst>
            <a:ahLst/>
            <a:rect l="textAreaLeft" t="textAreaTop" r="textAreaRight" b="textAreaBottom"/>
            <a:pathLst>
              <a:path fill="none" w="20995" h="20572">
                <a:moveTo>
                  <a:pt x="6584" y="-1"/>
                </a:moveTo>
                <a:cubicBezTo>
                  <a:pt x="13762" y="2297"/>
                  <a:pt x="19223" y="8170"/>
                  <a:pt x="20995" y="15495"/>
                </a:cubicBezTo>
              </a:path>
              <a:path stroke="0" w="20995" h="20572">
                <a:moveTo>
                  <a:pt x="6584" y="-1"/>
                </a:moveTo>
                <a:cubicBezTo>
                  <a:pt x="13762" y="2297"/>
                  <a:pt x="19223" y="8170"/>
                  <a:pt x="20995" y="15495"/>
                </a:cubicBezTo>
                <a:lnTo>
                  <a:pt x="0" y="20572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5408640" y="3557520"/>
            <a:ext cx="647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5724360" y="3156120"/>
            <a:ext cx="144720" cy="215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5695920" y="2909880"/>
            <a:ext cx="339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6"/>
          <p:cNvSpPr/>
          <p:nvPr/>
        </p:nvSpPr>
        <p:spPr>
          <a:xfrm>
            <a:off x="250920" y="2421000"/>
            <a:ext cx="3024000" cy="2879640"/>
          </a:xfrm>
          <a:prstGeom prst="cloudCallout">
            <a:avLst>
              <a:gd name="adj1" fmla="val 89106"/>
              <a:gd name="adj2" fmla="val 6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o můžeme říc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 vzniklých trojúhelnících? Jaké jsou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 co tedy platí konkrétně pro „zelená“ ramena úhl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7"/>
          <p:cNvSpPr/>
          <p:nvPr/>
        </p:nvSpPr>
        <p:spPr>
          <a:xfrm>
            <a:off x="250920" y="2421000"/>
            <a:ext cx="3024000" cy="2879640"/>
          </a:xfrm>
          <a:prstGeom prst="cloudCallout">
            <a:avLst>
              <a:gd name="adj1" fmla="val 88689"/>
              <a:gd name="adj2" fmla="val 68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Trojúhelníky jsou podobné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 ramena tudíž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ovnoběžná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8"/>
          <p:cNvSpPr/>
          <p:nvPr/>
        </p:nvSpPr>
        <p:spPr>
          <a:xfrm flipV="1">
            <a:off x="4586400" y="508428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9"/>
          <p:cNvSpPr/>
          <p:nvPr/>
        </p:nvSpPr>
        <p:spPr>
          <a:xfrm flipV="1">
            <a:off x="4586400" y="515592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0"/>
          <p:cNvSpPr/>
          <p:nvPr/>
        </p:nvSpPr>
        <p:spPr>
          <a:xfrm flipV="1">
            <a:off x="5751360" y="508428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1"/>
          <p:cNvSpPr/>
          <p:nvPr/>
        </p:nvSpPr>
        <p:spPr>
          <a:xfrm flipV="1">
            <a:off x="5751360" y="515592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1979640" y="2365200"/>
            <a:ext cx="5054400" cy="3900600"/>
          </a:xfrm>
          <a:prstGeom prst="rect">
            <a:avLst/>
          </a:prstGeom>
          <a:ln w="0">
            <a:noFill/>
          </a:ln>
        </p:spPr>
      </p:pic>
      <p:sp>
        <p:nvSpPr>
          <p:cNvPr id="209" name="Line 5"/>
          <p:cNvSpPr/>
          <p:nvPr/>
        </p:nvSpPr>
        <p:spPr>
          <a:xfrm>
            <a:off x="1187280" y="55324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2575080" y="54309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5997600" y="5416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7394400" y="5388120"/>
            <a:ext cx="325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2560680" y="5532480"/>
            <a:ext cx="3436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6372360" y="2305080"/>
            <a:ext cx="33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 flipV="1">
            <a:off x="2570040" y="2521080"/>
            <a:ext cx="4248360" cy="30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6443640" y="2622600"/>
            <a:ext cx="144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68360" y="476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713120" y="4006800"/>
            <a:ext cx="178200" cy="20131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rc 15"/>
          <p:cNvSpPr/>
          <p:nvPr/>
        </p:nvSpPr>
        <p:spPr>
          <a:xfrm rot="9525600">
            <a:off x="4164840" y="4117680"/>
            <a:ext cx="700200" cy="685800"/>
          </a:xfrm>
          <a:custGeom>
            <a:avLst/>
            <a:gdLst>
              <a:gd name="textAreaLeft" fmla="*/ 0 w 700200"/>
              <a:gd name="textAreaRight" fmla="*/ 700560 w 700200"/>
              <a:gd name="textAreaTop" fmla="*/ 0 h 685800"/>
              <a:gd name="textAreaBottom" fmla="*/ 685800 h 685800"/>
            </a:gdLst>
            <a:ahLst/>
            <a:rect l="textAreaLeft" t="textAreaTop" r="textAreaRight" b="textAreaBottom"/>
            <a:pathLst>
              <a:path fill="none" w="20995" h="20572">
                <a:moveTo>
                  <a:pt x="6584" y="-1"/>
                </a:moveTo>
                <a:cubicBezTo>
                  <a:pt x="13762" y="2297"/>
                  <a:pt x="19223" y="8170"/>
                  <a:pt x="20995" y="15495"/>
                </a:cubicBezTo>
              </a:path>
              <a:path stroke="0" w="20995" h="20572">
                <a:moveTo>
                  <a:pt x="6584" y="-1"/>
                </a:moveTo>
                <a:cubicBezTo>
                  <a:pt x="13762" y="2297"/>
                  <a:pt x="19223" y="8170"/>
                  <a:pt x="20995" y="15495"/>
                </a:cubicBezTo>
                <a:lnTo>
                  <a:pt x="0" y="20572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313160" y="4307040"/>
            <a:ext cx="647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4643280" y="3905280"/>
            <a:ext cx="14472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4600440" y="3602160"/>
            <a:ext cx="3398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900000" y="7938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Uvedené rovnoběžnosti tedy při konstrukci využijeme. Ja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900000" y="1341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esně tak, jak jsme si to „ukázali“ při rozboru. Narýsujeme úhel o velikosti 60° v libovolném bodě na polopřímce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Y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 následně s jeho nově vzniklým ramenem sestrojíme rovnoběžku procházející bodem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5783400" y="3255840"/>
            <a:ext cx="272880" cy="27655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22"/>
          <p:cNvSpPr/>
          <p:nvPr/>
        </p:nvSpPr>
        <p:spPr>
          <a:xfrm rot="9525600">
            <a:off x="5260320" y="3368160"/>
            <a:ext cx="700200" cy="685800"/>
          </a:xfrm>
          <a:custGeom>
            <a:avLst/>
            <a:gdLst>
              <a:gd name="textAreaLeft" fmla="*/ 0 w 700200"/>
              <a:gd name="textAreaRight" fmla="*/ 700560 w 700200"/>
              <a:gd name="textAreaTop" fmla="*/ 0 h 685800"/>
              <a:gd name="textAreaBottom" fmla="*/ 685800 h 685800"/>
            </a:gdLst>
            <a:ahLst/>
            <a:rect l="textAreaLeft" t="textAreaTop" r="textAreaRight" b="textAreaBottom"/>
            <a:pathLst>
              <a:path fill="none" w="20995" h="20572">
                <a:moveTo>
                  <a:pt x="6584" y="-1"/>
                </a:moveTo>
                <a:cubicBezTo>
                  <a:pt x="13762" y="2297"/>
                  <a:pt x="19223" y="8170"/>
                  <a:pt x="20995" y="15495"/>
                </a:cubicBezTo>
              </a:path>
              <a:path stroke="0" w="20995" h="20572">
                <a:moveTo>
                  <a:pt x="6584" y="-1"/>
                </a:moveTo>
                <a:cubicBezTo>
                  <a:pt x="13762" y="2297"/>
                  <a:pt x="19223" y="8170"/>
                  <a:pt x="20995" y="15495"/>
                </a:cubicBezTo>
                <a:lnTo>
                  <a:pt x="0" y="20572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5408640" y="3557520"/>
            <a:ext cx="647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724360" y="3156120"/>
            <a:ext cx="144720" cy="215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5695920" y="2909880"/>
            <a:ext cx="339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cc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 flipV="1">
            <a:off x="4586400" y="508428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9"/>
          <p:cNvSpPr/>
          <p:nvPr/>
        </p:nvSpPr>
        <p:spPr>
          <a:xfrm flipV="1">
            <a:off x="4586400" y="515592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0"/>
          <p:cNvSpPr/>
          <p:nvPr/>
        </p:nvSpPr>
        <p:spPr>
          <a:xfrm flipV="1">
            <a:off x="5751360" y="508428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1"/>
          <p:cNvSpPr/>
          <p:nvPr/>
        </p:nvSpPr>
        <p:spPr>
          <a:xfrm flipV="1">
            <a:off x="5751360" y="515592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900000" y="18874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Nepamatujete si už, jak se rovnoběžka procházející daným bodem sestrojuje? Pak se tedy podívejte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rebuchet MS"/>
                <a:hlinkClick r:id="rId3" action="ppaction://hlinksldjump"/>
              </a:rPr>
              <a:t>zde</a:t>
            </a: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02-04T09:44:14Z</dcterms:modified>
  <cp:revision>144</cp:revision>
  <dc:subject/>
  <dc:title>Konstrukce trojúhelníku 1</dc:title>
</cp:coreProperties>
</file>