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6654-02CF-4A01-844C-21D9455D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7C2F-C068-43AF-A16C-9556D323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D3CA-5348-4653-AF97-5E796CC8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A2A6-25E2-4618-A920-16C5F66B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D668-5C4F-4950-98E6-0EF67069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A15F-6ACA-49D8-A319-07EE2F48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07E6-F888-4F3F-91C6-288930D7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6686-96F4-4219-B0B2-EA9C7C98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6498-C450-4C18-A040-B8B9CDB5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9F87-B388-4100-814C-54973878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4A4B-FBA3-4E3B-8528-6D1CDFAE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6E55-0DF1-4F19-B3F7-D953CAFD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C252-65EE-4CD3-8743-E8D09284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F762-8B2E-45CD-924D-1F6EA203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539F-B582-4613-994B-D9692AB2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19B5-6263-4DF2-8410-5CAA36C8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094D-7F28-4067-B238-518A14EC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39B-585F-4AB1-A36A-0250CABD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BDF1-7412-4372-9F31-23D2A99D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785C-6033-47BB-A303-69DEB84E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46E6-A807-45ED-8E49-3DBB233D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BFE8-790C-4195-AE4D-F1EBBCAF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48D9-0B94-47E2-B5A2-5879ED9D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9514-7260-4737-AD56-9CE44D28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D7D7-66FC-4DE7-9011-91D61889530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9F17-00D2-4121-BED3-1866534E43A4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Konstrukce </a:t>
            </a:r>
            <a:br>
              <a:rPr sz="4800"/>
            </a:b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lichoběžníku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Víme-li, že je rovnoramenný </a:t>
            </a:r>
            <a:br>
              <a:rPr sz="4000"/>
            </a:b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a známe délky jeho základen </a:t>
            </a:r>
            <a:br>
              <a:rPr sz="4000"/>
            </a:b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a ramene.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84c6a"/>
                </a:solidFill>
                <a:latin typeface="Arial"/>
              </a:rPr>
              <a:t>Autor obrázků </a:t>
            </a:r>
            <a:r>
              <a:rPr b="0" lang="en-US" sz="1400" spc="-1" strike="noStrike">
                <a:solidFill>
                  <a:srgbClr val="284c6a"/>
                </a:solidFill>
                <a:latin typeface="Arial"/>
                <a:ea typeface="Arial"/>
              </a:rPr>
              <a:t>©</a:t>
            </a:r>
            <a:r>
              <a:rPr b="0" lang="cs-CZ" sz="1400" spc="-1" strike="noStrike">
                <a:solidFill>
                  <a:srgbClr val="284c6a"/>
                </a:solidFill>
                <a:latin typeface="Arial"/>
                <a:ea typeface="Arial"/>
              </a:rPr>
              <a:t> Mgr. Radomír Macháň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84360" y="1484280"/>
            <a:ext cx="7920000" cy="486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 nyní již přikročíme ke konstrukci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11280" y="981000"/>
            <a:ext cx="8109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ámi rýsovaný lichoběžník má být rovnoramenný. Podíváme se tedy na vlastnosti rovnoramenného lichoběžníku ještě podrobněji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" descr=""/>
          <p:cNvPicPr/>
          <p:nvPr/>
        </p:nvPicPr>
        <p:blipFill>
          <a:blip r:embed="rId2"/>
          <a:stretch/>
        </p:blipFill>
        <p:spPr>
          <a:xfrm>
            <a:off x="1474920" y="1587600"/>
            <a:ext cx="6337080" cy="46371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2"/>
          <p:cNvSpPr/>
          <p:nvPr/>
        </p:nvSpPr>
        <p:spPr>
          <a:xfrm>
            <a:off x="3059280" y="3500280"/>
            <a:ext cx="309528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a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c</a:t>
            </a:r>
            <a:br>
              <a:rPr sz="4000"/>
            </a:b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b=d</a:t>
            </a:r>
            <a:br>
              <a:rPr sz="4000"/>
            </a:b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=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br>
              <a:rPr sz="4000"/>
            </a:b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=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5622840" y="2176560"/>
            <a:ext cx="3311640" cy="2361960"/>
          </a:xfrm>
          <a:prstGeom prst="cloudCallout">
            <a:avLst>
              <a:gd name="adj1" fmla="val -66060"/>
              <a:gd name="adj2" fmla="val 6895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84c6a"/>
                </a:solidFill>
                <a:latin typeface="Trebuchet MS"/>
              </a:rPr>
              <a:t>Co bychom mohli na základě uvedeného říci o rovnoramenném lichoběžníku 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84c6a"/>
                </a:solidFill>
                <a:latin typeface="Trebuchet MS"/>
              </a:rPr>
              <a:t>z pohledu souměrnosti geometrických útvarů?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4" descr=""/>
          <p:cNvPicPr/>
          <p:nvPr/>
        </p:nvPicPr>
        <p:blipFill>
          <a:blip r:embed="rId3"/>
          <a:stretch/>
        </p:blipFill>
        <p:spPr>
          <a:xfrm>
            <a:off x="1474920" y="1587600"/>
            <a:ext cx="6337080" cy="463716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15"/>
          <p:cNvSpPr/>
          <p:nvPr/>
        </p:nvSpPr>
        <p:spPr>
          <a:xfrm>
            <a:off x="5940360" y="2637000"/>
            <a:ext cx="2735280" cy="1871640"/>
          </a:xfrm>
          <a:prstGeom prst="cloudCallout">
            <a:avLst>
              <a:gd name="adj1" fmla="val -92250"/>
              <a:gd name="adj2" fmla="val 3668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84c6a"/>
                </a:solidFill>
                <a:latin typeface="Trebuchet MS"/>
              </a:rPr>
              <a:t>Rovnoramenný lichoběžník je osově souměrný podle osy základen.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6" descr=""/>
          <p:cNvPicPr/>
          <p:nvPr/>
        </p:nvPicPr>
        <p:blipFill>
          <a:blip r:embed="rId4"/>
          <a:stretch/>
        </p:blipFill>
        <p:spPr>
          <a:xfrm>
            <a:off x="1474920" y="1587600"/>
            <a:ext cx="6337080" cy="46371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8"/>
          <p:cNvSpPr/>
          <p:nvPr/>
        </p:nvSpPr>
        <p:spPr>
          <a:xfrm>
            <a:off x="1403280" y="1557360"/>
            <a:ext cx="6408720" cy="4680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Mohli bychom říci, že bod </a:t>
            </a:r>
            <a:r>
              <a:rPr b="1" i="1" lang="en-US" sz="2400" spc="-1" strike="noStrike">
                <a:solidFill>
                  <a:srgbClr val="ff0000"/>
                </a:solidFill>
                <a:latin typeface="Trebuchet MS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 je obrazem bodu </a:t>
            </a:r>
            <a:r>
              <a:rPr b="1" i="1" lang="en-US" sz="2400" spc="-1" strike="noStrike">
                <a:solidFill>
                  <a:srgbClr val="ff0000"/>
                </a:solidFill>
                <a:latin typeface="Trebuchet MS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 v osové souměrnosti dané osou </a:t>
            </a:r>
            <a:r>
              <a:rPr b="1" i="1" lang="en-US" sz="2400" spc="-1" strike="noStrike">
                <a:solidFill>
                  <a:srgbClr val="ff0000"/>
                </a:solidFill>
                <a:latin typeface="Trebuchet MS"/>
              </a:rPr>
              <a:t>o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a naopak, což znamená, že body </a:t>
            </a:r>
            <a:r>
              <a:rPr b="1" i="1" lang="en-US" sz="2400" spc="-1" strike="noStrike">
                <a:solidFill>
                  <a:srgbClr val="ff0000"/>
                </a:solidFill>
                <a:latin typeface="Trebuchet MS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 a </a:t>
            </a:r>
            <a:r>
              <a:rPr b="1" i="1" lang="en-US" sz="2400" spc="-1" strike="noStrike">
                <a:solidFill>
                  <a:srgbClr val="ff0000"/>
                </a:solidFill>
                <a:latin typeface="Trebuchet MS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 mají od osy </a:t>
            </a:r>
            <a:r>
              <a:rPr b="1" i="1" lang="en-US" sz="2400" spc="-1" strike="noStrike">
                <a:solidFill>
                  <a:srgbClr val="ff0000"/>
                </a:solidFill>
                <a:latin typeface="Trebuchet MS"/>
              </a:rPr>
              <a:t>o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 stejnou vzdálenos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1692360" y="4508640"/>
            <a:ext cx="575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Obdobně totéž platí i pro body </a:t>
            </a:r>
            <a:r>
              <a:rPr b="1" i="1" lang="en-US" sz="2400" spc="-1" strike="noStrike">
                <a:solidFill>
                  <a:srgbClr val="ff0000"/>
                </a:solidFill>
                <a:latin typeface="Trebuchet MS"/>
              </a:rPr>
              <a:t>C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 a </a:t>
            </a:r>
            <a:r>
              <a:rPr b="1" i="1" lang="en-US" sz="2400" spc="-1" strike="noStrike">
                <a:solidFill>
                  <a:srgbClr val="ff0000"/>
                </a:solidFill>
                <a:latin typeface="Trebuchet MS"/>
              </a:rPr>
              <a:t>D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, jinými slovy i ony mají od osy </a:t>
            </a:r>
            <a:r>
              <a:rPr b="1" i="1" lang="en-US" sz="2400" spc="-1" strike="noStrike">
                <a:solidFill>
                  <a:srgbClr val="ff0000"/>
                </a:solidFill>
                <a:latin typeface="Trebuchet MS"/>
              </a:rPr>
              <a:t>o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 stejnou vzdálenos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1692360" y="5373720"/>
            <a:ext cx="575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Toho využijeme při konstrukci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684360" y="1484280"/>
            <a:ext cx="7920000" cy="486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571680" y="785880"/>
            <a:ext cx="8353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Sestrojte rovnoramenný lichoběžník ABCD, je-li: a = 8 cm, b = 5 cm, </a:t>
            </a:r>
            <a:br>
              <a:rPr sz="1800"/>
            </a:b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c = 4 cm.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3" descr=""/>
          <p:cNvPicPr/>
          <p:nvPr/>
        </p:nvPicPr>
        <p:blipFill>
          <a:blip r:embed="rId2"/>
          <a:stretch/>
        </p:blipFill>
        <p:spPr>
          <a:xfrm>
            <a:off x="1474920" y="1587600"/>
            <a:ext cx="6337080" cy="4637160"/>
          </a:xfrm>
          <a:prstGeom prst="rect">
            <a:avLst/>
          </a:prstGeom>
          <a:ln w="0">
            <a:noFill/>
          </a:ln>
        </p:spPr>
      </p:pic>
      <p:sp>
        <p:nvSpPr>
          <p:cNvPr id="201" name="Line 15"/>
          <p:cNvSpPr/>
          <p:nvPr/>
        </p:nvSpPr>
        <p:spPr>
          <a:xfrm>
            <a:off x="1763640" y="5589720"/>
            <a:ext cx="5726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6"/>
          <p:cNvSpPr/>
          <p:nvPr/>
        </p:nvSpPr>
        <p:spPr>
          <a:xfrm>
            <a:off x="525600" y="1139760"/>
            <a:ext cx="835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áčrt: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7"/>
          <p:cNvSpPr/>
          <p:nvPr/>
        </p:nvSpPr>
        <p:spPr>
          <a:xfrm flipH="1" flipV="1">
            <a:off x="6040440" y="2349000"/>
            <a:ext cx="1440000" cy="324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8"/>
          <p:cNvSpPr/>
          <p:nvPr/>
        </p:nvSpPr>
        <p:spPr>
          <a:xfrm flipH="1">
            <a:off x="3203640" y="2335320"/>
            <a:ext cx="284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9"/>
          <p:cNvSpPr/>
          <p:nvPr/>
        </p:nvSpPr>
        <p:spPr>
          <a:xfrm flipH="1">
            <a:off x="1778040" y="2335320"/>
            <a:ext cx="1440000" cy="324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4427640" y="2637000"/>
            <a:ext cx="4176720" cy="2736720"/>
          </a:xfrm>
          <a:prstGeom prst="cloudCallout">
            <a:avLst>
              <a:gd name="adj1" fmla="val -88351"/>
              <a:gd name="adj2" fmla="val -156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84c6a"/>
                </a:solidFill>
                <a:latin typeface="Trebuchet MS"/>
              </a:rPr>
              <a:t>Jak již víme ke zkonstruování lichoběžníku potřebujeme znát minimálně čtyři údaje. Mohlo by se tedy zdát, že nám v zadání jeden údaj chybí. Ve skutečnosti je však ukryt ve slově </a:t>
            </a:r>
            <a:r>
              <a:rPr b="1" lang="en-US" sz="1300" spc="-1" strike="noStrike">
                <a:solidFill>
                  <a:srgbClr val="ff0000"/>
                </a:solidFill>
                <a:latin typeface="Trebuchet MS"/>
              </a:rPr>
              <a:t>rovnoramenný</a:t>
            </a:r>
            <a:r>
              <a:rPr b="1" lang="en-US" sz="1300" spc="-1" strike="noStrike">
                <a:solidFill>
                  <a:srgbClr val="284c6a"/>
                </a:solidFill>
                <a:latin typeface="Trebuchet MS"/>
              </a:rPr>
              <a:t>, což znamená, že známe i velikost strany </a:t>
            </a:r>
            <a:r>
              <a:rPr b="1" i="1" lang="en-US" sz="1300" spc="-1" strike="noStrike">
                <a:solidFill>
                  <a:srgbClr val="284c6a"/>
                </a:solidFill>
                <a:latin typeface="Trebuchet MS"/>
              </a:rPr>
              <a:t>d</a:t>
            </a:r>
            <a:r>
              <a:rPr b="1" lang="en-US" sz="1300" spc="-1" strike="noStrike">
                <a:solidFill>
                  <a:srgbClr val="284c6a"/>
                </a:solidFill>
                <a:latin typeface="Trebuchet MS"/>
              </a:rPr>
              <a:t>, jež je stejně dlouhá jako strana </a:t>
            </a:r>
            <a:r>
              <a:rPr b="1" i="1" lang="en-US" sz="1300" spc="-1" strike="noStrike">
                <a:solidFill>
                  <a:srgbClr val="284c6a"/>
                </a:solidFill>
                <a:latin typeface="Trebuchet MS"/>
              </a:rPr>
              <a:t>b</a:t>
            </a:r>
            <a:r>
              <a:rPr b="1" lang="en-US" sz="13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684360" y="2492280"/>
            <a:ext cx="7920000" cy="385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11200" y="692280"/>
            <a:ext cx="835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Sestrojte rovnoramenný lichoběžník ABCD, je-li: a = 8 cm, b = 5 cm,</a:t>
            </a:r>
            <a:br>
              <a:rPr sz="1800"/>
            </a:b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c = 4 cm.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511200" y="981000"/>
            <a:ext cx="835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bor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511200" y="1284120"/>
            <a:ext cx="8353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Konstrukci zahájíme stranou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o velikosti 8 cm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3" descr=""/>
          <p:cNvPicPr/>
          <p:nvPr/>
        </p:nvPicPr>
        <p:blipFill>
          <a:blip r:embed="rId2"/>
          <a:stretch/>
        </p:blipFill>
        <p:spPr>
          <a:xfrm>
            <a:off x="2082960" y="2546280"/>
            <a:ext cx="5081400" cy="3718080"/>
          </a:xfrm>
          <a:prstGeom prst="rect">
            <a:avLst/>
          </a:prstGeom>
          <a:ln w="0">
            <a:noFill/>
          </a:ln>
        </p:spPr>
      </p:pic>
      <p:sp>
        <p:nvSpPr>
          <p:cNvPr id="213" name="Line 6"/>
          <p:cNvSpPr/>
          <p:nvPr/>
        </p:nvSpPr>
        <p:spPr>
          <a:xfrm>
            <a:off x="2340000" y="5762520"/>
            <a:ext cx="457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511200" y="1716120"/>
            <a:ext cx="835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Dále budeme „hledat“ body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a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D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, o kterých víme, že jsou stejně daleko od osy lichoběžníku. Konkrétně vzhledem k délce strany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mají od osy vzdálenost 2 cm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539640" y="2133720"/>
            <a:ext cx="835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Co je tedy množinou bodů, které mají od osy danou vzdálenost?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5753160" y="2550960"/>
            <a:ext cx="0" cy="3743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3478320" y="2550960"/>
            <a:ext cx="0" cy="3743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8"/>
          <p:cNvSpPr/>
          <p:nvPr/>
        </p:nvSpPr>
        <p:spPr>
          <a:xfrm>
            <a:off x="6372360" y="4076640"/>
            <a:ext cx="2735280" cy="1871640"/>
          </a:xfrm>
          <a:prstGeom prst="cloudCallout">
            <a:avLst>
              <a:gd name="adj1" fmla="val -68513"/>
              <a:gd name="adj2" fmla="val -7357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84c6a"/>
                </a:solidFill>
                <a:latin typeface="Trebuchet MS"/>
              </a:rPr>
              <a:t>Jsou to rovnoběžky 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84c6a"/>
                </a:solidFill>
                <a:latin typeface="Trebuchet MS"/>
              </a:rPr>
              <a:t>s osou </a:t>
            </a:r>
            <a:r>
              <a:rPr b="1" i="1" lang="en-US" sz="1500" spc="-1" strike="noStrike">
                <a:solidFill>
                  <a:srgbClr val="284c6a"/>
                </a:solidFill>
                <a:latin typeface="Trebuchet MS"/>
              </a:rPr>
              <a:t>o</a:t>
            </a:r>
            <a:r>
              <a:rPr b="1" lang="en-US" sz="1500" spc="-1" strike="noStrike">
                <a:solidFill>
                  <a:srgbClr val="284c6a"/>
                </a:solidFill>
                <a:latin typeface="Trebuchet MS"/>
              </a:rPr>
              <a:t> ve vzdálenosti 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84c6a"/>
                </a:solidFill>
                <a:latin typeface="Trebuchet MS"/>
              </a:rPr>
              <a:t>2 cm od osy </a:t>
            </a:r>
            <a:r>
              <a:rPr b="1" i="1" lang="en-US" sz="1500" spc="-1" strike="noStrike">
                <a:solidFill>
                  <a:srgbClr val="284c6a"/>
                </a:solidFill>
                <a:latin typeface="Trebuchet MS"/>
              </a:rPr>
              <a:t>o</a:t>
            </a:r>
            <a:r>
              <a:rPr b="1" lang="en-US" sz="15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9"/>
          <p:cNvSpPr/>
          <p:nvPr/>
        </p:nvSpPr>
        <p:spPr>
          <a:xfrm>
            <a:off x="5730840" y="2492280"/>
            <a:ext cx="4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p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3456000" y="2492280"/>
            <a:ext cx="4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q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684360" y="2492280"/>
            <a:ext cx="7920000" cy="385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511200" y="692280"/>
            <a:ext cx="835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Sestrojte rovnoramenný lichoběžník ABCD, je-li: a = 8 cm, b = 5 cm, </a:t>
            </a:r>
            <a:br>
              <a:rPr sz="1800"/>
            </a:b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c = 4 cm.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511200" y="1052640"/>
            <a:ext cx="835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bor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511200" y="1425600"/>
            <a:ext cx="835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Bod C má ještě jednu vlastnost. Jeho vzdálenost od bodu B je 5 cm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"/>
          <p:cNvPicPr/>
          <p:nvPr/>
        </p:nvPicPr>
        <p:blipFill>
          <a:blip r:embed="rId2"/>
          <a:stretch/>
        </p:blipFill>
        <p:spPr>
          <a:xfrm>
            <a:off x="2082960" y="2546280"/>
            <a:ext cx="5081400" cy="3718080"/>
          </a:xfrm>
          <a:prstGeom prst="rect">
            <a:avLst/>
          </a:prstGeom>
          <a:ln w="0">
            <a:noFill/>
          </a:ln>
        </p:spPr>
      </p:pic>
      <p:sp>
        <p:nvSpPr>
          <p:cNvPr id="227" name="Line 8"/>
          <p:cNvSpPr/>
          <p:nvPr/>
        </p:nvSpPr>
        <p:spPr>
          <a:xfrm>
            <a:off x="2340000" y="5762520"/>
            <a:ext cx="457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511200" y="1917720"/>
            <a:ext cx="835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Co je množinou bodů, které mají od daného bodu danou vzdálenost? </a:t>
            </a:r>
            <a:br>
              <a:rPr sz="16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To znamená, co je množinou bodů, jejichž vzdálenost od bodu B je rovna velikosti strany b, tzn. 5 cm?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5753160" y="2550960"/>
            <a:ext cx="0" cy="3743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3478320" y="2550960"/>
            <a:ext cx="0" cy="3743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4"/>
          <p:cNvSpPr/>
          <p:nvPr/>
        </p:nvSpPr>
        <p:spPr>
          <a:xfrm>
            <a:off x="5730840" y="2492280"/>
            <a:ext cx="4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p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3456000" y="2492280"/>
            <a:ext cx="4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q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rc 16"/>
          <p:cNvSpPr/>
          <p:nvPr/>
        </p:nvSpPr>
        <p:spPr>
          <a:xfrm flipH="1">
            <a:off x="4035600" y="2909880"/>
            <a:ext cx="3867120" cy="2854440"/>
          </a:xfrm>
          <a:custGeom>
            <a:avLst/>
            <a:gdLst>
              <a:gd name="textAreaLeft" fmla="*/ 360 w 3867120"/>
              <a:gd name="textAreaRight" fmla="*/ 3867840 w 3867120"/>
              <a:gd name="textAreaTop" fmla="*/ 0 h 2854440"/>
              <a:gd name="textAreaBottom" fmla="*/ 2854800 h 2854440"/>
            </a:gdLst>
            <a:ahLst/>
            <a:rect l="textAreaLeft" t="textAreaTop" r="textAreaRight" b="textAreaBottom"/>
            <a:pathLst>
              <a:path fill="none" w="29269" h="21600">
                <a:moveTo>
                  <a:pt x="-1" y="1476"/>
                </a:moveTo>
                <a:cubicBezTo>
                  <a:pt x="2502" y="500"/>
                  <a:pt x="5164" y="-1"/>
                  <a:pt x="7850" y="0"/>
                </a:cubicBezTo>
                <a:cubicBezTo>
                  <a:pt x="18701" y="0"/>
                  <a:pt x="27868" y="8051"/>
                  <a:pt x="29269" y="18811"/>
                </a:cubicBezTo>
              </a:path>
              <a:path stroke="0" w="29269" h="21600">
                <a:moveTo>
                  <a:pt x="-1" y="1476"/>
                </a:moveTo>
                <a:cubicBezTo>
                  <a:pt x="2502" y="500"/>
                  <a:pt x="5164" y="-1"/>
                  <a:pt x="7850" y="0"/>
                </a:cubicBezTo>
                <a:cubicBezTo>
                  <a:pt x="18701" y="0"/>
                  <a:pt x="27868" y="8051"/>
                  <a:pt x="29269" y="18811"/>
                </a:cubicBezTo>
                <a:lnTo>
                  <a:pt x="7850" y="21600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7"/>
          <p:cNvSpPr/>
          <p:nvPr/>
        </p:nvSpPr>
        <p:spPr>
          <a:xfrm>
            <a:off x="7559640" y="2708280"/>
            <a:ext cx="4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rebuchet MS"/>
              </a:rPr>
              <a:t>k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8"/>
          <p:cNvSpPr/>
          <p:nvPr/>
        </p:nvSpPr>
        <p:spPr>
          <a:xfrm>
            <a:off x="6156360" y="3933720"/>
            <a:ext cx="2735280" cy="1871640"/>
          </a:xfrm>
          <a:prstGeom prst="cloudCallout">
            <a:avLst>
              <a:gd name="adj1" fmla="val -44717"/>
              <a:gd name="adj2" fmla="val -961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84c6a"/>
                </a:solidFill>
                <a:latin typeface="Trebuchet MS"/>
              </a:rPr>
              <a:t>Je to kružnice 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84c6a"/>
                </a:solidFill>
                <a:latin typeface="Trebuchet MS"/>
              </a:rPr>
              <a:t>s poloměrem daným stranou </a:t>
            </a:r>
            <a:r>
              <a:rPr b="1" i="1" lang="en-US" sz="1500" spc="-1" strike="noStrike">
                <a:solidFill>
                  <a:srgbClr val="284c6a"/>
                </a:solidFill>
                <a:latin typeface="Trebuchet MS"/>
              </a:rPr>
              <a:t>b</a:t>
            </a:r>
            <a:r>
              <a:rPr b="1" lang="en-US" sz="1500" spc="-1" strike="noStrike">
                <a:solidFill>
                  <a:srgbClr val="284c6a"/>
                </a:solidFill>
                <a:latin typeface="Trebuchet MS"/>
              </a:rPr>
              <a:t>, tzn. kružnice 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84c6a"/>
                </a:solidFill>
                <a:latin typeface="Trebuchet MS"/>
              </a:rPr>
              <a:t>k(B; 5 cm).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9"/>
          <p:cNvSpPr/>
          <p:nvPr/>
        </p:nvSpPr>
        <p:spPr>
          <a:xfrm>
            <a:off x="1042920" y="2637000"/>
            <a:ext cx="2879640" cy="2158920"/>
          </a:xfrm>
          <a:prstGeom prst="cloudCallout">
            <a:avLst>
              <a:gd name="adj1" fmla="val 107717"/>
              <a:gd name="adj2" fmla="val -249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84c6a"/>
                </a:solidFill>
                <a:latin typeface="Trebuchet MS"/>
              </a:rPr>
              <a:t>Průnikem obou množin bodů splňujících vlastnosti bodu </a:t>
            </a:r>
            <a:r>
              <a:rPr b="1" i="1" lang="en-US" sz="15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en-US" sz="1500" spc="-1" strike="noStrike">
                <a:solidFill>
                  <a:srgbClr val="284c6a"/>
                </a:solidFill>
                <a:latin typeface="Trebuchet MS"/>
              </a:rPr>
              <a:t> je právě onen námi hledaný bod </a:t>
            </a:r>
            <a:r>
              <a:rPr b="1" i="1" lang="en-US" sz="15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en-US" sz="15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684360" y="2492280"/>
            <a:ext cx="7920000" cy="385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511200" y="692280"/>
            <a:ext cx="835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Sestrojte rovnoramenný lichoběžník ABCD, je-li: a = 8 cm, b = 5 cm, </a:t>
            </a:r>
            <a:br>
              <a:rPr sz="1800"/>
            </a:b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c = 4 cm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511200" y="1052640"/>
            <a:ext cx="835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bor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511200" y="1425600"/>
            <a:ext cx="835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Obdobně i bod D má také ještě jednu vlastnost. Jeho vzdálenost od bodu A je 5 cm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2"/>
          <a:stretch/>
        </p:blipFill>
        <p:spPr>
          <a:xfrm>
            <a:off x="2082960" y="2546280"/>
            <a:ext cx="5081400" cy="3718080"/>
          </a:xfrm>
          <a:prstGeom prst="rect">
            <a:avLst/>
          </a:prstGeom>
          <a:ln w="0">
            <a:noFill/>
          </a:ln>
        </p:spPr>
      </p:pic>
      <p:sp>
        <p:nvSpPr>
          <p:cNvPr id="243" name="Line 8"/>
          <p:cNvSpPr/>
          <p:nvPr/>
        </p:nvSpPr>
        <p:spPr>
          <a:xfrm>
            <a:off x="2340000" y="5762520"/>
            <a:ext cx="457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511200" y="1917720"/>
            <a:ext cx="835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Co je množinou bodů, které mají od daného bodu danou vzdálenost? </a:t>
            </a:r>
            <a:br>
              <a:rPr sz="16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To znamená, co je množinou bodů, jejichž vzdálenost od bodu A je rovna velikosti strany d, tzn. 5 cm?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"/>
          <p:cNvSpPr/>
          <p:nvPr/>
        </p:nvSpPr>
        <p:spPr>
          <a:xfrm>
            <a:off x="5753160" y="2550960"/>
            <a:ext cx="0" cy="3743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1"/>
          <p:cNvSpPr/>
          <p:nvPr/>
        </p:nvSpPr>
        <p:spPr>
          <a:xfrm>
            <a:off x="3478320" y="2550960"/>
            <a:ext cx="0" cy="3743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5730840" y="2492280"/>
            <a:ext cx="4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p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3456000" y="2492280"/>
            <a:ext cx="4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q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rc 14"/>
          <p:cNvSpPr/>
          <p:nvPr/>
        </p:nvSpPr>
        <p:spPr>
          <a:xfrm flipH="1">
            <a:off x="4035600" y="2909880"/>
            <a:ext cx="3867120" cy="2854440"/>
          </a:xfrm>
          <a:custGeom>
            <a:avLst/>
            <a:gdLst>
              <a:gd name="textAreaLeft" fmla="*/ 360 w 3867120"/>
              <a:gd name="textAreaRight" fmla="*/ 3867840 w 3867120"/>
              <a:gd name="textAreaTop" fmla="*/ 0 h 2854440"/>
              <a:gd name="textAreaBottom" fmla="*/ 2854800 h 2854440"/>
            </a:gdLst>
            <a:ahLst/>
            <a:rect l="textAreaLeft" t="textAreaTop" r="textAreaRight" b="textAreaBottom"/>
            <a:pathLst>
              <a:path fill="none" w="29269" h="21600">
                <a:moveTo>
                  <a:pt x="-1" y="1476"/>
                </a:moveTo>
                <a:cubicBezTo>
                  <a:pt x="2502" y="500"/>
                  <a:pt x="5164" y="-1"/>
                  <a:pt x="7850" y="0"/>
                </a:cubicBezTo>
                <a:cubicBezTo>
                  <a:pt x="18701" y="0"/>
                  <a:pt x="27868" y="8051"/>
                  <a:pt x="29269" y="18811"/>
                </a:cubicBezTo>
              </a:path>
              <a:path stroke="0" w="29269" h="21600">
                <a:moveTo>
                  <a:pt x="-1" y="1476"/>
                </a:moveTo>
                <a:cubicBezTo>
                  <a:pt x="2502" y="500"/>
                  <a:pt x="5164" y="-1"/>
                  <a:pt x="7850" y="0"/>
                </a:cubicBezTo>
                <a:cubicBezTo>
                  <a:pt x="18701" y="0"/>
                  <a:pt x="27868" y="8051"/>
                  <a:pt x="29269" y="18811"/>
                </a:cubicBezTo>
                <a:lnTo>
                  <a:pt x="7850" y="21600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5"/>
          <p:cNvSpPr/>
          <p:nvPr/>
        </p:nvSpPr>
        <p:spPr>
          <a:xfrm>
            <a:off x="7559640" y="2708280"/>
            <a:ext cx="4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rebuchet MS"/>
              </a:rPr>
              <a:t>k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rc 17"/>
          <p:cNvSpPr/>
          <p:nvPr/>
        </p:nvSpPr>
        <p:spPr>
          <a:xfrm flipH="1" rot="5067000">
            <a:off x="1654200" y="2307960"/>
            <a:ext cx="2852640" cy="3843360"/>
          </a:xfrm>
          <a:custGeom>
            <a:avLst/>
            <a:gdLst>
              <a:gd name="textAreaLeft" fmla="*/ 360 w 2852640"/>
              <a:gd name="textAreaRight" fmla="*/ 2853360 w 2852640"/>
              <a:gd name="textAreaTop" fmla="*/ 0 h 3843360"/>
              <a:gd name="textAreaBottom" fmla="*/ 3843720 h 3843360"/>
            </a:gdLst>
            <a:ahLst/>
            <a:rect l="textAreaLeft" t="textAreaTop" r="textAreaRight" b="textAreaBottom"/>
            <a:pathLst>
              <a:path fill="none" w="21600" h="29082">
                <a:moveTo>
                  <a:pt x="2638" y="-1"/>
                </a:moveTo>
                <a:cubicBezTo>
                  <a:pt x="13465" y="1332"/>
                  <a:pt x="21600" y="10528"/>
                  <a:pt x="21600" y="21438"/>
                </a:cubicBezTo>
                <a:cubicBezTo>
                  <a:pt x="21600" y="24049"/>
                  <a:pt x="21126" y="26639"/>
                  <a:pt x="20202" y="29082"/>
                </a:cubicBezTo>
              </a:path>
              <a:path stroke="0" w="21600" h="29082">
                <a:moveTo>
                  <a:pt x="2638" y="-1"/>
                </a:moveTo>
                <a:cubicBezTo>
                  <a:pt x="13465" y="1332"/>
                  <a:pt x="21600" y="10528"/>
                  <a:pt x="21600" y="21438"/>
                </a:cubicBezTo>
                <a:cubicBezTo>
                  <a:pt x="21600" y="24049"/>
                  <a:pt x="21126" y="26639"/>
                  <a:pt x="20202" y="29082"/>
                </a:cubicBezTo>
                <a:lnTo>
                  <a:pt x="0" y="21438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1150920" y="2766960"/>
            <a:ext cx="4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rebuchet MS"/>
              </a:rPr>
              <a:t>l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9"/>
          <p:cNvSpPr/>
          <p:nvPr/>
        </p:nvSpPr>
        <p:spPr>
          <a:xfrm>
            <a:off x="250920" y="3933720"/>
            <a:ext cx="2735280" cy="1871640"/>
          </a:xfrm>
          <a:prstGeom prst="cloudCallout">
            <a:avLst>
              <a:gd name="adj1" fmla="val 5601"/>
              <a:gd name="adj2" fmla="val -9690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84c6a"/>
                </a:solidFill>
                <a:latin typeface="Trebuchet MS"/>
              </a:rPr>
              <a:t>Je to kružnice 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84c6a"/>
                </a:solidFill>
                <a:latin typeface="Trebuchet MS"/>
              </a:rPr>
              <a:t>s poloměrem daným stranou </a:t>
            </a:r>
            <a:r>
              <a:rPr b="1" i="1" lang="en-US" sz="1500" spc="-1" strike="noStrike">
                <a:solidFill>
                  <a:srgbClr val="284c6a"/>
                </a:solidFill>
                <a:latin typeface="Trebuchet MS"/>
              </a:rPr>
              <a:t>d</a:t>
            </a:r>
            <a:r>
              <a:rPr b="1" lang="en-US" sz="1500" spc="-1" strike="noStrike">
                <a:solidFill>
                  <a:srgbClr val="284c6a"/>
                </a:solidFill>
                <a:latin typeface="Trebuchet MS"/>
              </a:rPr>
              <a:t>, tzn. kružnice 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84c6a"/>
                </a:solidFill>
                <a:latin typeface="Trebuchet MS"/>
              </a:rPr>
              <a:t>k(A; 5 cm).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"/>
          <p:cNvSpPr/>
          <p:nvPr/>
        </p:nvSpPr>
        <p:spPr>
          <a:xfrm>
            <a:off x="5364000" y="3141720"/>
            <a:ext cx="2880000" cy="2158920"/>
          </a:xfrm>
          <a:prstGeom prst="cloudCallout">
            <a:avLst>
              <a:gd name="adj1" fmla="val -109865"/>
              <a:gd name="adj2" fmla="val -462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84c6a"/>
                </a:solidFill>
                <a:latin typeface="Trebuchet MS"/>
              </a:rPr>
              <a:t>Průnikem obou množin bodů splňujících vlastnosti bodu </a:t>
            </a:r>
            <a:r>
              <a:rPr b="1" i="1" lang="en-US" sz="1500" spc="-1" strike="noStrike">
                <a:solidFill>
                  <a:srgbClr val="284c6a"/>
                </a:solidFill>
                <a:latin typeface="Trebuchet MS"/>
              </a:rPr>
              <a:t>D</a:t>
            </a:r>
            <a:r>
              <a:rPr b="1" lang="en-US" sz="1500" spc="-1" strike="noStrike">
                <a:solidFill>
                  <a:srgbClr val="284c6a"/>
                </a:solidFill>
                <a:latin typeface="Trebuchet MS"/>
              </a:rPr>
              <a:t> je právě onen námi hledaný bod </a:t>
            </a:r>
            <a:r>
              <a:rPr b="1" i="1" lang="en-US" sz="1500" spc="-1" strike="noStrike">
                <a:solidFill>
                  <a:srgbClr val="284c6a"/>
                </a:solidFill>
                <a:latin typeface="Trebuchet MS"/>
              </a:rPr>
              <a:t>D</a:t>
            </a:r>
            <a:r>
              <a:rPr b="1" lang="en-US" sz="15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684360" y="2492280"/>
            <a:ext cx="7920000" cy="385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500040" y="857160"/>
            <a:ext cx="835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Sestrojte rovnoramenný lichoběžník ABCD, je-li: a = 8 cm, b = 5 cm, </a:t>
            </a:r>
            <a:br>
              <a:rPr sz="1800"/>
            </a:b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c = 4 cm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500040" y="1214280"/>
            <a:ext cx="8353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bor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428760" y="1714680"/>
            <a:ext cx="835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a závěr už zbývá jen všechny čtyři body, vrcholy lichoběžníku, spojit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2"/>
          <a:stretch/>
        </p:blipFill>
        <p:spPr>
          <a:xfrm>
            <a:off x="2082960" y="2546280"/>
            <a:ext cx="5081400" cy="3718080"/>
          </a:xfrm>
          <a:prstGeom prst="rect">
            <a:avLst/>
          </a:prstGeom>
          <a:ln w="0">
            <a:noFill/>
          </a:ln>
        </p:spPr>
      </p:pic>
      <p:sp>
        <p:nvSpPr>
          <p:cNvPr id="261" name="Line 8"/>
          <p:cNvSpPr/>
          <p:nvPr/>
        </p:nvSpPr>
        <p:spPr>
          <a:xfrm>
            <a:off x="2354400" y="5762520"/>
            <a:ext cx="457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5753160" y="2550960"/>
            <a:ext cx="0" cy="3743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1"/>
          <p:cNvSpPr/>
          <p:nvPr/>
        </p:nvSpPr>
        <p:spPr>
          <a:xfrm>
            <a:off x="3478320" y="2550960"/>
            <a:ext cx="0" cy="3743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5730840" y="2492280"/>
            <a:ext cx="4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p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3456000" y="2492280"/>
            <a:ext cx="4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q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rc 14"/>
          <p:cNvSpPr/>
          <p:nvPr/>
        </p:nvSpPr>
        <p:spPr>
          <a:xfrm flipH="1">
            <a:off x="4035600" y="2909880"/>
            <a:ext cx="3867120" cy="2854440"/>
          </a:xfrm>
          <a:custGeom>
            <a:avLst/>
            <a:gdLst>
              <a:gd name="textAreaLeft" fmla="*/ 360 w 3867120"/>
              <a:gd name="textAreaRight" fmla="*/ 3867840 w 3867120"/>
              <a:gd name="textAreaTop" fmla="*/ 0 h 2854440"/>
              <a:gd name="textAreaBottom" fmla="*/ 2854800 h 2854440"/>
            </a:gdLst>
            <a:ahLst/>
            <a:rect l="textAreaLeft" t="textAreaTop" r="textAreaRight" b="textAreaBottom"/>
            <a:pathLst>
              <a:path fill="none" w="29269" h="21600">
                <a:moveTo>
                  <a:pt x="-1" y="1476"/>
                </a:moveTo>
                <a:cubicBezTo>
                  <a:pt x="2502" y="500"/>
                  <a:pt x="5164" y="-1"/>
                  <a:pt x="7850" y="0"/>
                </a:cubicBezTo>
                <a:cubicBezTo>
                  <a:pt x="18701" y="0"/>
                  <a:pt x="27868" y="8051"/>
                  <a:pt x="29269" y="18811"/>
                </a:cubicBezTo>
              </a:path>
              <a:path stroke="0" w="29269" h="21600">
                <a:moveTo>
                  <a:pt x="-1" y="1476"/>
                </a:moveTo>
                <a:cubicBezTo>
                  <a:pt x="2502" y="500"/>
                  <a:pt x="5164" y="-1"/>
                  <a:pt x="7850" y="0"/>
                </a:cubicBezTo>
                <a:cubicBezTo>
                  <a:pt x="18701" y="0"/>
                  <a:pt x="27868" y="8051"/>
                  <a:pt x="29269" y="18811"/>
                </a:cubicBezTo>
                <a:lnTo>
                  <a:pt x="7850" y="21600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7559640" y="2708280"/>
            <a:ext cx="4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rebuchet MS"/>
              </a:rPr>
              <a:t>k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rc 16"/>
          <p:cNvSpPr/>
          <p:nvPr/>
        </p:nvSpPr>
        <p:spPr>
          <a:xfrm flipH="1" rot="5067000">
            <a:off x="1654200" y="2307960"/>
            <a:ext cx="2852640" cy="3843360"/>
          </a:xfrm>
          <a:custGeom>
            <a:avLst/>
            <a:gdLst>
              <a:gd name="textAreaLeft" fmla="*/ 360 w 2852640"/>
              <a:gd name="textAreaRight" fmla="*/ 2853360 w 2852640"/>
              <a:gd name="textAreaTop" fmla="*/ 0 h 3843360"/>
              <a:gd name="textAreaBottom" fmla="*/ 3843720 h 3843360"/>
            </a:gdLst>
            <a:ahLst/>
            <a:rect l="textAreaLeft" t="textAreaTop" r="textAreaRight" b="textAreaBottom"/>
            <a:pathLst>
              <a:path fill="none" w="21600" h="29082">
                <a:moveTo>
                  <a:pt x="2638" y="-1"/>
                </a:moveTo>
                <a:cubicBezTo>
                  <a:pt x="13465" y="1332"/>
                  <a:pt x="21600" y="10528"/>
                  <a:pt x="21600" y="21438"/>
                </a:cubicBezTo>
                <a:cubicBezTo>
                  <a:pt x="21600" y="24049"/>
                  <a:pt x="21126" y="26639"/>
                  <a:pt x="20202" y="29082"/>
                </a:cubicBezTo>
              </a:path>
              <a:path stroke="0" w="21600" h="29082">
                <a:moveTo>
                  <a:pt x="2638" y="-1"/>
                </a:moveTo>
                <a:cubicBezTo>
                  <a:pt x="13465" y="1332"/>
                  <a:pt x="21600" y="10528"/>
                  <a:pt x="21600" y="21438"/>
                </a:cubicBezTo>
                <a:cubicBezTo>
                  <a:pt x="21600" y="24049"/>
                  <a:pt x="21126" y="26639"/>
                  <a:pt x="20202" y="29082"/>
                </a:cubicBezTo>
                <a:lnTo>
                  <a:pt x="0" y="21438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1150920" y="2766960"/>
            <a:ext cx="4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rebuchet MS"/>
              </a:rPr>
              <a:t>l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0"/>
          <p:cNvSpPr/>
          <p:nvPr/>
        </p:nvSpPr>
        <p:spPr>
          <a:xfrm flipH="1" flipV="1">
            <a:off x="5752800" y="3155760"/>
            <a:ext cx="1152360" cy="25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1"/>
          <p:cNvSpPr/>
          <p:nvPr/>
        </p:nvSpPr>
        <p:spPr>
          <a:xfrm>
            <a:off x="3478320" y="3141720"/>
            <a:ext cx="230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"/>
          <p:cNvSpPr/>
          <p:nvPr/>
        </p:nvSpPr>
        <p:spPr>
          <a:xfrm flipH="1">
            <a:off x="2325600" y="3127320"/>
            <a:ext cx="1152720" cy="266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4"/>
          <p:cNvSpPr/>
          <p:nvPr/>
        </p:nvSpPr>
        <p:spPr>
          <a:xfrm>
            <a:off x="118728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971640" y="103824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1. AB;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= a = 8 c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ápis a konstrukce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6" name="Line 11"/>
          <p:cNvSpPr/>
          <p:nvPr/>
        </p:nvSpPr>
        <p:spPr>
          <a:xfrm>
            <a:off x="1258920" y="574056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6"/>
          <p:cNvSpPr/>
          <p:nvPr/>
        </p:nvSpPr>
        <p:spPr>
          <a:xfrm>
            <a:off x="6516720" y="24922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5637240" y="2303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1"/>
          <p:cNvSpPr/>
          <p:nvPr/>
        </p:nvSpPr>
        <p:spPr>
          <a:xfrm>
            <a:off x="3449520" y="2305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2"/>
          <p:cNvSpPr/>
          <p:nvPr/>
        </p:nvSpPr>
        <p:spPr>
          <a:xfrm>
            <a:off x="2328120" y="5611680"/>
            <a:ext cx="3960" cy="22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"/>
          <p:cNvSpPr/>
          <p:nvPr/>
        </p:nvSpPr>
        <p:spPr>
          <a:xfrm>
            <a:off x="7023960" y="5611680"/>
            <a:ext cx="3960" cy="22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8"/>
          <p:cNvSpPr/>
          <p:nvPr/>
        </p:nvSpPr>
        <p:spPr>
          <a:xfrm>
            <a:off x="2076480" y="57103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9"/>
          <p:cNvSpPr/>
          <p:nvPr/>
        </p:nvSpPr>
        <p:spPr>
          <a:xfrm>
            <a:off x="6977160" y="57103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2"/>
          <p:cNvSpPr/>
          <p:nvPr/>
        </p:nvSpPr>
        <p:spPr>
          <a:xfrm>
            <a:off x="971640" y="1598760"/>
            <a:ext cx="424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3. p, q; p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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o, q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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o,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,o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=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q,o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= 1/2c = 2 cm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5"/>
          <p:cNvSpPr/>
          <p:nvPr/>
        </p:nvSpPr>
        <p:spPr>
          <a:xfrm>
            <a:off x="971640" y="190188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4. k; k(B; b = 5 cm)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6"/>
          <p:cNvSpPr/>
          <p:nvPr/>
        </p:nvSpPr>
        <p:spPr>
          <a:xfrm>
            <a:off x="2484360" y="24638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7"/>
          <p:cNvSpPr/>
          <p:nvPr/>
        </p:nvSpPr>
        <p:spPr>
          <a:xfrm>
            <a:off x="5784840" y="103824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5. C; C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p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k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8"/>
          <p:cNvSpPr/>
          <p:nvPr/>
        </p:nvSpPr>
        <p:spPr>
          <a:xfrm>
            <a:off x="5784840" y="132552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6. l; l(A; d = 5 cm)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9"/>
          <p:cNvSpPr/>
          <p:nvPr/>
        </p:nvSpPr>
        <p:spPr>
          <a:xfrm>
            <a:off x="5784840" y="162720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7. D; D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q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l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0"/>
          <p:cNvSpPr/>
          <p:nvPr/>
        </p:nvSpPr>
        <p:spPr>
          <a:xfrm>
            <a:off x="5626080" y="27511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1"/>
          <p:cNvSpPr/>
          <p:nvPr/>
        </p:nvSpPr>
        <p:spPr>
          <a:xfrm>
            <a:off x="5784840" y="190188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8. Lichoběžník ABCD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6"/>
          <p:cNvSpPr/>
          <p:nvPr/>
        </p:nvSpPr>
        <p:spPr>
          <a:xfrm>
            <a:off x="971640" y="1325520"/>
            <a:ext cx="4321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2. o; o je osa úsečky AB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8"/>
          <p:cNvSpPr/>
          <p:nvPr/>
        </p:nvSpPr>
        <p:spPr>
          <a:xfrm flipV="1">
            <a:off x="4686480" y="2435400"/>
            <a:ext cx="1440" cy="38224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rc 63"/>
          <p:cNvSpPr/>
          <p:nvPr/>
        </p:nvSpPr>
        <p:spPr>
          <a:xfrm>
            <a:off x="2311560" y="3765600"/>
            <a:ext cx="2701800" cy="1968480"/>
          </a:xfrm>
          <a:custGeom>
            <a:avLst/>
            <a:gdLst>
              <a:gd name="textAreaLeft" fmla="*/ 0 w 2701800"/>
              <a:gd name="textAreaRight" fmla="*/ 2702160 w 2701800"/>
              <a:gd name="textAreaTop" fmla="*/ 0 h 1968480"/>
              <a:gd name="textAreaBottom" fmla="*/ 1968840 h 1968480"/>
            </a:gdLst>
            <a:ahLst/>
            <a:rect l="textAreaLeft" t="textAreaTop" r="textAreaRight" b="textAreaBottom"/>
            <a:pathLst>
              <a:path fill="none" w="21326" h="15534">
                <a:moveTo>
                  <a:pt x="15008" y="-1"/>
                </a:moveTo>
                <a:cubicBezTo>
                  <a:pt x="18368" y="3245"/>
                  <a:pt x="20585" y="7494"/>
                  <a:pt x="21326" y="12106"/>
                </a:cubicBezTo>
              </a:path>
              <a:path stroke="0" w="21326" h="15534">
                <a:moveTo>
                  <a:pt x="15008" y="-1"/>
                </a:moveTo>
                <a:cubicBezTo>
                  <a:pt x="18368" y="3245"/>
                  <a:pt x="20585" y="7494"/>
                  <a:pt x="21326" y="12106"/>
                </a:cubicBezTo>
                <a:lnTo>
                  <a:pt x="0" y="1553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rc 66"/>
          <p:cNvSpPr/>
          <p:nvPr/>
        </p:nvSpPr>
        <p:spPr>
          <a:xfrm>
            <a:off x="4410000" y="3608280"/>
            <a:ext cx="2640240" cy="2122560"/>
          </a:xfrm>
          <a:custGeom>
            <a:avLst/>
            <a:gdLst>
              <a:gd name="textAreaLeft" fmla="*/ 0 w 2640240"/>
              <a:gd name="textAreaRight" fmla="*/ 2640600 w 2640240"/>
              <a:gd name="textAreaTop" fmla="*/ 0 h 2122560"/>
              <a:gd name="textAreaBottom" fmla="*/ 2122920 h 2122560"/>
            </a:gdLst>
            <a:ahLst/>
            <a:rect l="textAreaLeft" t="textAreaTop" r="textAreaRight" b="textAreaBottom"/>
            <a:pathLst>
              <a:path fill="none" w="20835" h="16752">
                <a:moveTo>
                  <a:pt x="-1" y="11054"/>
                </a:moveTo>
                <a:cubicBezTo>
                  <a:pt x="1188" y="6709"/>
                  <a:pt x="3705" y="2843"/>
                  <a:pt x="7199" y="-1"/>
                </a:cubicBezTo>
              </a:path>
              <a:path stroke="0" w="20835" h="16752">
                <a:moveTo>
                  <a:pt x="-1" y="11054"/>
                </a:moveTo>
                <a:cubicBezTo>
                  <a:pt x="1188" y="6709"/>
                  <a:pt x="3705" y="2843"/>
                  <a:pt x="7199" y="-1"/>
                </a:cubicBezTo>
                <a:lnTo>
                  <a:pt x="20835" y="1675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rc 68"/>
          <p:cNvSpPr/>
          <p:nvPr/>
        </p:nvSpPr>
        <p:spPr>
          <a:xfrm>
            <a:off x="3495600" y="4540320"/>
            <a:ext cx="2368800" cy="1698480"/>
          </a:xfrm>
          <a:custGeom>
            <a:avLst/>
            <a:gdLst>
              <a:gd name="textAreaLeft" fmla="*/ 0 w 2368800"/>
              <a:gd name="textAreaRight" fmla="*/ 2369160 w 2368800"/>
              <a:gd name="textAreaTop" fmla="*/ 0 h 1698480"/>
              <a:gd name="textAreaBottom" fmla="*/ 1698840 h 1698480"/>
            </a:gdLst>
            <a:ahLst/>
            <a:rect l="textAreaLeft" t="textAreaTop" r="textAreaRight" b="textAreaBottom"/>
            <a:pathLst>
              <a:path fill="none" w="43200" h="30970">
                <a:moveTo>
                  <a:pt x="2138" y="30969"/>
                </a:moveTo>
                <a:cubicBezTo>
                  <a:pt x="730" y="28046"/>
                  <a:pt x="0" y="2484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4756"/>
                  <a:pt x="-23028" y="27874"/>
                  <a:pt x="-24363" y="30735"/>
                </a:cubicBezTo>
              </a:path>
              <a:path stroke="0" w="43200" h="30970">
                <a:moveTo>
                  <a:pt x="2138" y="30969"/>
                </a:moveTo>
                <a:cubicBezTo>
                  <a:pt x="730" y="28046"/>
                  <a:pt x="0" y="2484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4756"/>
                  <a:pt x="-23028" y="27874"/>
                  <a:pt x="-24363" y="30735"/>
                </a:cubicBezTo>
                <a:lnTo>
                  <a:pt x="216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0"/>
          <p:cNvSpPr/>
          <p:nvPr/>
        </p:nvSpPr>
        <p:spPr>
          <a:xfrm>
            <a:off x="3218040" y="57164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1"/>
          <p:cNvSpPr/>
          <p:nvPr/>
        </p:nvSpPr>
        <p:spPr>
          <a:xfrm>
            <a:off x="5869080" y="57340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2"/>
          <p:cNvSpPr/>
          <p:nvPr/>
        </p:nvSpPr>
        <p:spPr>
          <a:xfrm>
            <a:off x="4400640" y="57340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73"/>
          <p:cNvSpPr/>
          <p:nvPr/>
        </p:nvSpPr>
        <p:spPr>
          <a:xfrm flipV="1">
            <a:off x="5865840" y="2421000"/>
            <a:ext cx="1440" cy="382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74"/>
          <p:cNvSpPr/>
          <p:nvPr/>
        </p:nvSpPr>
        <p:spPr>
          <a:xfrm flipV="1">
            <a:off x="3492360" y="2421000"/>
            <a:ext cx="1800" cy="382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rc 75"/>
          <p:cNvSpPr/>
          <p:nvPr/>
        </p:nvSpPr>
        <p:spPr>
          <a:xfrm flipH="1">
            <a:off x="5280840" y="2751120"/>
            <a:ext cx="1763640" cy="2994120"/>
          </a:xfrm>
          <a:custGeom>
            <a:avLst/>
            <a:gdLst>
              <a:gd name="textAreaLeft" fmla="*/ -360 w 1763640"/>
              <a:gd name="textAreaRight" fmla="*/ 1763640 w 1763640"/>
              <a:gd name="textAreaTop" fmla="*/ 0 h 2994120"/>
              <a:gd name="textAreaBottom" fmla="*/ 2994480 h 2994120"/>
            </a:gdLst>
            <a:ahLst/>
            <a:rect l="textAreaLeft" t="textAreaTop" r="textAreaRight" b="textAreaBottom"/>
            <a:pathLst>
              <a:path fill="none" w="12724" h="21600">
                <a:moveTo>
                  <a:pt x="-1" y="0"/>
                </a:moveTo>
                <a:cubicBezTo>
                  <a:pt x="4573" y="0"/>
                  <a:pt x="9028" y="1451"/>
                  <a:pt x="12723" y="4145"/>
                </a:cubicBezTo>
              </a:path>
              <a:path stroke="0" w="12724" h="21600">
                <a:moveTo>
                  <a:pt x="-1" y="0"/>
                </a:moveTo>
                <a:cubicBezTo>
                  <a:pt x="4573" y="0"/>
                  <a:pt x="9028" y="1451"/>
                  <a:pt x="12723" y="4145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rc 76"/>
          <p:cNvSpPr/>
          <p:nvPr/>
        </p:nvSpPr>
        <p:spPr>
          <a:xfrm flipH="1" rot="5400000">
            <a:off x="1764360" y="3299040"/>
            <a:ext cx="2994120" cy="1900080"/>
          </a:xfrm>
          <a:custGeom>
            <a:avLst/>
            <a:gdLst>
              <a:gd name="textAreaLeft" fmla="*/ -360 w 2994120"/>
              <a:gd name="textAreaRight" fmla="*/ 2994120 w 2994120"/>
              <a:gd name="textAreaTop" fmla="*/ 0 h 1900080"/>
              <a:gd name="textAreaBottom" fmla="*/ 1900440 h 1900080"/>
            </a:gdLst>
            <a:ahLst/>
            <a:rect l="textAreaLeft" t="textAreaTop" r="textAreaRight" b="textAreaBottom"/>
            <a:pathLst>
              <a:path fill="none" w="21600" h="13711">
                <a:moveTo>
                  <a:pt x="16690" y="-1"/>
                </a:moveTo>
                <a:cubicBezTo>
                  <a:pt x="19864" y="3864"/>
                  <a:pt x="21600" y="8710"/>
                  <a:pt x="21600" y="13711"/>
                </a:cubicBezTo>
              </a:path>
              <a:path stroke="0" w="21600" h="13711">
                <a:moveTo>
                  <a:pt x="16690" y="-1"/>
                </a:moveTo>
                <a:cubicBezTo>
                  <a:pt x="19864" y="3864"/>
                  <a:pt x="21600" y="8710"/>
                  <a:pt x="21600" y="13711"/>
                </a:cubicBezTo>
                <a:lnTo>
                  <a:pt x="0" y="1371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8"/>
          <p:cNvSpPr/>
          <p:nvPr/>
        </p:nvSpPr>
        <p:spPr>
          <a:xfrm>
            <a:off x="4643280" y="2349360"/>
            <a:ext cx="2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79"/>
          <p:cNvSpPr/>
          <p:nvPr/>
        </p:nvSpPr>
        <p:spPr>
          <a:xfrm flipH="1" flipV="1">
            <a:off x="5867280" y="2997360"/>
            <a:ext cx="115272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80"/>
          <p:cNvSpPr/>
          <p:nvPr/>
        </p:nvSpPr>
        <p:spPr>
          <a:xfrm flipH="1">
            <a:off x="3492000" y="299736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81"/>
          <p:cNvSpPr/>
          <p:nvPr/>
        </p:nvSpPr>
        <p:spPr>
          <a:xfrm flipH="1">
            <a:off x="2339640" y="2997360"/>
            <a:ext cx="115236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2"/>
          <p:cNvSpPr/>
          <p:nvPr/>
        </p:nvSpPr>
        <p:spPr>
          <a:xfrm>
            <a:off x="3478320" y="27367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2500"/>
                            </p:stCondLst>
                            <p:childTnLst>
                              <p:par>
                                <p:cTn id="7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3500"/>
                            </p:stCondLst>
                            <p:childTnLst>
                              <p:par>
                                <p:cTn id="7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4000"/>
                            </p:stCondLst>
                            <p:childTnLst>
                              <p:par>
                                <p:cTn id="7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0"/>
                            </p:stCondLst>
                            <p:childTnLst>
                              <p:par>
                                <p:cTn id="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30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3500"/>
                            </p:stCondLst>
                            <p:childTnLst>
                              <p:par>
                                <p:cTn id="8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4500"/>
                            </p:stCondLst>
                            <p:childTnLst>
                              <p:par>
                                <p:cTn id="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sledný lichoběžník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1042920" y="1960560"/>
            <a:ext cx="7058160" cy="443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927000" y="1052640"/>
            <a:ext cx="77774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Úloha má jedno řešení.</a:t>
            </a:r>
            <a:br>
              <a:rPr sz="2000"/>
            </a:b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(v polorovině určené úsečkou AB a bodem D)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2"/>
          <p:cNvSpPr/>
          <p:nvPr/>
        </p:nvSpPr>
        <p:spPr>
          <a:xfrm>
            <a:off x="957240" y="1454040"/>
            <a:ext cx="7777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Konstrukci proměříme, zda odpovídá zadání, a lichoběžník vytáhneme silněji. </a:t>
            </a:r>
            <a:br>
              <a:rPr sz="16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takto vypadá výsledek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8" descr=""/>
          <p:cNvPicPr/>
          <p:nvPr/>
        </p:nvPicPr>
        <p:blipFill>
          <a:blip r:embed="rId2"/>
          <a:stretch/>
        </p:blipFill>
        <p:spPr>
          <a:xfrm>
            <a:off x="1579680" y="2017800"/>
            <a:ext cx="5945040" cy="4282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9" descr=""/>
          <p:cNvPicPr/>
          <p:nvPr/>
        </p:nvPicPr>
        <p:blipFill>
          <a:blip r:embed="rId3"/>
          <a:stretch/>
        </p:blipFill>
        <p:spPr>
          <a:xfrm>
            <a:off x="1579680" y="2017800"/>
            <a:ext cx="5945040" cy="42829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0" descr=""/>
          <p:cNvPicPr/>
          <p:nvPr/>
        </p:nvPicPr>
        <p:blipFill>
          <a:blip r:embed="rId4"/>
          <a:stretch/>
        </p:blipFill>
        <p:spPr>
          <a:xfrm>
            <a:off x="1579680" y="2017800"/>
            <a:ext cx="5945040" cy="42829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1" descr=""/>
          <p:cNvPicPr/>
          <p:nvPr/>
        </p:nvPicPr>
        <p:blipFill>
          <a:blip r:embed="rId5"/>
          <a:stretch/>
        </p:blipFill>
        <p:spPr>
          <a:xfrm>
            <a:off x="1579680" y="2017800"/>
            <a:ext cx="5945040" cy="42829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2" descr=""/>
          <p:cNvPicPr/>
          <p:nvPr/>
        </p:nvPicPr>
        <p:blipFill>
          <a:blip r:embed="rId6"/>
          <a:stretch/>
        </p:blipFill>
        <p:spPr>
          <a:xfrm>
            <a:off x="1579680" y="2017800"/>
            <a:ext cx="5945040" cy="4282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4" descr=""/>
          <p:cNvPicPr/>
          <p:nvPr/>
        </p:nvPicPr>
        <p:blipFill>
          <a:blip r:embed="rId7"/>
          <a:stretch/>
        </p:blipFill>
        <p:spPr>
          <a:xfrm>
            <a:off x="1579680" y="2017800"/>
            <a:ext cx="5945040" cy="42829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5" descr=""/>
          <p:cNvPicPr/>
          <p:nvPr/>
        </p:nvPicPr>
        <p:blipFill>
          <a:blip r:embed="rId8"/>
          <a:stretch/>
        </p:blipFill>
        <p:spPr>
          <a:xfrm>
            <a:off x="1579680" y="2017800"/>
            <a:ext cx="5945040" cy="42829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6" descr=""/>
          <p:cNvPicPr/>
          <p:nvPr/>
        </p:nvPicPr>
        <p:blipFill>
          <a:blip r:embed="rId9"/>
          <a:stretch/>
        </p:blipFill>
        <p:spPr>
          <a:xfrm>
            <a:off x="1579680" y="2017800"/>
            <a:ext cx="5945040" cy="4282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7" descr=""/>
          <p:cNvPicPr/>
          <p:nvPr/>
        </p:nvPicPr>
        <p:blipFill>
          <a:blip r:embed="rId10"/>
          <a:stretch/>
        </p:blipFill>
        <p:spPr>
          <a:xfrm>
            <a:off x="1579680" y="2017800"/>
            <a:ext cx="5945040" cy="42829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8" descr=""/>
          <p:cNvPicPr/>
          <p:nvPr/>
        </p:nvPicPr>
        <p:blipFill>
          <a:blip r:embed="rId11"/>
          <a:stretch/>
        </p:blipFill>
        <p:spPr>
          <a:xfrm>
            <a:off x="1579680" y="2017800"/>
            <a:ext cx="5945040" cy="42829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9" descr=""/>
          <p:cNvPicPr/>
          <p:nvPr/>
        </p:nvPicPr>
        <p:blipFill>
          <a:blip r:embed="rId12"/>
          <a:stretch/>
        </p:blipFill>
        <p:spPr>
          <a:xfrm>
            <a:off x="1579680" y="2017800"/>
            <a:ext cx="5945040" cy="42829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0" descr=""/>
          <p:cNvPicPr/>
          <p:nvPr/>
        </p:nvPicPr>
        <p:blipFill>
          <a:blip r:embed="rId13"/>
          <a:stretch/>
        </p:blipFill>
        <p:spPr>
          <a:xfrm>
            <a:off x="1579680" y="2017800"/>
            <a:ext cx="5945040" cy="428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1042920" y="1700280"/>
            <a:ext cx="691380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927000" y="1096920"/>
            <a:ext cx="7777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rovnoramenný lichoběžník ABCD (AB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D), jestliže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= 9 cm, c = 60 mm, d = 45 mm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4286160" y="1357200"/>
            <a:ext cx="4005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Pozor na jednotky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0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9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1042920" y="1700280"/>
            <a:ext cx="691380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927000" y="1096920"/>
            <a:ext cx="7777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rovnoramenný lichoběžník ABCD (AB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D), jestliže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= 3 cm, c = 70 mm, b = 60 mm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0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1042920" y="2179800"/>
            <a:ext cx="691380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1" descr=""/>
          <p:cNvPicPr/>
          <p:nvPr/>
        </p:nvPicPr>
        <p:blipFill>
          <a:blip r:embed="rId2"/>
          <a:stretch/>
        </p:blipFill>
        <p:spPr>
          <a:xfrm>
            <a:off x="1403280" y="2236680"/>
            <a:ext cx="6188040" cy="37148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5"/>
          <p:cNvSpPr/>
          <p:nvPr/>
        </p:nvSpPr>
        <p:spPr>
          <a:xfrm>
            <a:off x="6661080" y="155736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AB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C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Lich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684360" y="133992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Lichoběžník je čtyřúhelník, který má jen jednu dvojici protilehlých stran rovnoběžnou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"/>
          <p:cNvSpPr/>
          <p:nvPr/>
        </p:nvSpPr>
        <p:spPr>
          <a:xfrm flipH="1">
            <a:off x="4571640" y="2060640"/>
            <a:ext cx="2305080" cy="3240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 flipH="1">
            <a:off x="3779640" y="2060640"/>
            <a:ext cx="3097080" cy="72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opakujeme základní vlastnosti, které nám často pomohou při pozdějších konstrukcích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1187280" y="5948280"/>
            <a:ext cx="5677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Který čtyřúhelník má obě dvojice protilehlých stran rovnoběžné?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0"/>
          <p:cNvSpPr/>
          <p:nvPr/>
        </p:nvSpPr>
        <p:spPr>
          <a:xfrm>
            <a:off x="6643800" y="5950080"/>
            <a:ext cx="1428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Rovnoběžník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971640" y="1700280"/>
            <a:ext cx="698508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927000" y="1096920"/>
            <a:ext cx="7777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rovnoramenný lichoběžník ABCD (BC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A), jestliže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b = 8 cm, d = 2 cm, a = 7 cm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0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755640" y="1125360"/>
            <a:ext cx="7777080" cy="52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Konstrukce rovnoramenného lichoběžníku</a:t>
            </a:r>
            <a:endParaRPr b="0" lang="en-US" sz="30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337" name="Picture 6" descr=""/>
          <p:cNvPicPr/>
          <p:nvPr/>
        </p:nvPicPr>
        <p:blipFill>
          <a:blip r:embed="rId2"/>
          <a:stretch/>
        </p:blipFill>
        <p:spPr>
          <a:xfrm>
            <a:off x="826920" y="3157560"/>
            <a:ext cx="4248360" cy="3108240"/>
          </a:xfrm>
          <a:prstGeom prst="rect">
            <a:avLst/>
          </a:prstGeom>
          <a:ln w="0">
            <a:noFill/>
          </a:ln>
        </p:spPr>
      </p:pic>
      <p:sp>
        <p:nvSpPr>
          <p:cNvPr id="338" name="AutoShape 5"/>
          <p:cNvSpPr/>
          <p:nvPr/>
        </p:nvSpPr>
        <p:spPr>
          <a:xfrm>
            <a:off x="3635280" y="1225440"/>
            <a:ext cx="3745080" cy="2737080"/>
          </a:xfrm>
          <a:prstGeom prst="cloudCallout">
            <a:avLst>
              <a:gd name="adj1" fmla="val 46398"/>
              <a:gd name="adj2" fmla="val 7285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apamatuj si!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ři konstrukcích rovnoramenných lichoběžníků s výhodou využíváme souměrnosti tohoto lichoběžníku podle osy jeho základen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0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042920" y="2179800"/>
            <a:ext cx="691380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1403280" y="2236680"/>
            <a:ext cx="6188040" cy="37148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6661080" y="155736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AB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C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Lich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684360" y="1096920"/>
            <a:ext cx="799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Rovnoběžným stranám říkáme základny lichoběžníku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"/>
          <p:cNvSpPr/>
          <p:nvPr/>
        </p:nvSpPr>
        <p:spPr>
          <a:xfrm flipH="1">
            <a:off x="4571640" y="2060640"/>
            <a:ext cx="2305080" cy="3240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 flipH="1">
            <a:off x="3779640" y="2060640"/>
            <a:ext cx="3097080" cy="72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opakujeme základní vlastnosti, které nám často pomohou při pozdějších konstrukcích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1187280" y="5948280"/>
            <a:ext cx="5677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Nepřipomíná vám to označení něco?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4286160" y="5950080"/>
            <a:ext cx="314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Rovnoramenný trojúhelník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684360" y="1469880"/>
            <a:ext cx="799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nerovnoběžným ramena lichoběžníku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6"/>
          <p:cNvGrpSpPr/>
          <p:nvPr/>
        </p:nvGrpSpPr>
        <p:grpSpPr>
          <a:xfrm>
            <a:off x="6645240" y="1557360"/>
            <a:ext cx="2448000" cy="576000"/>
            <a:chOff x="6645240" y="1557360"/>
            <a:chExt cx="2448000" cy="576000"/>
          </a:xfrm>
        </p:grpSpPr>
        <p:sp>
          <p:nvSpPr>
            <p:cNvPr id="108" name="Rectangle 13"/>
            <p:cNvSpPr/>
            <p:nvPr/>
          </p:nvSpPr>
          <p:spPr>
            <a:xfrm>
              <a:off x="6645240" y="1557360"/>
              <a:ext cx="2448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cc00"/>
                  </a:solidFill>
                  <a:latin typeface="Trebuchet MS"/>
                </a:rPr>
                <a:t>b</a:t>
              </a:r>
              <a:r>
                <a:rPr b="1" lang="en-US" sz="2400" spc="-1" strike="noStrike">
                  <a:solidFill>
                    <a:srgbClr val="00cc00"/>
                  </a:solidFill>
                  <a:latin typeface="Trebuchet MS"/>
                </a:rPr>
                <a:t> </a:t>
              </a:r>
              <a:r>
                <a:rPr b="1" lang="en-US" sz="32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</a:t>
              </a:r>
              <a:r>
                <a:rPr b="1" lang="en-US" sz="2400" spc="-1" strike="noStrike">
                  <a:solidFill>
                    <a:srgbClr val="00cc00"/>
                  </a:solidFill>
                  <a:latin typeface="Trebuchet MS"/>
                </a:rPr>
                <a:t> </a:t>
              </a:r>
              <a:r>
                <a:rPr b="1" lang="cs-CZ" sz="2400" spc="-1" strike="noStrike">
                  <a:solidFill>
                    <a:srgbClr val="00cc00"/>
                  </a:solidFill>
                  <a:latin typeface="Trebuchet MS"/>
                </a:rPr>
                <a:t>d</a:t>
              </a:r>
              <a:r>
                <a:rPr b="1" lang="en-US" sz="2400" spc="-1" strike="noStrike">
                  <a:solidFill>
                    <a:srgbClr val="00cc00"/>
                  </a:solidFill>
                  <a:latin typeface="Trebuchet MS"/>
                </a:rPr>
                <a:t> </a:t>
              </a:r>
              <a:r>
                <a:rPr b="1" lang="cs-CZ" sz="2400" spc="-1" strike="noStrike">
                  <a:solidFill>
                    <a:srgbClr val="00cc00"/>
                  </a:solidFill>
                  <a:latin typeface="Trebuchet MS"/>
                </a:rPr>
                <a:t>; BC </a:t>
              </a:r>
              <a:r>
                <a:rPr b="1" lang="en-US" sz="3200" spc="-1" strike="noStrike">
                  <a:solidFill>
                    <a:srgbClr val="00cc00"/>
                  </a:solidFill>
                  <a:latin typeface="Symbol"/>
                  <a:ea typeface="Symbol"/>
                </a:rPr>
                <a:t></a:t>
              </a:r>
              <a:r>
                <a:rPr b="1" lang="cs-CZ" sz="2400" spc="-1" strike="noStrike">
                  <a:solidFill>
                    <a:srgbClr val="00cc00"/>
                  </a:solidFill>
                  <a:latin typeface="Trebuchet MS"/>
                </a:rPr>
                <a:t> DA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4"/>
            <p:cNvSpPr/>
            <p:nvPr/>
          </p:nvSpPr>
          <p:spPr>
            <a:xfrm flipV="1">
              <a:off x="6946920" y="1773000"/>
              <a:ext cx="287280" cy="28728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5"/>
            <p:cNvSpPr/>
            <p:nvPr/>
          </p:nvSpPr>
          <p:spPr>
            <a:xfrm flipV="1">
              <a:off x="8128080" y="1773000"/>
              <a:ext cx="287280" cy="28728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17"/>
          <p:cNvSpPr/>
          <p:nvPr/>
        </p:nvSpPr>
        <p:spPr>
          <a:xfrm flipH="1">
            <a:off x="5795640" y="2060640"/>
            <a:ext cx="1081080" cy="1873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 flipH="1">
            <a:off x="2555640" y="2060640"/>
            <a:ext cx="4321080" cy="19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1265400" y="2378160"/>
            <a:ext cx="6475320" cy="38876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5364000" y="1484280"/>
            <a:ext cx="36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 180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Lich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927000" y="1082520"/>
            <a:ext cx="80377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Součet velikostí úhlů při jednom rameni je vždy 180°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6516720" y="1989000"/>
            <a:ext cx="360360" cy="338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 flipH="1">
            <a:off x="4657320" y="1974960"/>
            <a:ext cx="2233800" cy="1224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928800" y="1441440"/>
            <a:ext cx="60195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Součet velikostí úhlů 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a 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při rameni </a:t>
            </a:r>
            <a:r>
              <a:rPr b="1" i="1" lang="en-US" sz="1800" spc="-1" strike="noStrike">
                <a:solidFill>
                  <a:srgbClr val="284c6a"/>
                </a:solidFill>
                <a:latin typeface="Trebuchet MS"/>
              </a:rPr>
              <a:t>b 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je 180°.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5435640" y="1514520"/>
            <a:ext cx="28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 = 180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3"/>
          <p:cNvSpPr/>
          <p:nvPr/>
        </p:nvSpPr>
        <p:spPr>
          <a:xfrm>
            <a:off x="928800" y="1442880"/>
            <a:ext cx="60195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Součet velikostí úhlů 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a 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při rameni </a:t>
            </a:r>
            <a:r>
              <a:rPr b="1" i="1" lang="en-US" sz="1800" spc="-1" strike="noStrike">
                <a:solidFill>
                  <a:srgbClr val="284c6a"/>
                </a:solidFill>
                <a:latin typeface="Trebuchet MS"/>
              </a:rPr>
              <a:t>d 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je 180°.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4"/>
          <p:cNvSpPr/>
          <p:nvPr/>
        </p:nvSpPr>
        <p:spPr>
          <a:xfrm flipH="1">
            <a:off x="3203640" y="1989000"/>
            <a:ext cx="3168720" cy="1295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5"/>
          <p:cNvSpPr/>
          <p:nvPr/>
        </p:nvSpPr>
        <p:spPr>
          <a:xfrm flipH="1">
            <a:off x="2339640" y="1974960"/>
            <a:ext cx="4551480" cy="33987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5435640" y="1514520"/>
            <a:ext cx="28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 = 180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1" descr=""/>
          <p:cNvPicPr/>
          <p:nvPr/>
        </p:nvPicPr>
        <p:blipFill>
          <a:blip r:embed="rId2"/>
          <a:stretch/>
        </p:blipFill>
        <p:spPr>
          <a:xfrm>
            <a:off x="1265400" y="2378160"/>
            <a:ext cx="6475320" cy="38876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5059440" y="1614600"/>
            <a:ext cx="3155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360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Lich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928800" y="1268280"/>
            <a:ext cx="77770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Součet velikostí všech vnitřních úhlů je 360 stupňů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 flipH="1">
            <a:off x="2050920" y="2133720"/>
            <a:ext cx="3168720" cy="33829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>
            <a:off x="5796000" y="2133720"/>
            <a:ext cx="1008000" cy="345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9"/>
          <p:cNvSpPr/>
          <p:nvPr/>
        </p:nvSpPr>
        <p:spPr>
          <a:xfrm flipH="1">
            <a:off x="4427640" y="2133720"/>
            <a:ext cx="1728720" cy="11509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5"/>
          <p:cNvSpPr/>
          <p:nvPr/>
        </p:nvSpPr>
        <p:spPr>
          <a:xfrm flipH="1">
            <a:off x="2916360" y="2133720"/>
            <a:ext cx="3743280" cy="107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1114560" y="2637000"/>
            <a:ext cx="6913440" cy="37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Lichoběžník a jeho druh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611280" y="822240"/>
            <a:ext cx="8109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rozatím jsme vše opakovali na lichoběžníku, kterému se říká 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obecný lichoběžník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611280" y="1233360"/>
            <a:ext cx="8064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Objevila se tady však už i zmínka o podobnosti s rovnoramenným trojúhelníkem, co se označení stran týká. Podobnost však může být ještě větší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617400" y="1550880"/>
            <a:ext cx="45309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Jakému trojúhelníku říkáme rovnoramenný?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4433760" y="1643040"/>
            <a:ext cx="40989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Takovému, který má dvě strany stejně dlouhé, který má shodná ramena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611280" y="2147760"/>
            <a:ext cx="8064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tento případ může nastat i u lichoběžníku. </a:t>
            </a:r>
            <a:br>
              <a:rPr sz="16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ak mu říkáme 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rovnoramenný lichoběžník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8" descr=""/>
          <p:cNvPicPr/>
          <p:nvPr/>
        </p:nvPicPr>
        <p:blipFill>
          <a:blip r:embed="rId2"/>
          <a:stretch/>
        </p:blipFill>
        <p:spPr>
          <a:xfrm>
            <a:off x="1535040" y="2700360"/>
            <a:ext cx="5989680" cy="36003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9"/>
          <p:cNvSpPr/>
          <p:nvPr/>
        </p:nvSpPr>
        <p:spPr>
          <a:xfrm>
            <a:off x="3691080" y="4465800"/>
            <a:ext cx="17445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Trebuchet MS"/>
              </a:rPr>
              <a:t>b = d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0" descr=""/>
          <p:cNvPicPr/>
          <p:nvPr/>
        </p:nvPicPr>
        <p:blipFill>
          <a:blip r:embed="rId3"/>
          <a:stretch/>
        </p:blipFill>
        <p:spPr>
          <a:xfrm>
            <a:off x="1547640" y="2666880"/>
            <a:ext cx="6043680" cy="362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114560" y="2637000"/>
            <a:ext cx="6913440" cy="371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"/>
          <p:cNvPicPr/>
          <p:nvPr/>
        </p:nvPicPr>
        <p:blipFill>
          <a:blip r:embed="rId2"/>
          <a:stretch/>
        </p:blipFill>
        <p:spPr>
          <a:xfrm>
            <a:off x="1535040" y="2700360"/>
            <a:ext cx="5989680" cy="360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"/>
          <p:cNvPicPr/>
          <p:nvPr/>
        </p:nvPicPr>
        <p:blipFill>
          <a:blip r:embed="rId3"/>
          <a:stretch/>
        </p:blipFill>
        <p:spPr>
          <a:xfrm>
            <a:off x="1535040" y="2703600"/>
            <a:ext cx="5975280" cy="35924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Lichoběžník a jeho druh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611280" y="981000"/>
            <a:ext cx="8109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Rovnoramenný lichoběžník má nejen shodná ramena, ale i dvě dvojice úhlů při obou základnách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611280" y="1989000"/>
            <a:ext cx="8064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 takovém případě mu říkáme 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pravoúhlý lichoběžník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611280" y="1413000"/>
            <a:ext cx="8109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A když už jsme u úhlů, vzpomeňme si ještě na další typ trojúhelníku. Trojúhelník s jedním pravým vnitřním úhlem, kterému říkáme pravoúhlý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611280" y="1758960"/>
            <a:ext cx="8109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I lichoběžník může mít některý z vnitřních úhlů pravý. 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4" descr=""/>
          <p:cNvPicPr/>
          <p:nvPr/>
        </p:nvPicPr>
        <p:blipFill>
          <a:blip r:embed="rId4"/>
          <a:stretch/>
        </p:blipFill>
        <p:spPr>
          <a:xfrm>
            <a:off x="1606680" y="2746440"/>
            <a:ext cx="5918040" cy="35575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5"/>
          <p:cNvSpPr/>
          <p:nvPr/>
        </p:nvSpPr>
        <p:spPr>
          <a:xfrm>
            <a:off x="611280" y="2233440"/>
            <a:ext cx="8064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jak je vidět na obrázku, pravoúhlý lichoběžník má pravé dokonce úhly dva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4360" y="1484280"/>
            <a:ext cx="7920000" cy="486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 nyní již přikročíme ke konstrukci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611280" y="981000"/>
            <a:ext cx="8109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ámi rýsovaný lichoběžník má být rovnoramenný. Podíváme se tedy na vlastnosti rovnoramenného lichoběžníku ještě podrobněji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"/>
          <p:cNvPicPr/>
          <p:nvPr/>
        </p:nvPicPr>
        <p:blipFill>
          <a:blip r:embed="rId2"/>
          <a:stretch/>
        </p:blipFill>
        <p:spPr>
          <a:xfrm>
            <a:off x="1403280" y="1587600"/>
            <a:ext cx="6408720" cy="4689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"/>
          <p:cNvPicPr/>
          <p:nvPr/>
        </p:nvPicPr>
        <p:blipFill>
          <a:blip r:embed="rId3"/>
          <a:stretch/>
        </p:blipFill>
        <p:spPr>
          <a:xfrm>
            <a:off x="1403280" y="1587600"/>
            <a:ext cx="6408720" cy="46893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5"/>
          <p:cNvSpPr/>
          <p:nvPr/>
        </p:nvSpPr>
        <p:spPr>
          <a:xfrm>
            <a:off x="3059280" y="4221000"/>
            <a:ext cx="309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Základny jsou rovnoběžné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6"/>
          <p:cNvSpPr/>
          <p:nvPr/>
        </p:nvSpPr>
        <p:spPr>
          <a:xfrm>
            <a:off x="5580000" y="537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7"/>
          <p:cNvSpPr/>
          <p:nvPr/>
        </p:nvSpPr>
        <p:spPr>
          <a:xfrm>
            <a:off x="5651640" y="537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8"/>
          <p:cNvSpPr/>
          <p:nvPr/>
        </p:nvSpPr>
        <p:spPr>
          <a:xfrm>
            <a:off x="5580000" y="2060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9"/>
          <p:cNvSpPr/>
          <p:nvPr/>
        </p:nvSpPr>
        <p:spPr>
          <a:xfrm>
            <a:off x="5651640" y="2060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2" descr=""/>
          <p:cNvPicPr/>
          <p:nvPr/>
        </p:nvPicPr>
        <p:blipFill>
          <a:blip r:embed="rId4"/>
          <a:stretch/>
        </p:blipFill>
        <p:spPr>
          <a:xfrm>
            <a:off x="1403280" y="1587600"/>
            <a:ext cx="6408720" cy="46893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1"/>
          <p:cNvSpPr/>
          <p:nvPr/>
        </p:nvSpPr>
        <p:spPr>
          <a:xfrm>
            <a:off x="3059280" y="4221000"/>
            <a:ext cx="309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Ramena jsou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stejně dlouhá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3" descr=""/>
          <p:cNvPicPr/>
          <p:nvPr/>
        </p:nvPicPr>
        <p:blipFill>
          <a:blip r:embed="rId5"/>
          <a:stretch/>
        </p:blipFill>
        <p:spPr>
          <a:xfrm rot="17580000">
            <a:off x="735480" y="3116880"/>
            <a:ext cx="4996080" cy="1127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4" descr=""/>
          <p:cNvPicPr/>
          <p:nvPr/>
        </p:nvPicPr>
        <p:blipFill>
          <a:blip r:embed="rId6"/>
          <a:stretch/>
        </p:blipFill>
        <p:spPr>
          <a:xfrm rot="3960000">
            <a:off x="3915360" y="4210560"/>
            <a:ext cx="4995720" cy="11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684360" y="1484280"/>
            <a:ext cx="7920000" cy="486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 nyní již přikročíme ke konstrukci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611280" y="981000"/>
            <a:ext cx="8109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ámi rýsovaný lichoběžník má být rovnoramenný. Podíváme se tedy na vlastnosti rovnoramenného lichoběžníku ještě podrobněji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0" descr=""/>
          <p:cNvPicPr/>
          <p:nvPr/>
        </p:nvPicPr>
        <p:blipFill>
          <a:blip r:embed="rId2"/>
          <a:stretch/>
        </p:blipFill>
        <p:spPr>
          <a:xfrm>
            <a:off x="1474920" y="1587600"/>
            <a:ext cx="6337080" cy="4637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9" descr="protractor0"/>
          <p:cNvPicPr/>
          <p:nvPr/>
        </p:nvPicPr>
        <p:blipFill>
          <a:blip r:embed="rId3"/>
          <a:stretch/>
        </p:blipFill>
        <p:spPr>
          <a:xfrm>
            <a:off x="-438120" y="3382920"/>
            <a:ext cx="4419720" cy="2524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1" descr="protractor0"/>
          <p:cNvPicPr/>
          <p:nvPr/>
        </p:nvPicPr>
        <p:blipFill>
          <a:blip r:embed="rId4"/>
          <a:stretch/>
        </p:blipFill>
        <p:spPr>
          <a:xfrm>
            <a:off x="5248440" y="3386160"/>
            <a:ext cx="4419360" cy="25239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22"/>
          <p:cNvSpPr/>
          <p:nvPr/>
        </p:nvSpPr>
        <p:spPr>
          <a:xfrm>
            <a:off x="2268360" y="5084640"/>
            <a:ext cx="136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=66°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3"/>
          <p:cNvSpPr/>
          <p:nvPr/>
        </p:nvSpPr>
        <p:spPr>
          <a:xfrm>
            <a:off x="5796000" y="5084640"/>
            <a:ext cx="136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=66°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3276720" y="4581360"/>
            <a:ext cx="2663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5" descr=""/>
          <p:cNvPicPr/>
          <p:nvPr/>
        </p:nvPicPr>
        <p:blipFill>
          <a:blip r:embed="rId5"/>
          <a:stretch/>
        </p:blipFill>
        <p:spPr>
          <a:xfrm>
            <a:off x="1474920" y="1587600"/>
            <a:ext cx="6337080" cy="4637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6" descr="protractor0"/>
          <p:cNvPicPr/>
          <p:nvPr/>
        </p:nvPicPr>
        <p:blipFill>
          <a:blip r:embed="rId6"/>
          <a:stretch/>
        </p:blipFill>
        <p:spPr>
          <a:xfrm>
            <a:off x="3849840" y="2017800"/>
            <a:ext cx="4419360" cy="2523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7" descr="protractor0"/>
          <p:cNvPicPr/>
          <p:nvPr/>
        </p:nvPicPr>
        <p:blipFill>
          <a:blip r:embed="rId7"/>
          <a:stretch/>
        </p:blipFill>
        <p:spPr>
          <a:xfrm>
            <a:off x="1014480" y="2017800"/>
            <a:ext cx="4419360" cy="25239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8"/>
          <p:cNvSpPr/>
          <p:nvPr/>
        </p:nvSpPr>
        <p:spPr>
          <a:xfrm>
            <a:off x="5003640" y="2781360"/>
            <a:ext cx="151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=114°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9"/>
          <p:cNvSpPr/>
          <p:nvPr/>
        </p:nvSpPr>
        <p:spPr>
          <a:xfrm>
            <a:off x="2916360" y="2781360"/>
            <a:ext cx="15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=114°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3276720" y="3645000"/>
            <a:ext cx="2663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1" descr=""/>
          <p:cNvPicPr/>
          <p:nvPr/>
        </p:nvPicPr>
        <p:blipFill>
          <a:blip r:embed="rId8"/>
          <a:stretch/>
        </p:blipFill>
        <p:spPr>
          <a:xfrm>
            <a:off x="1474920" y="1587600"/>
            <a:ext cx="6337080" cy="463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Tereza Bížová</cp:lastModifiedBy>
  <dcterms:modified xsi:type="dcterms:W3CDTF">2010-01-29T10:12:14Z</dcterms:modified>
  <cp:revision>130</cp:revision>
  <dc:subject/>
  <dc:title>Konstrukce lichoběžníku 4</dc:title>
</cp:coreProperties>
</file>