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E7A-E4C6-4E3F-94A2-CB46FD9E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27B-734D-4592-B40B-C3199B2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6A0-E0F8-41B3-BED7-C8E4E28A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CF6-1CA0-4C44-83C7-1464224E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987E-6C23-4CBE-A402-1CA6CD48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DE3A-98E8-400C-BE84-2B830374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C3AD-5E4D-4983-8F94-A4B805A2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E474-1010-40B8-AF7A-B0204B17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DDB-328B-4EC8-91D0-73EF57F5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CFB-9F14-4826-AED1-D01885BF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2388-AC1B-420F-9622-BF94230E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9CE-AC68-4E0A-91E0-5B4FB10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2E53-CC90-42DA-9F58-A1DCCB1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6DF0-D499-473E-BEA4-F783D71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20AF-A740-4EBF-843B-BA3245C9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38B5-DA70-4E6F-864E-7859E089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1267-7989-4DCC-AA93-A1DD1355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F71-79BA-48D0-82AF-56EFECC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209-5ECD-42B7-9A0E-B5BA1516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9F9-9F87-4936-B1E3-68955CA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C2F-4B9F-44A0-944B-1EAEAE2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19A-D3C8-4CC6-8B10-99813C4B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EEC-9F16-471C-AFA3-783D161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186-71F6-4916-B740-8BABFA2E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1FA-46FF-4A1A-AC9F-8634526FE918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0154-8940-4EBB-A29D-623845D56F63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alter-fendt.de/m14cz/dreieck_cz.ht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image" Target="../media/image45.png"/><Relationship Id="rId24" Type="http://schemas.openxmlformats.org/officeDocument/2006/relationships/image" Target="../media/image46.png"/><Relationship Id="rId25" Type="http://schemas.openxmlformats.org/officeDocument/2006/relationships/image" Target="../media/image47.png"/><Relationship Id="rId2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Kružnice připsaná trojúhelní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"/>
          <p:cNvPicPr/>
          <p:nvPr/>
        </p:nvPicPr>
        <p:blipFill>
          <a:blip r:embed="rId2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3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Konstrukce kružnice připsané trojúhelníku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yní musíme zjistit ještě poloměr kružnice připsané. Ten je dán vzdáleností středu kružnice a kteréhokoliv z bodů doty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3722760" y="2060280"/>
            <a:ext cx="3095640" cy="432108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1042920" y="3011400"/>
            <a:ext cx="7058160" cy="316872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042920" y="566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156360" y="1989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82560" y="155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inými slovy se jedná o nejkratší vzdálenost bodu a přímky, tzn. kolmou vzdále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4154400" y="3371760"/>
            <a:ext cx="1008000" cy="9352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5156280" y="4264200"/>
            <a:ext cx="96840" cy="968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076720" y="4292640"/>
            <a:ext cx="8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Arial"/>
              </a:rPr>
              <a:t>S</a:t>
            </a:r>
            <a:r>
              <a:rPr b="1" lang="cs-CZ" sz="18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4643280" y="3573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4276800" y="2936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17"/>
          <p:cNvSpPr/>
          <p:nvPr/>
        </p:nvSpPr>
        <p:spPr>
          <a:xfrm rot="2358600">
            <a:off x="4240080" y="3154320"/>
            <a:ext cx="432000" cy="432000"/>
          </a:xfrm>
          <a:prstGeom prst="pie">
            <a:avLst/>
          </a:pr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11280" y="1227240"/>
            <a:ext cx="7921440" cy="51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"/>
          <p:cNvPicPr/>
          <p:nvPr/>
        </p:nvPicPr>
        <p:blipFill>
          <a:blip r:embed="rId1"/>
          <a:stretch/>
        </p:blipFill>
        <p:spPr>
          <a:xfrm>
            <a:off x="1130400" y="1281240"/>
            <a:ext cx="6970680" cy="5027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"/>
          <p:cNvPicPr/>
          <p:nvPr/>
        </p:nvPicPr>
        <p:blipFill>
          <a:blip r:embed="rId2"/>
          <a:stretch/>
        </p:blipFill>
        <p:spPr>
          <a:xfrm>
            <a:off x="1130400" y="1281240"/>
            <a:ext cx="6970680" cy="502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3" descr=""/>
          <p:cNvPicPr/>
          <p:nvPr/>
        </p:nvPicPr>
        <p:blipFill>
          <a:blip r:embed="rId3"/>
          <a:stretch/>
        </p:blipFill>
        <p:spPr>
          <a:xfrm>
            <a:off x="1130400" y="1281240"/>
            <a:ext cx="6970680" cy="5027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611280" y="5475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Př: Sestrojte kružnici připsanou danému trojúhelníku ABC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611280" y="77796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 flipV="1" rot="16210800">
            <a:off x="3950640" y="4423320"/>
            <a:ext cx="1152720" cy="1467000"/>
          </a:xfrm>
          <a:prstGeom prst="pie">
            <a:avLst/>
          </a:pr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77"/>
          <p:cNvSpPr/>
          <p:nvPr/>
        </p:nvSpPr>
        <p:spPr>
          <a:xfrm flipV="1" rot="19506600">
            <a:off x="4154040" y="4149720"/>
            <a:ext cx="1152720" cy="1215720"/>
          </a:xfrm>
          <a:prstGeom prst="pie">
            <a:avLst/>
          </a:pr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78"/>
          <p:cNvSpPr/>
          <p:nvPr/>
        </p:nvSpPr>
        <p:spPr>
          <a:xfrm flipV="1" rot="13038000">
            <a:off x="4439520" y="4163760"/>
            <a:ext cx="1096920" cy="1152360"/>
          </a:xfrm>
          <a:prstGeom prst="pie">
            <a:avLst/>
          </a:pr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79"/>
          <p:cNvSpPr/>
          <p:nvPr/>
        </p:nvSpPr>
        <p:spPr>
          <a:xfrm flipV="1" rot="17494200">
            <a:off x="2241360" y="4821120"/>
            <a:ext cx="1011240" cy="1014480"/>
          </a:xfrm>
          <a:prstGeom prst="pie">
            <a:avLst/>
          </a:pr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80"/>
          <p:cNvSpPr/>
          <p:nvPr/>
        </p:nvSpPr>
        <p:spPr>
          <a:xfrm flipV="1" rot="15355200">
            <a:off x="2670120" y="4438800"/>
            <a:ext cx="1094040" cy="1152360"/>
          </a:xfrm>
          <a:prstGeom prst="pie">
            <a:avLst/>
          </a:pr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81"/>
          <p:cNvSpPr/>
          <p:nvPr/>
        </p:nvSpPr>
        <p:spPr>
          <a:xfrm flipV="1" rot="11694000">
            <a:off x="2869920" y="4695840"/>
            <a:ext cx="1076400" cy="1152720"/>
          </a:xfrm>
          <a:prstGeom prst="pie">
            <a:avLst/>
          </a:prstGeom>
          <a:noFill/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2"/>
          <p:cNvSpPr/>
          <p:nvPr/>
        </p:nvSpPr>
        <p:spPr>
          <a:xfrm flipV="1">
            <a:off x="3780000" y="1341360"/>
            <a:ext cx="3528720" cy="4967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3"/>
          <p:cNvSpPr/>
          <p:nvPr/>
        </p:nvSpPr>
        <p:spPr>
          <a:xfrm flipV="1">
            <a:off x="1042920" y="2997000"/>
            <a:ext cx="6913800" cy="30956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4"/>
          <p:cNvSpPr/>
          <p:nvPr/>
        </p:nvSpPr>
        <p:spPr>
          <a:xfrm>
            <a:off x="900000" y="5603760"/>
            <a:ext cx="48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cs-CZ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516720" y="1557360"/>
            <a:ext cx="48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cs-CZ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091120" y="374976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87"/>
          <p:cNvSpPr/>
          <p:nvPr/>
        </p:nvSpPr>
        <p:spPr>
          <a:xfrm>
            <a:off x="3871800" y="2757600"/>
            <a:ext cx="2874960" cy="287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8"/>
          <p:cNvSpPr/>
          <p:nvPr/>
        </p:nvSpPr>
        <p:spPr>
          <a:xfrm flipH="1" flipV="1">
            <a:off x="2123640" y="1413000"/>
            <a:ext cx="5327640" cy="4680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9"/>
          <p:cNvSpPr/>
          <p:nvPr/>
        </p:nvSpPr>
        <p:spPr>
          <a:xfrm>
            <a:off x="5076720" y="238428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0"/>
          <p:cNvSpPr/>
          <p:nvPr/>
        </p:nvSpPr>
        <p:spPr>
          <a:xfrm>
            <a:off x="2082960" y="14698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1"/>
          <p:cNvSpPr/>
          <p:nvPr/>
        </p:nvSpPr>
        <p:spPr>
          <a:xfrm flipH="1" flipV="1">
            <a:off x="4197240" y="3212640"/>
            <a:ext cx="1067040" cy="979560"/>
          </a:xfrm>
          <a:prstGeom prst="line">
            <a:avLst/>
          </a:prstGeom>
          <a:ln w="572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2"/>
          <p:cNvSpPr/>
          <p:nvPr/>
        </p:nvSpPr>
        <p:spPr>
          <a:xfrm>
            <a:off x="4657680" y="33274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80808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6"/>
          <p:cNvSpPr/>
          <p:nvPr/>
        </p:nvSpPr>
        <p:spPr>
          <a:xfrm>
            <a:off x="3995640" y="278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Zapamatuj si.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971640" y="1282680"/>
            <a:ext cx="7777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tomto místě je vhodné připomenout jedno ze základních pravidel rýsování -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osy rýsujeme čerchovaně (čerchovanou čarou)</a:t>
            </a:r>
            <a:r>
              <a:rPr b="1" lang="cs-CZ" sz="2000" spc="-1" strike="noStrike">
                <a:solidFill>
                  <a:srgbClr val="00206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9"/>
          <p:cNvGrpSpPr/>
          <p:nvPr/>
        </p:nvGrpSpPr>
        <p:grpSpPr>
          <a:xfrm>
            <a:off x="1332000" y="2205000"/>
            <a:ext cx="6408720" cy="4205160"/>
            <a:chOff x="1332000" y="2205000"/>
            <a:chExt cx="6408720" cy="4205160"/>
          </a:xfrm>
        </p:grpSpPr>
        <p:sp>
          <p:nvSpPr>
            <p:cNvPr id="203" name="Rectangle 66"/>
            <p:cNvSpPr/>
            <p:nvPr/>
          </p:nvSpPr>
          <p:spPr>
            <a:xfrm>
              <a:off x="1332000" y="2205000"/>
              <a:ext cx="6408720" cy="420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67" descr=""/>
            <p:cNvPicPr/>
            <p:nvPr/>
          </p:nvPicPr>
          <p:blipFill>
            <a:blip r:embed="rId1"/>
            <a:stretch/>
          </p:blipFill>
          <p:spPr>
            <a:xfrm>
              <a:off x="1752480" y="2249640"/>
              <a:ext cx="5639040" cy="40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68" descr=""/>
            <p:cNvPicPr/>
            <p:nvPr/>
          </p:nvPicPr>
          <p:blipFill>
            <a:blip r:embed="rId2"/>
            <a:stretch/>
          </p:blipFill>
          <p:spPr>
            <a:xfrm>
              <a:off x="1752480" y="2249640"/>
              <a:ext cx="5639040" cy="40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9" descr=""/>
            <p:cNvPicPr/>
            <p:nvPr/>
          </p:nvPicPr>
          <p:blipFill>
            <a:blip r:embed="rId3"/>
            <a:stretch/>
          </p:blipFill>
          <p:spPr>
            <a:xfrm>
              <a:off x="1752480" y="2249640"/>
              <a:ext cx="5639040" cy="40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rc 70"/>
            <p:cNvSpPr/>
            <p:nvPr/>
          </p:nvSpPr>
          <p:spPr>
            <a:xfrm flipV="1" rot="16210800">
              <a:off x="4032360" y="4799520"/>
              <a:ext cx="935280" cy="1187640"/>
            </a:xfrm>
            <a:prstGeom prst="pie">
              <a:avLst/>
            </a:pr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rc 71"/>
            <p:cNvSpPr/>
            <p:nvPr/>
          </p:nvSpPr>
          <p:spPr>
            <a:xfrm flipV="1" rot="19506600">
              <a:off x="4199040" y="4575600"/>
              <a:ext cx="931680" cy="986040"/>
            </a:xfrm>
            <a:prstGeom prst="pie">
              <a:avLst/>
            </a:pr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rc 72"/>
            <p:cNvSpPr/>
            <p:nvPr/>
          </p:nvSpPr>
          <p:spPr>
            <a:xfrm flipV="1" rot="13038000">
              <a:off x="4428720" y="4587480"/>
              <a:ext cx="887400" cy="934920"/>
            </a:xfrm>
            <a:prstGeom prst="pie">
              <a:avLst/>
            </a:pr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rc 73"/>
            <p:cNvSpPr/>
            <p:nvPr/>
          </p:nvSpPr>
          <p:spPr>
            <a:xfrm flipV="1" rot="17494200">
              <a:off x="2649960" y="5121360"/>
              <a:ext cx="819360" cy="821160"/>
            </a:xfrm>
            <a:prstGeom prst="pie">
              <a:avLst/>
            </a:pr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rc 74"/>
            <p:cNvSpPr/>
            <p:nvPr/>
          </p:nvSpPr>
          <p:spPr>
            <a:xfrm flipV="1" rot="15355200">
              <a:off x="2997000" y="4812480"/>
              <a:ext cx="887400" cy="931680"/>
            </a:xfrm>
            <a:prstGeom prst="pie">
              <a:avLst/>
            </a:pr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rc 75"/>
            <p:cNvSpPr/>
            <p:nvPr/>
          </p:nvSpPr>
          <p:spPr>
            <a:xfrm flipV="1" rot="11694000">
              <a:off x="3157920" y="5018760"/>
              <a:ext cx="871920" cy="934920"/>
            </a:xfrm>
            <a:prstGeom prst="pie">
              <a:avLst/>
            </a:pr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6"/>
            <p:cNvSpPr/>
            <p:nvPr/>
          </p:nvSpPr>
          <p:spPr>
            <a:xfrm flipV="1">
              <a:off x="3895560" y="2297160"/>
              <a:ext cx="2854440" cy="403056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77"/>
            <p:cNvSpPr/>
            <p:nvPr/>
          </p:nvSpPr>
          <p:spPr>
            <a:xfrm flipV="1">
              <a:off x="1681200" y="3641760"/>
              <a:ext cx="5592600" cy="251136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78"/>
            <p:cNvSpPr/>
            <p:nvPr/>
          </p:nvSpPr>
          <p:spPr>
            <a:xfrm>
              <a:off x="1565280" y="5661000"/>
              <a:ext cx="395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79"/>
            <p:cNvSpPr/>
            <p:nvPr/>
          </p:nvSpPr>
          <p:spPr>
            <a:xfrm>
              <a:off x="6012000" y="2473200"/>
              <a:ext cx="3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cs-CZ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80"/>
            <p:cNvSpPr/>
            <p:nvPr/>
          </p:nvSpPr>
          <p:spPr>
            <a:xfrm>
              <a:off x="4932360" y="41241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81"/>
            <p:cNvSpPr/>
            <p:nvPr/>
          </p:nvSpPr>
          <p:spPr>
            <a:xfrm>
              <a:off x="3970440" y="3446640"/>
              <a:ext cx="2325600" cy="2331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82"/>
            <p:cNvSpPr/>
            <p:nvPr/>
          </p:nvSpPr>
          <p:spPr>
            <a:xfrm flipH="1" flipV="1">
              <a:off x="2556000" y="2355840"/>
              <a:ext cx="4309920" cy="3797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83"/>
            <p:cNvSpPr/>
            <p:nvPr/>
          </p:nvSpPr>
          <p:spPr>
            <a:xfrm>
              <a:off x="4944960" y="3068640"/>
              <a:ext cx="39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84"/>
            <p:cNvSpPr/>
            <p:nvPr/>
          </p:nvSpPr>
          <p:spPr>
            <a:xfrm>
              <a:off x="2523960" y="2401920"/>
              <a:ext cx="3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5"/>
            <p:cNvSpPr/>
            <p:nvPr/>
          </p:nvSpPr>
          <p:spPr>
            <a:xfrm flipH="1" flipV="1">
              <a:off x="4233960" y="3816000"/>
              <a:ext cx="861840" cy="795240"/>
            </a:xfrm>
            <a:prstGeom prst="line">
              <a:avLst/>
            </a:prstGeom>
            <a:ln w="5724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86"/>
            <p:cNvSpPr/>
            <p:nvPr/>
          </p:nvSpPr>
          <p:spPr>
            <a:xfrm>
              <a:off x="4605480" y="39085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80808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7"/>
            <p:cNvSpPr/>
            <p:nvPr/>
          </p:nvSpPr>
          <p:spPr>
            <a:xfrm>
              <a:off x="4068720" y="3465360"/>
              <a:ext cx="3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21"/>
          <p:cNvSpPr/>
          <p:nvPr/>
        </p:nvSpPr>
        <p:spPr>
          <a:xfrm flipH="1">
            <a:off x="6011640" y="1844640"/>
            <a:ext cx="215640" cy="1297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227640" y="1844640"/>
            <a:ext cx="720720" cy="18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3492360" y="98100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o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o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osa úhlu C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2"/>
          <p:cNvSpPr/>
          <p:nvPr/>
        </p:nvSpPr>
        <p:spPr>
          <a:xfrm>
            <a:off x="3492360" y="1284120"/>
            <a:ext cx="251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6. o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o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osa úhlu CB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5"/>
          <p:cNvSpPr/>
          <p:nvPr/>
        </p:nvSpPr>
        <p:spPr>
          <a:xfrm>
            <a:off x="3492360" y="157320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7. S; S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3490920" y="18604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8. p; p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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e, S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6"/>
          <p:cNvSpPr/>
          <p:nvPr/>
        </p:nvSpPr>
        <p:spPr>
          <a:xfrm>
            <a:off x="6589800" y="9810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9. T; T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7"/>
          <p:cNvSpPr/>
          <p:nvPr/>
        </p:nvSpPr>
        <p:spPr>
          <a:xfrm>
            <a:off x="6589800" y="1254240"/>
            <a:ext cx="21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0. k; k(S; r=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S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13"/>
          <p:cNvGrpSpPr/>
          <p:nvPr/>
        </p:nvGrpSpPr>
        <p:grpSpPr>
          <a:xfrm>
            <a:off x="1116000" y="993600"/>
            <a:ext cx="2519280" cy="287280"/>
            <a:chOff x="1116000" y="993600"/>
            <a:chExt cx="2519280" cy="287280"/>
          </a:xfrm>
        </p:grpSpPr>
        <p:sp>
          <p:nvSpPr>
            <p:cNvPr id="235" name="Rectangle 114"/>
            <p:cNvSpPr/>
            <p:nvPr/>
          </p:nvSpPr>
          <p:spPr>
            <a:xfrm>
              <a:off x="1116000" y="993600"/>
              <a:ext cx="25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1.    ABC (ss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115" descr="trojzn"/>
            <p:cNvPicPr/>
            <p:nvPr/>
          </p:nvPicPr>
          <p:blipFill>
            <a:blip r:embed="rId1"/>
            <a:stretch/>
          </p:blipFill>
          <p:spPr>
            <a:xfrm>
              <a:off x="1455840" y="1064880"/>
              <a:ext cx="142560" cy="14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Rectangle 117"/>
          <p:cNvSpPr/>
          <p:nvPr/>
        </p:nvSpPr>
        <p:spPr>
          <a:xfrm>
            <a:off x="1332000" y="2205000"/>
            <a:ext cx="6408720" cy="42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8" descr=""/>
          <p:cNvPicPr/>
          <p:nvPr/>
        </p:nvPicPr>
        <p:blipFill>
          <a:blip r:embed="rId2"/>
          <a:stretch/>
        </p:blipFill>
        <p:spPr>
          <a:xfrm>
            <a:off x="1752480" y="2249640"/>
            <a:ext cx="5639040" cy="4078080"/>
          </a:xfrm>
          <a:prstGeom prst="rect">
            <a:avLst/>
          </a:prstGeom>
          <a:ln w="0">
            <a:noFill/>
          </a:ln>
        </p:spPr>
      </p:pic>
      <p:sp>
        <p:nvSpPr>
          <p:cNvPr id="239" name="Arc 121"/>
          <p:cNvSpPr/>
          <p:nvPr/>
        </p:nvSpPr>
        <p:spPr>
          <a:xfrm flipV="1" rot="16210800">
            <a:off x="4032360" y="4799520"/>
            <a:ext cx="935280" cy="118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122"/>
          <p:cNvSpPr/>
          <p:nvPr/>
        </p:nvSpPr>
        <p:spPr>
          <a:xfrm flipV="1" rot="19506600">
            <a:off x="4199040" y="4575600"/>
            <a:ext cx="931680" cy="986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123"/>
          <p:cNvSpPr/>
          <p:nvPr/>
        </p:nvSpPr>
        <p:spPr>
          <a:xfrm flipV="1" rot="13038000">
            <a:off x="4428720" y="4587480"/>
            <a:ext cx="887400" cy="93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24"/>
          <p:cNvSpPr/>
          <p:nvPr/>
        </p:nvSpPr>
        <p:spPr>
          <a:xfrm flipV="1" rot="17494200">
            <a:off x="2649960" y="5121360"/>
            <a:ext cx="819360" cy="82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125"/>
          <p:cNvSpPr/>
          <p:nvPr/>
        </p:nvSpPr>
        <p:spPr>
          <a:xfrm flipV="1" rot="15355200">
            <a:off x="2997000" y="4812480"/>
            <a:ext cx="887400" cy="931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126"/>
          <p:cNvSpPr/>
          <p:nvPr/>
        </p:nvSpPr>
        <p:spPr>
          <a:xfrm flipV="1" rot="11694000">
            <a:off x="3157920" y="5018760"/>
            <a:ext cx="871920" cy="93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7"/>
          <p:cNvSpPr/>
          <p:nvPr/>
        </p:nvSpPr>
        <p:spPr>
          <a:xfrm flipV="1">
            <a:off x="3895560" y="2297160"/>
            <a:ext cx="2854440" cy="4030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8"/>
          <p:cNvSpPr/>
          <p:nvPr/>
        </p:nvSpPr>
        <p:spPr>
          <a:xfrm flipV="1">
            <a:off x="1681200" y="3641760"/>
            <a:ext cx="5592600" cy="2511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9"/>
          <p:cNvSpPr/>
          <p:nvPr/>
        </p:nvSpPr>
        <p:spPr>
          <a:xfrm>
            <a:off x="1550880" y="571032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0"/>
          <p:cNvSpPr/>
          <p:nvPr/>
        </p:nvSpPr>
        <p:spPr>
          <a:xfrm>
            <a:off x="6012000" y="2473200"/>
            <a:ext cx="39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1"/>
          <p:cNvSpPr/>
          <p:nvPr/>
        </p:nvSpPr>
        <p:spPr>
          <a:xfrm>
            <a:off x="4946760" y="4243320"/>
            <a:ext cx="3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32"/>
          <p:cNvSpPr/>
          <p:nvPr/>
        </p:nvSpPr>
        <p:spPr>
          <a:xfrm>
            <a:off x="3970440" y="3446640"/>
            <a:ext cx="2325600" cy="2331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3"/>
          <p:cNvSpPr/>
          <p:nvPr/>
        </p:nvSpPr>
        <p:spPr>
          <a:xfrm flipH="1" flipV="1">
            <a:off x="2556000" y="2355840"/>
            <a:ext cx="4309920" cy="37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4"/>
          <p:cNvSpPr/>
          <p:nvPr/>
        </p:nvSpPr>
        <p:spPr>
          <a:xfrm>
            <a:off x="5041800" y="3133800"/>
            <a:ext cx="3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5"/>
          <p:cNvSpPr/>
          <p:nvPr/>
        </p:nvSpPr>
        <p:spPr>
          <a:xfrm>
            <a:off x="2523960" y="24019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8"/>
          <p:cNvSpPr/>
          <p:nvPr/>
        </p:nvSpPr>
        <p:spPr>
          <a:xfrm>
            <a:off x="4068720" y="346536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9"/>
          <p:cNvSpPr/>
          <p:nvPr/>
        </p:nvSpPr>
        <p:spPr>
          <a:xfrm>
            <a:off x="1116000" y="1268280"/>
            <a:ext cx="25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e; AC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0"/>
          <p:cNvSpPr/>
          <p:nvPr/>
        </p:nvSpPr>
        <p:spPr>
          <a:xfrm flipV="1">
            <a:off x="2195640" y="2349000"/>
            <a:ext cx="338292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1"/>
          <p:cNvSpPr/>
          <p:nvPr/>
        </p:nvSpPr>
        <p:spPr>
          <a:xfrm>
            <a:off x="5159520" y="2284560"/>
            <a:ext cx="3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2"/>
          <p:cNvSpPr/>
          <p:nvPr/>
        </p:nvSpPr>
        <p:spPr>
          <a:xfrm>
            <a:off x="1116000" y="155736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f; AB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3"/>
          <p:cNvSpPr/>
          <p:nvPr/>
        </p:nvSpPr>
        <p:spPr>
          <a:xfrm>
            <a:off x="1619280" y="57913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4"/>
          <p:cNvSpPr/>
          <p:nvPr/>
        </p:nvSpPr>
        <p:spPr>
          <a:xfrm>
            <a:off x="7236000" y="5734080"/>
            <a:ext cx="3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45"/>
          <p:cNvSpPr/>
          <p:nvPr/>
        </p:nvSpPr>
        <p:spPr>
          <a:xfrm>
            <a:off x="6121440" y="5776920"/>
            <a:ext cx="42840" cy="42840"/>
          </a:xfrm>
          <a:prstGeom prst="ellipse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6"/>
          <p:cNvSpPr/>
          <p:nvPr/>
        </p:nvSpPr>
        <p:spPr>
          <a:xfrm>
            <a:off x="6012000" y="5805360"/>
            <a:ext cx="30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7"/>
          <p:cNvSpPr/>
          <p:nvPr/>
        </p:nvSpPr>
        <p:spPr>
          <a:xfrm>
            <a:off x="1116000" y="18604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D; D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116000" y="2637000"/>
            <a:ext cx="820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A na závěr ještě něco naví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619280" y="3573360"/>
            <a:ext cx="662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"/>
              </a:rPr>
              <a:t>Ukázka č. 1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spusť odkaz a vyber „kružnice připsané“).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Můžeš pohybovat vrcholy trojúhelníku a sledovat, jak se mění kružnice připsané v závislosti na tvaru a velikosti trojúhelníku.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Co můžete říci o velikosti kružnice v závislosti na velikosti strany trojúhelníku, které se dotýk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1079640" y="1125360"/>
            <a:ext cx="781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Konstrukci si proveďte do sešitu. </a:t>
            </a:r>
            <a:br>
              <a:rPr sz="2800"/>
            </a:b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Tady se ukáže, kdo umí přesně rýsov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0920" y="44280"/>
            <a:ext cx="8281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nstrukce kružnic připsaných trojúhelníku krok za krokem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828720" y="851040"/>
            <a:ext cx="7561080" cy="55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8" descr=""/>
          <p:cNvPicPr/>
          <p:nvPr/>
        </p:nvPicPr>
        <p:blipFill>
          <a:blip r:embed="rId1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9" descr=""/>
          <p:cNvPicPr/>
          <p:nvPr/>
        </p:nvPicPr>
        <p:blipFill>
          <a:blip r:embed="rId2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0" descr=""/>
          <p:cNvPicPr/>
          <p:nvPr/>
        </p:nvPicPr>
        <p:blipFill>
          <a:blip r:embed="rId3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1" descr=""/>
          <p:cNvPicPr/>
          <p:nvPr/>
        </p:nvPicPr>
        <p:blipFill>
          <a:blip r:embed="rId4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2" descr=""/>
          <p:cNvPicPr/>
          <p:nvPr/>
        </p:nvPicPr>
        <p:blipFill>
          <a:blip r:embed="rId5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3" descr=""/>
          <p:cNvPicPr/>
          <p:nvPr/>
        </p:nvPicPr>
        <p:blipFill>
          <a:blip r:embed="rId6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4" descr=""/>
          <p:cNvPicPr/>
          <p:nvPr/>
        </p:nvPicPr>
        <p:blipFill>
          <a:blip r:embed="rId7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5" descr=""/>
          <p:cNvPicPr/>
          <p:nvPr/>
        </p:nvPicPr>
        <p:blipFill>
          <a:blip r:embed="rId8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6" descr=""/>
          <p:cNvPicPr/>
          <p:nvPr/>
        </p:nvPicPr>
        <p:blipFill>
          <a:blip r:embed="rId9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7" descr=""/>
          <p:cNvPicPr/>
          <p:nvPr/>
        </p:nvPicPr>
        <p:blipFill>
          <a:blip r:embed="rId10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8" descr=""/>
          <p:cNvPicPr/>
          <p:nvPr/>
        </p:nvPicPr>
        <p:blipFill>
          <a:blip r:embed="rId11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9" descr=""/>
          <p:cNvPicPr/>
          <p:nvPr/>
        </p:nvPicPr>
        <p:blipFill>
          <a:blip r:embed="rId12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0" descr=""/>
          <p:cNvPicPr/>
          <p:nvPr/>
        </p:nvPicPr>
        <p:blipFill>
          <a:blip r:embed="rId13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1" descr=""/>
          <p:cNvPicPr/>
          <p:nvPr/>
        </p:nvPicPr>
        <p:blipFill>
          <a:blip r:embed="rId14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2" descr=""/>
          <p:cNvPicPr/>
          <p:nvPr/>
        </p:nvPicPr>
        <p:blipFill>
          <a:blip r:embed="rId15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3" descr=""/>
          <p:cNvPicPr/>
          <p:nvPr/>
        </p:nvPicPr>
        <p:blipFill>
          <a:blip r:embed="rId16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4" descr=""/>
          <p:cNvPicPr/>
          <p:nvPr/>
        </p:nvPicPr>
        <p:blipFill>
          <a:blip r:embed="rId17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5" descr=""/>
          <p:cNvPicPr/>
          <p:nvPr/>
        </p:nvPicPr>
        <p:blipFill>
          <a:blip r:embed="rId18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6" descr=""/>
          <p:cNvPicPr/>
          <p:nvPr/>
        </p:nvPicPr>
        <p:blipFill>
          <a:blip r:embed="rId19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7" descr=""/>
          <p:cNvPicPr/>
          <p:nvPr/>
        </p:nvPicPr>
        <p:blipFill>
          <a:blip r:embed="rId20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8" descr=""/>
          <p:cNvPicPr/>
          <p:nvPr/>
        </p:nvPicPr>
        <p:blipFill>
          <a:blip r:embed="rId21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9" descr=""/>
          <p:cNvPicPr/>
          <p:nvPr/>
        </p:nvPicPr>
        <p:blipFill>
          <a:blip r:embed="rId22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0" descr=""/>
          <p:cNvPicPr/>
          <p:nvPr/>
        </p:nvPicPr>
        <p:blipFill>
          <a:blip r:embed="rId23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1" descr=""/>
          <p:cNvPicPr/>
          <p:nvPr/>
        </p:nvPicPr>
        <p:blipFill>
          <a:blip r:embed="rId24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2" descr=""/>
          <p:cNvPicPr/>
          <p:nvPr/>
        </p:nvPicPr>
        <p:blipFill>
          <a:blip r:embed="rId25"/>
          <a:stretch/>
        </p:blipFill>
        <p:spPr>
          <a:xfrm>
            <a:off x="914400" y="960480"/>
            <a:ext cx="7315200" cy="52768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63"/>
          <p:cNvSpPr/>
          <p:nvPr/>
        </p:nvSpPr>
        <p:spPr>
          <a:xfrm>
            <a:off x="1042920" y="364500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cc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16000" y="2997360"/>
            <a:ext cx="68407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eji hodně přesnosti </a:t>
            </a:r>
            <a:br>
              <a:rPr sz="4000"/>
            </a:b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i rýsování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9" descr=""/>
          <p:cNvPicPr/>
          <p:nvPr/>
        </p:nvPicPr>
        <p:blipFill>
          <a:blip r:embed="rId1"/>
          <a:stretch/>
        </p:blipFill>
        <p:spPr>
          <a:xfrm>
            <a:off x="1116000" y="1465200"/>
            <a:ext cx="6753240" cy="487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při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připsaná je taková kružnice, která se dotýká jedné strany a přímek, na nichž leží zbývající strany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5"/>
          <p:cNvSpPr/>
          <p:nvPr/>
        </p:nvSpPr>
        <p:spPr>
          <a:xfrm>
            <a:off x="1042920" y="1341360"/>
            <a:ext cx="2737080" cy="3167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2050920" y="1341360"/>
            <a:ext cx="309744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>
            <a:off x="2050920" y="1341360"/>
            <a:ext cx="2016360" cy="1727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1"/>
          <a:stretch/>
        </p:blipFill>
        <p:spPr>
          <a:xfrm>
            <a:off x="1116000" y="1457280"/>
            <a:ext cx="6826320" cy="4924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při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připsaná je taková kružnice, která se dotýká jedné strany a přímek, na nichž leží zbývající strany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042920" y="1341360"/>
            <a:ext cx="4753080" cy="3743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2050920" y="1341360"/>
            <a:ext cx="1944720" cy="468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050920" y="1341360"/>
            <a:ext cx="3961080" cy="1727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1389240" y="1468440"/>
            <a:ext cx="6249960" cy="4883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při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připsaná je taková kružnice, která se dotýká jedné strany a přímek, na nichž leží zbývající strany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042920" y="1341360"/>
            <a:ext cx="3241800" cy="187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050920" y="1341360"/>
            <a:ext cx="936720" cy="2448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050920" y="1341360"/>
            <a:ext cx="3816360" cy="2951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71400" y="1417680"/>
            <a:ext cx="778824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při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připsaná je taková kružnice, která se dotýká jedné strany a přímek, na nichž leží zbývající strany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1203480" y="1479600"/>
            <a:ext cx="6753240" cy="4871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1385640" y="3860640"/>
            <a:ext cx="20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Konstrukce kružnice připsané trojúhelníku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ším úkolem při konstrukci kružnice připsané trojúhelníku je nalezení středu této kružnice a následně jejího polomě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1116000" y="1465200"/>
            <a:ext cx="6753240" cy="4872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0"/>
          <p:cNvSpPr/>
          <p:nvPr/>
        </p:nvSpPr>
        <p:spPr>
          <a:xfrm>
            <a:off x="682560" y="1484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ycházejme z toho, že se kružnice má dotýkat tří stran, respektive přímek, na kterých strany lež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059280" y="2133720"/>
            <a:ext cx="1441440" cy="41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1332000" y="2133360"/>
            <a:ext cx="3671640" cy="41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755640" y="544500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2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3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4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"/>
          <p:cNvPicPr/>
          <p:nvPr/>
        </p:nvPicPr>
        <p:blipFill>
          <a:blip r:embed="rId5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Konstrukce kružnice připsané trojúhelníku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jednodušíme si nejdříve úlohu tak, abychom nalezli množinu středů všech kružnic, které se budou dotýkat jen dvou přím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82560" y="1484280"/>
            <a:ext cx="73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o je tedy množinou středů všech kružnic dotýkajících se obou daných přímek procházejících stranami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2957400" y="2133720"/>
            <a:ext cx="1441440" cy="41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1576440" y="2131920"/>
            <a:ext cx="3672000" cy="417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900000" y="57340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684360" y="242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Je to přímka o</a:t>
            </a:r>
            <a:r>
              <a:rPr b="1" lang="cs-CZ" sz="20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- osa úhlu C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8"/>
          <p:cNvSpPr/>
          <p:nvPr/>
        </p:nvSpPr>
        <p:spPr>
          <a:xfrm flipV="1">
            <a:off x="1042920" y="3011400"/>
            <a:ext cx="7058160" cy="316872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"/>
          <p:cNvPicPr/>
          <p:nvPr/>
        </p:nvPicPr>
        <p:blipFill>
          <a:blip r:embed="rId1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"/>
          <p:cNvPicPr/>
          <p:nvPr/>
        </p:nvPicPr>
        <p:blipFill>
          <a:blip r:embed="rId2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"/>
          <p:cNvPicPr/>
          <p:nvPr/>
        </p:nvPicPr>
        <p:blipFill>
          <a:blip r:embed="rId3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4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2" descr=""/>
          <p:cNvPicPr/>
          <p:nvPr/>
        </p:nvPicPr>
        <p:blipFill>
          <a:blip r:embed="rId5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Konstrukce kružnice připsané trojúhelníku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bdobně zjistěme, co je množinou středů všech kružnic, které se budou dotýkat přímek procházejících stranami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682560" y="1484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o je tedy množinou středů všech kružnic dotýkajících se obou daných přímek procházejících stranami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2957400" y="2133720"/>
            <a:ext cx="1441440" cy="417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1576440" y="2131920"/>
            <a:ext cx="3672000" cy="417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900000" y="5734080"/>
            <a:ext cx="720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684360" y="242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Je to přímka o</a:t>
            </a:r>
            <a:r>
              <a:rPr b="1" lang="cs-CZ" sz="20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- osa úhlu CB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3722760" y="2060280"/>
            <a:ext cx="3095640" cy="432108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71400" y="1417680"/>
            <a:ext cx="763272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130400" y="1457280"/>
            <a:ext cx="6826320" cy="4924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284c6a"/>
                </a:solidFill>
                <a:latin typeface="Trebuchet MS"/>
              </a:rPr>
              <a:t>Konstrukce kružnice připsané trojúhelníku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6520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třed námi konstruované kružnice připsané trojúhelníku tedy leží v průsečíku námi sestrojených os daných úhl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 flipV="1">
            <a:off x="3722760" y="2060280"/>
            <a:ext cx="3095640" cy="432108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 flipV="1">
            <a:off x="1042920" y="3011400"/>
            <a:ext cx="7058160" cy="316872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042920" y="5661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6156360" y="1989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9"/>
          <p:cNvSpPr/>
          <p:nvPr/>
        </p:nvSpPr>
        <p:spPr>
          <a:xfrm>
            <a:off x="5156280" y="4264200"/>
            <a:ext cx="96840" cy="968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076720" y="4292640"/>
            <a:ext cx="8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Arial"/>
              </a:rPr>
              <a:t>S</a:t>
            </a:r>
            <a:r>
              <a:rPr b="1" lang="cs-CZ" sz="1800" spc="-1" strike="noStrike" baseline="-25000">
                <a:solidFill>
                  <a:srgbClr val="00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/>
  <dcterms:modified xsi:type="dcterms:W3CDTF">2009-04-03T22:07:07Z</dcterms:modified>
  <cp:revision>139</cp:revision>
  <dc:subject/>
  <dc:title>Konstrukce kružnice trojúhelníku připsané</dc:title>
</cp:coreProperties>
</file>