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D2C-D70F-4B45-858F-C60C0C63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B4C-5AF0-4C1B-8171-846CB690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181-14B6-4A7B-AD2F-2BA15E72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86B-B2E7-49CB-8086-832E5634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87C4-0322-49A1-8FC8-FC19A2A9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3280-E764-40EE-873A-DCA370D3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A2E9-C390-47C8-827F-CD417890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1633-2357-41B1-A625-B9DD81A7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0670-3638-426E-88EF-1C813098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6A1F-7BC8-4C3C-8C76-2D0E2C07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CAE8-B95B-4849-A0C0-68A80FBE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CA9-ADBF-483A-B125-F473EF1A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E7B6-5974-4C86-B0B4-DB31D87D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6ECB-2DAC-48B6-AC8E-04A00309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62D8-1EB5-45DF-86DF-E34CB891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15B7-1AC7-4A7E-AE4D-272F8941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4FD5-8232-4F4F-906B-F9B81927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4D5-B05E-4507-A514-7C03A64E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1C7-AC71-42B6-A4BC-BD126A20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C43-24BD-4ED0-9FE3-6D6AE3F5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D78-8B14-4A88-A2A7-5995A0CF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5C8-E879-4FAB-BB9E-C7D1BA38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DD4-9EC9-494D-986D-2F9E8CE3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EBA-08B6-412A-9B70-4F8A41B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2215-C850-402C-80E8-24D8ECCD3A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16F7-63A3-4C44-AA40-8F319627883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sočtverce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obě jeho úhlopříč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rovnoběžník ABCD, známe-li úhlopříčk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71440" y="1325520"/>
            <a:ext cx="6280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 u = 12 cm, v = 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362240" y="2162160"/>
            <a:ext cx="6419520" cy="3571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362240" y="2162160"/>
            <a:ext cx="6419520" cy="3571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1362240" y="2162160"/>
            <a:ext cx="6419520" cy="3571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1362240" y="2162160"/>
            <a:ext cx="6419520" cy="3571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1362240" y="2162160"/>
            <a:ext cx="6419520" cy="3571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1362240" y="2162160"/>
            <a:ext cx="6419520" cy="3571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1362240" y="2162160"/>
            <a:ext cx="6419520" cy="3571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tretch/>
        </p:blipFill>
        <p:spPr>
          <a:xfrm>
            <a:off x="1362240" y="2162160"/>
            <a:ext cx="6419520" cy="3571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0"/>
          <a:stretch/>
        </p:blipFill>
        <p:spPr>
          <a:xfrm>
            <a:off x="1362240" y="2162160"/>
            <a:ext cx="6419520" cy="3571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1"/>
          <a:stretch/>
        </p:blipFill>
        <p:spPr>
          <a:xfrm>
            <a:off x="1362240" y="2162160"/>
            <a:ext cx="6419520" cy="3571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2"/>
          <a:stretch/>
        </p:blipFill>
        <p:spPr>
          <a:xfrm>
            <a:off x="1362240" y="2162160"/>
            <a:ext cx="6419520" cy="3571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3"/>
          <a:stretch/>
        </p:blipFill>
        <p:spPr>
          <a:xfrm>
            <a:off x="1362240" y="2162160"/>
            <a:ext cx="6419520" cy="3571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4"/>
          <a:stretch/>
        </p:blipFill>
        <p:spPr>
          <a:xfrm>
            <a:off x="1362240" y="2162160"/>
            <a:ext cx="641952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9" name="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běžník EFGH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71440" y="1325520"/>
            <a:ext cx="6280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)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G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7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FH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11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290600" y="1757520"/>
            <a:ext cx="6377040" cy="4532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290600" y="1757520"/>
            <a:ext cx="6377040" cy="4532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1290600" y="1757520"/>
            <a:ext cx="6377040" cy="45320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1290600" y="1757520"/>
            <a:ext cx="6377040" cy="4532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1290600" y="1757520"/>
            <a:ext cx="6377040" cy="4532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1290600" y="1757520"/>
            <a:ext cx="6377040" cy="45320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1290600" y="1757520"/>
            <a:ext cx="6377040" cy="45320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1290600" y="1757520"/>
            <a:ext cx="6377040" cy="4532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1290600" y="1757520"/>
            <a:ext cx="6377040" cy="4532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1290600" y="1757520"/>
            <a:ext cx="6377040" cy="4532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1290600" y="1757520"/>
            <a:ext cx="6377040" cy="4532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1290600" y="1757520"/>
            <a:ext cx="6377040" cy="4532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4"/>
          <a:stretch/>
        </p:blipFill>
        <p:spPr>
          <a:xfrm>
            <a:off x="1290600" y="1757520"/>
            <a:ext cx="6377040" cy="45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42920" y="1989000"/>
            <a:ext cx="698508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eji Vám mnoho přesnosti </a:t>
            </a:r>
            <a:br>
              <a:rPr sz="3600"/>
            </a:b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 rot="662400">
            <a:off x="4284360" y="2276280"/>
            <a:ext cx="3367080" cy="3717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389240" y="4498920"/>
            <a:ext cx="53434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osočtverec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017800"/>
            <a:ext cx="6913800" cy="429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27000" y="1197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Kosočtverec je čtyřúhelník, přesněji rovnostranný rovnoběžník. To znamená, že má všechny strany stejně dlouhé, protější rovnoběžné, avšak na rozdíl od čtverce nesvírají pravý úh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4183200" cy="3946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273320" y="2401920"/>
            <a:ext cx="5732280" cy="3790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551560" y="3500280"/>
            <a:ext cx="290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Čtvere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08360" y="4292640"/>
            <a:ext cx="47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a=b=c=d; a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c, b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27560" y="3500280"/>
            <a:ext cx="413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Kosočtvere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292640"/>
            <a:ext cx="47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a=b=c=d; a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c, b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19560" y="5013360"/>
            <a:ext cx="334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=9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5315040"/>
            <a:ext cx="48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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90° 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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9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24360" y="3573360"/>
            <a:ext cx="391932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258920" y="2133720"/>
            <a:ext cx="2879640" cy="2716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95640" y="2421000"/>
            <a:ext cx="227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Čtv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4080" y="5300640"/>
            <a:ext cx="227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Kosočtve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68520" y="2424240"/>
            <a:ext cx="5811840" cy="384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79800" y="1630440"/>
            <a:ext cx="416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B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DA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24440" y="1628640"/>
            <a:ext cx="43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AB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C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osočtverec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6" name=""/>
          <p:cNvSpPr/>
          <p:nvPr/>
        </p:nvSpPr>
        <p:spPr>
          <a:xfrm>
            <a:off x="927000" y="122544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ější úhly rovnoběžníku mají stejnou velikost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24000" y="2205000"/>
            <a:ext cx="439272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6720" y="2205000"/>
            <a:ext cx="216000" cy="86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708000" y="2205000"/>
            <a:ext cx="2808360" cy="86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219280" y="2205000"/>
            <a:ext cx="129708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568520" y="2424240"/>
            <a:ext cx="5811840" cy="3843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43280" y="1700280"/>
            <a:ext cx="51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59440" y="1657440"/>
            <a:ext cx="3155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osočtverec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927000" y="108252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oučet velikostí sousedních vnitřních úhlů je 180 stupň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123640" y="2205000"/>
            <a:ext cx="86364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2205000"/>
            <a:ext cx="1584360" cy="338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8720" y="2205000"/>
            <a:ext cx="1079640" cy="338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5080" y="2205000"/>
            <a:ext cx="215892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8800" y="1486080"/>
            <a:ext cx="777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oučet velikostí všech vnitřních úhlů je 360 stupň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123640" y="2133720"/>
            <a:ext cx="3095640" cy="3527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148000" y="2205000"/>
            <a:ext cx="647640" cy="338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708000" y="2133720"/>
            <a:ext cx="3024360" cy="934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7960" y="2190600"/>
            <a:ext cx="301680" cy="8067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91120" y="2233440"/>
            <a:ext cx="1641600" cy="835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708000" y="2162160"/>
            <a:ext cx="1900440" cy="835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708000" y="2190600"/>
            <a:ext cx="2390760" cy="8780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123640" y="2190600"/>
            <a:ext cx="4551480" cy="35434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39800" y="2424240"/>
            <a:ext cx="5811840" cy="384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14400" y="1197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ůsečík úhlopříček je středem souměrnosti rovnoběžníku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99200" y="164304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S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00640" y="164448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S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osočtverec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83664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hlopříčky se navzájem půlí.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1341360"/>
            <a:ext cx="129564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1341360"/>
            <a:ext cx="2016360" cy="223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1628640"/>
            <a:ext cx="289080" cy="2376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002680" y="4354920"/>
            <a:ext cx="2511360" cy="147240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16920" y="2894400"/>
            <a:ext cx="2480040" cy="146556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2560" y="1432080"/>
            <a:ext cx="36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56440" y="163980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S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164304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S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1427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10440" y="4355640"/>
            <a:ext cx="832320" cy="143604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78480" y="2895840"/>
            <a:ext cx="848880" cy="148068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5858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hlopříčky jsou na sebe kolmé (svírají pravý úhel).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639800" y="2424240"/>
            <a:ext cx="5811840" cy="38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14400" y="13842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ákladem při této konstrukci bude znalost vlastností úhlopříček kosočtver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Sestrojte kosočtverec ABCD, je-li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AC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=10 cm,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BD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=6 cm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98760" y="3155760"/>
            <a:ext cx="4070160" cy="2471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440" y="3170160"/>
            <a:ext cx="1440000" cy="2448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403380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44520" y="1614600"/>
            <a:ext cx="7777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.) Úhlopříčky kosočtverce jsou na sebe kolm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58920" y="18302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) Úhlopříčky kosočtverce se vzájemně půl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13120" y="3664080"/>
            <a:ext cx="1441080" cy="14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0" y="16308"/>
                </a:moveTo>
                <a:arcTo wR="10800" hR="10800" stAng="8960306" swAng="5276017"/>
                <a:lnTo>
                  <a:pt x="10800" y="10800"/>
                </a:lnTo>
                <a:close/>
              </a:path>
              <a:path fill="none" w="21600" h="21600">
                <a:moveTo>
                  <a:pt x="1510" y="16308"/>
                </a:moveTo>
                <a:arcTo wR="10800" hR="10800" stAng="8960306" swAng="5276017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4340000">
            <a:off x="3498480" y="3996720"/>
            <a:ext cx="142920" cy="2318040"/>
          </a:xfrm>
          <a:custGeom>
            <a:avLst/>
            <a:gdLst>
              <a:gd name="textAreaLeft" fmla="*/ 91440 w 142920"/>
              <a:gd name="textAreaRight" fmla="*/ 143280 w 142920"/>
              <a:gd name="textAreaTop" fmla="*/ 60120 h 2318040"/>
              <a:gd name="textAreaBottom" fmla="*/ 2257920 h 231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4"/>
                </a:lnTo>
                <a:cubicBezTo>
                  <a:pt x="10800" y="9724"/>
                  <a:pt x="5400" y="10624"/>
                  <a:pt x="0" y="10624"/>
                </a:cubicBezTo>
                <a:cubicBezTo>
                  <a:pt x="5400" y="10624"/>
                  <a:pt x="10800" y="11524"/>
                  <a:pt x="10800" y="1242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4340000">
            <a:off x="5573520" y="2745720"/>
            <a:ext cx="142920" cy="2317680"/>
          </a:xfrm>
          <a:custGeom>
            <a:avLst/>
            <a:gdLst>
              <a:gd name="textAreaLeft" fmla="*/ 91440 w 142920"/>
              <a:gd name="textAreaRight" fmla="*/ 143280 w 142920"/>
              <a:gd name="textAreaTop" fmla="*/ 60120 h 2317680"/>
              <a:gd name="textAreaBottom" fmla="*/ 2257560 h 231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4"/>
                </a:lnTo>
                <a:cubicBezTo>
                  <a:pt x="10800" y="9724"/>
                  <a:pt x="5400" y="10624"/>
                  <a:pt x="0" y="10624"/>
                </a:cubicBezTo>
                <a:cubicBezTo>
                  <a:pt x="5400" y="10624"/>
                  <a:pt x="10800" y="11524"/>
                  <a:pt x="10800" y="1242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78320" y="51944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51560" y="39481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8940000">
            <a:off x="4974840" y="4264200"/>
            <a:ext cx="85680" cy="1396800"/>
          </a:xfrm>
          <a:custGeom>
            <a:avLst/>
            <a:gdLst>
              <a:gd name="textAreaLeft" fmla="*/ 54720 w 85680"/>
              <a:gd name="textAreaRight" fmla="*/ 86040 w 85680"/>
              <a:gd name="textAreaTop" fmla="*/ 36360 h 1396800"/>
              <a:gd name="textAreaBottom" fmla="*/ 1360440 h 139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4"/>
                </a:lnTo>
                <a:cubicBezTo>
                  <a:pt x="10800" y="9724"/>
                  <a:pt x="5400" y="10624"/>
                  <a:pt x="0" y="10624"/>
                </a:cubicBezTo>
                <a:cubicBezTo>
                  <a:pt x="5400" y="10624"/>
                  <a:pt x="10800" y="11524"/>
                  <a:pt x="10800" y="1242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940000">
            <a:off x="4217760" y="2994120"/>
            <a:ext cx="85680" cy="1396800"/>
          </a:xfrm>
          <a:custGeom>
            <a:avLst/>
            <a:gdLst>
              <a:gd name="textAreaLeft" fmla="*/ 54720 w 85680"/>
              <a:gd name="textAreaRight" fmla="*/ 86040 w 85680"/>
              <a:gd name="textAreaTop" fmla="*/ 36360 h 1396800"/>
              <a:gd name="textAreaBottom" fmla="*/ 1360440 h 139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4"/>
                </a:lnTo>
                <a:cubicBezTo>
                  <a:pt x="10800" y="9724"/>
                  <a:pt x="5400" y="10624"/>
                  <a:pt x="0" y="10624"/>
                </a:cubicBezTo>
                <a:cubicBezTo>
                  <a:pt x="5400" y="10624"/>
                  <a:pt x="10800" y="11524"/>
                  <a:pt x="10800" y="1242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54480" y="3400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5440" y="4660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00000" y="90792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ákladem je, jak již bylo řečeno, kolmost úhlopříček a jejich vzájemné půlení. Začneme tedy dvěma na sebe kolmými přímkami, v jejichž průsečíku leží střed souměrnosti kosočtver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48428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ásleduje sestrojení dvou kružnic se středy ve středu souměrnosti a poloměry rovnajícími se polovinám úhlopříč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835280" y="2622240"/>
            <a:ext cx="568944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92360" y="566100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9560" y="2421000"/>
            <a:ext cx="237636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237168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84800" y="39765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44880" y="2008080"/>
            <a:ext cx="4771080" cy="477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28" y="19132"/>
                </a:moveTo>
                <a:arcTo wR="10800" hR="10800" stAng="7770853" swAng="6034666"/>
                <a:lnTo>
                  <a:pt x="10800" y="10800"/>
                </a:lnTo>
                <a:close/>
              </a:path>
              <a:path fill="none" w="21600" h="21600">
                <a:moveTo>
                  <a:pt x="3928" y="19132"/>
                </a:moveTo>
                <a:arcTo wR="10800" hR="10800" stAng="7770853" swAng="603466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156800">
            <a:off x="2150640" y="2027520"/>
            <a:ext cx="4771800" cy="477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21" y="18292"/>
                </a:moveTo>
                <a:arcTo wR="10800" hR="10800" stAng="8164549" swAng="6302473"/>
                <a:lnTo>
                  <a:pt x="10800" y="10800"/>
                </a:lnTo>
                <a:close/>
              </a:path>
              <a:path fill="none" w="21600" h="21600">
                <a:moveTo>
                  <a:pt x="3021" y="18292"/>
                </a:moveTo>
                <a:arcTo wR="10800" hR="10800" stAng="8164549" swAng="630247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2637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98880" y="2964960"/>
            <a:ext cx="2868120" cy="287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27" y="21595"/>
                </a:moveTo>
                <a:arcTo wR="10800" hR="10800" stAng="5295744" swAng="10803633"/>
                <a:lnTo>
                  <a:pt x="10800" y="10800"/>
                </a:lnTo>
                <a:close/>
              </a:path>
              <a:path fill="none" w="21600" h="21600">
                <a:moveTo>
                  <a:pt x="11127" y="21595"/>
                </a:moveTo>
                <a:arcTo wR="10800" hR="10800" stAng="5295744" swAng="108036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3086640" y="2961000"/>
            <a:ext cx="2868120" cy="287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89" y="21600"/>
                </a:moveTo>
                <a:arcTo wR="10800" hR="10800" stAng="5371671" swAng="10864335"/>
                <a:lnTo>
                  <a:pt x="10800" y="10800"/>
                </a:lnTo>
                <a:close/>
              </a:path>
              <a:path fill="none" w="21600" h="21600">
                <a:moveTo>
                  <a:pt x="10889" y="21600"/>
                </a:moveTo>
                <a:arcTo wR="10800" hR="10800" stAng="5371671" swAng="108643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5080" y="32367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5632560"/>
            <a:ext cx="2779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94040" y="3170160"/>
            <a:ext cx="277992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278320" y="3170160"/>
            <a:ext cx="1295640" cy="24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484360" y="3184560"/>
            <a:ext cx="1295640" cy="24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28800" y="191772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 průsečících kružnic a příslušných úhlopříček leží vrcholy kosočtver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0080" y="559764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0480" y="3141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49880" y="5584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65600" y="31417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956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.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4. k; k(S; 1/2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C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5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5. l; l(S; 1/2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BD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3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84840" y="13255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A,C; A,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84840" y="1627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. B,D; B,D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q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848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. Kosočtverec AB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1325520"/>
            <a:ext cx="4321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 q; q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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1627200"/>
            <a:ext cx="3097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S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q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835280" y="2636640"/>
            <a:ext cx="568944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66100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19560" y="2421000"/>
            <a:ext cx="237636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9640" y="237168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84800" y="39765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44880" y="2008080"/>
            <a:ext cx="4771080" cy="477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28" y="19132"/>
                </a:moveTo>
                <a:arcTo wR="10800" hR="10800" stAng="7770853" swAng="6034666"/>
                <a:lnTo>
                  <a:pt x="10800" y="10800"/>
                </a:lnTo>
                <a:close/>
              </a:path>
              <a:path fill="none" w="21600" h="21600">
                <a:moveTo>
                  <a:pt x="3928" y="19132"/>
                </a:moveTo>
                <a:arcTo wR="10800" hR="10800" stAng="7770853" swAng="603466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156800">
            <a:off x="2150640" y="2027520"/>
            <a:ext cx="4771800" cy="477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21" y="18292"/>
                </a:moveTo>
                <a:arcTo wR="10800" hR="10800" stAng="8164549" swAng="6302473"/>
                <a:lnTo>
                  <a:pt x="10800" y="10800"/>
                </a:lnTo>
                <a:close/>
              </a:path>
              <a:path fill="none" w="21600" h="21600">
                <a:moveTo>
                  <a:pt x="3021" y="18292"/>
                </a:moveTo>
                <a:arcTo wR="10800" hR="10800" stAng="8164549" swAng="630247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2637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98880" y="2964960"/>
            <a:ext cx="2868120" cy="287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27" y="21595"/>
                </a:moveTo>
                <a:arcTo wR="10800" hR="10800" stAng="5295744" swAng="10803633"/>
                <a:lnTo>
                  <a:pt x="10800" y="10800"/>
                </a:lnTo>
                <a:close/>
              </a:path>
              <a:path fill="none" w="21600" h="21600">
                <a:moveTo>
                  <a:pt x="11127" y="21595"/>
                </a:moveTo>
                <a:arcTo wR="10800" hR="10800" stAng="5295744" swAng="1080363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3086640" y="2961000"/>
            <a:ext cx="2868120" cy="287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89" y="21600"/>
                </a:moveTo>
                <a:arcTo wR="10800" hR="10800" stAng="5371671" swAng="10864335"/>
                <a:lnTo>
                  <a:pt x="10800" y="10800"/>
                </a:lnTo>
                <a:close/>
              </a:path>
              <a:path fill="none" w="21600" h="21600">
                <a:moveTo>
                  <a:pt x="10889" y="21600"/>
                </a:moveTo>
                <a:arcTo wR="10800" hR="10800" stAng="5371671" swAng="108643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5080" y="32367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2760" y="56275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61280" y="281952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76720" y="5661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79920" y="27957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84360" y="5632560"/>
            <a:ext cx="2779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94040" y="3170160"/>
            <a:ext cx="2779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78320" y="3170160"/>
            <a:ext cx="1295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3184560"/>
            <a:ext cx="1295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kosočtverec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4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57240" y="157176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trojúhelník vytáhneme silněji. A takto vypadá výsle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2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3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4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5"/>
          <a:stretch/>
        </p:blipFill>
        <p:spPr>
          <a:xfrm>
            <a:off x="2062080" y="2413080"/>
            <a:ext cx="5019840" cy="38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1-22T08:46:49Z</dcterms:modified>
  <cp:revision>102</cp:revision>
  <dc:subject/>
  <dc:title>Konstrukce kosočtverce 1</dc:title>
</cp:coreProperties>
</file>