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210C-E028-4583-8A73-EDE08D2910C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9662-D7D1-4F74-8A1D-6F44614915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C0A-18A9-4FEF-BF37-EF317914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7DD-0B74-4142-AAB9-869EA591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DDD-5CAA-4A75-BF04-BBBBB7D1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D50-3ACA-4552-8E0A-B8F4FFCA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6D9C-F6AE-4DBE-B32B-75751384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A667-9703-47C8-9EBD-AB3657F4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E2A2-B9B1-4F81-8347-28632B68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67E3-612B-43B9-961D-ADD97BA1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558A-B94A-4C2C-A6A6-2102F6C9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11D0-299D-4F6C-A735-BDA2E296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37E6-2D5A-4415-BD4C-0B734700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C37-E311-4272-86C3-854A1849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FA08-FB45-44CF-B9DB-FE00E007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4E1D-B270-412F-B919-8A0DD05A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50E3-6843-4690-924F-D2A06091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A400-D1E4-4DD0-B83F-0E7B6150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C3CE-1844-497C-9D76-522A915B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C9F-0917-4FF8-B6D1-4BD0ECCD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E44-6441-4240-B4B3-66B40901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9E0-1457-49C2-889A-A6D0FE5D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DB2-2E73-4CDF-AC91-7D2C8BC8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47C-A2A8-478C-939A-ED86C4D4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846-9972-4AD3-9407-91245009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BD2-134F-4F7E-8848-723AE485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DEE0-1C03-483C-ADF3-46DE85ECFFAE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zápatí 3"/>
          <p:cNvSpPr/>
          <p:nvPr/>
        </p:nvSpPr>
        <p:spPr>
          <a:xfrm>
            <a:off x="816120" y="57643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22360" y="212364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ABB5-888B-4B0B-9C8D-CC9887111ED3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lker.com/clipart-blackboard.html" TargetMode="External"/><Relationship Id="rId3" Type="http://schemas.openxmlformats.org/officeDocument/2006/relationships/hyperlink" Target="http://www.clker.com/clipart-blackboard.html" TargetMode="External"/><Relationship Id="rId4" Type="http://schemas.openxmlformats.org/officeDocument/2006/relationships/hyperlink" Target="http://www.clker.com/clipart-blackboard.html" TargetMode="External"/><Relationship Id="rId5" Type="http://schemas.openxmlformats.org/officeDocument/2006/relationships/hyperlink" Target="http://www.clker.com/clipart-blackboard.html" TargetMode="External"/><Relationship Id="rId6" Type="http://schemas.openxmlformats.org/officeDocument/2006/relationships/hyperlink" Target="http://www.clker.com/clipart-blackboard.html" TargetMode="External"/><Relationship Id="rId7" Type="http://schemas.openxmlformats.org/officeDocument/2006/relationships/hyperlink" Target="http://www.clker.com/clipart-blackboard.html" TargetMode="External"/><Relationship Id="rId8" Type="http://schemas.openxmlformats.org/officeDocument/2006/relationships/hyperlink" Target="http://www.clker.com/clipart-blackboard.html" TargetMode="External"/><Relationship Id="rId9" Type="http://schemas.openxmlformats.org/officeDocument/2006/relationships/hyperlink" Target="http://www.clker.com/clipart-blackboard.html" TargetMode="External"/><Relationship Id="rId10" Type="http://schemas.openxmlformats.org/officeDocument/2006/relationships/hyperlink" Target="http://www.clker.com/clipart-blackboard.html" TargetMode="External"/><Relationship Id="rId11" Type="http://schemas.openxmlformats.org/officeDocument/2006/relationships/hyperlink" Target="http://www.clker.com/clipart-blackboard.html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154728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84c6a"/>
                </a:solidFill>
                <a:latin typeface="Trebuchet MS"/>
              </a:rPr>
              <a:t>Desetinná čísla</a:t>
            </a:r>
            <a:endParaRPr b="0" lang="en-US" sz="5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84360" y="401472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čít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9480" y="5457240"/>
            <a:ext cx="764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1c1c1c"/>
                </a:solidFill>
                <a:latin typeface="Arial"/>
              </a:rPr>
              <a:t>Autorem materiálu a všech jeho částí, není-li uvedeno jinak, je</a:t>
            </a:r>
            <a:r>
              <a:rPr b="1" i="1" lang="cs-CZ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1c1c1c"/>
                </a:solidFill>
                <a:latin typeface="Arial"/>
              </a:rPr>
              <a:t>Mgr. Radomír Macháň</a:t>
            </a:r>
            <a:r>
              <a:rPr b="1" i="1" lang="cs-CZ" sz="12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1c1c1c"/>
                </a:solidFill>
                <a:latin typeface="Arial"/>
              </a:rPr>
              <a:t>Dostupné z Metodického portálu www.rvp.cz, ISSN: 1802-4785, financovaného z ESF a státního rozpočtu ČR.</a:t>
            </a:r>
            <a:br>
              <a:rPr sz="1200"/>
            </a:br>
            <a:r>
              <a:rPr b="0" i="1" lang="cs-CZ" sz="1200" spc="-1" strike="noStrike">
                <a:solidFill>
                  <a:srgbClr val="1c1c1c"/>
                </a:solidFill>
                <a:latin typeface="Arial"/>
              </a:rPr>
              <a:t>Provozováno Výzkumným ústavem pedagogickým v Praze</a:t>
            </a:r>
            <a:r>
              <a:rPr b="0" lang="cs-CZ" sz="12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538200" y="1449360"/>
                <a:ext cx="41338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3"/>
              <p:cNvSpPr txBox="1"/>
              <p:nvPr/>
            </p:nvSpPr>
            <p:spPr>
              <a:xfrm>
                <a:off x="4116240" y="2290680"/>
                <a:ext cx="1479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3492360" y="2989440"/>
                <a:ext cx="20703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Přímá spojovací čára 9"/>
          <p:cNvSpPr/>
          <p:nvPr/>
        </p:nvSpPr>
        <p:spPr>
          <a:xfrm>
            <a:off x="3465360" y="380988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5"/>
              <p:cNvSpPr txBox="1"/>
              <p:nvPr/>
            </p:nvSpPr>
            <p:spPr>
              <a:xfrm>
                <a:off x="5002200" y="3757680"/>
                <a:ext cx="5904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Elipsa 9"/>
          <p:cNvSpPr/>
          <p:nvPr/>
        </p:nvSpPr>
        <p:spPr>
          <a:xfrm>
            <a:off x="4145040" y="2349360"/>
            <a:ext cx="495360" cy="148428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ovéPole 10"/>
          <p:cNvSpPr/>
          <p:nvPr/>
        </p:nvSpPr>
        <p:spPr>
          <a:xfrm>
            <a:off x="4235400" y="28558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4673520" y="3755880"/>
                <a:ext cx="5317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4133880" y="3755880"/>
                <a:ext cx="5317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8"/>
              <p:cNvSpPr txBox="1"/>
              <p:nvPr/>
            </p:nvSpPr>
            <p:spPr>
              <a:xfrm>
                <a:off x="4481640" y="4205160"/>
                <a:ext cx="35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538200" y="1449360"/>
                <a:ext cx="41338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4116240" y="2290680"/>
                <a:ext cx="1479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3492360" y="2989440"/>
                <a:ext cx="20703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Přímá spojovací čára 9"/>
          <p:cNvSpPr/>
          <p:nvPr/>
        </p:nvSpPr>
        <p:spPr>
          <a:xfrm>
            <a:off x="3465360" y="380988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5"/>
              <p:cNvSpPr txBox="1"/>
              <p:nvPr/>
            </p:nvSpPr>
            <p:spPr>
              <a:xfrm>
                <a:off x="5002200" y="3757680"/>
                <a:ext cx="5904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6"/>
              <p:cNvSpPr txBox="1"/>
              <p:nvPr/>
            </p:nvSpPr>
            <p:spPr>
              <a:xfrm>
                <a:off x="4673520" y="3755880"/>
                <a:ext cx="5317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4133880" y="3755880"/>
                <a:ext cx="5317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8"/>
              <p:cNvSpPr txBox="1"/>
              <p:nvPr/>
            </p:nvSpPr>
            <p:spPr>
              <a:xfrm>
                <a:off x="3780000" y="3755880"/>
                <a:ext cx="5317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9"/>
              <p:cNvSpPr txBox="1"/>
              <p:nvPr/>
            </p:nvSpPr>
            <p:spPr>
              <a:xfrm>
                <a:off x="3495600" y="3763800"/>
                <a:ext cx="4129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0"/>
              <p:cNvSpPr txBox="1"/>
              <p:nvPr/>
            </p:nvSpPr>
            <p:spPr>
              <a:xfrm>
                <a:off x="4481640" y="4229280"/>
                <a:ext cx="353880" cy="48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Obláček 16"/>
          <p:cNvSpPr/>
          <p:nvPr/>
        </p:nvSpPr>
        <p:spPr>
          <a:xfrm>
            <a:off x="6595920" y="2573280"/>
            <a:ext cx="2160720" cy="1397160"/>
          </a:xfrm>
          <a:prstGeom prst="cloudCallout">
            <a:avLst>
              <a:gd name="adj1" fmla="val -64962"/>
              <a:gd name="adj2" fmla="val -55824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dné, ž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římá spojovací čára 9"/>
          <p:cNvSpPr/>
          <p:nvPr/>
        </p:nvSpPr>
        <p:spPr>
          <a:xfrm>
            <a:off x="4629240" y="2271600"/>
            <a:ext cx="2124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římá spojovací čára 9"/>
          <p:cNvSpPr/>
          <p:nvPr/>
        </p:nvSpPr>
        <p:spPr>
          <a:xfrm>
            <a:off x="4629240" y="2316240"/>
            <a:ext cx="2124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bláček 19"/>
          <p:cNvSpPr/>
          <p:nvPr/>
        </p:nvSpPr>
        <p:spPr>
          <a:xfrm>
            <a:off x="6597720" y="2573280"/>
            <a:ext cx="2160360" cy="1397160"/>
          </a:xfrm>
          <a:prstGeom prst="cloudCallout">
            <a:avLst>
              <a:gd name="adj1" fmla="val -64962"/>
              <a:gd name="adj2" fmla="val -55824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 to zkusíme ještě jed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8"/>
              <p:cNvSpPr txBox="1"/>
              <p:nvPr/>
            </p:nvSpPr>
            <p:spPr>
              <a:xfrm>
                <a:off x="4662360" y="1449360"/>
                <a:ext cx="20671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270000" y="1449360"/>
                <a:ext cx="5256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9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3462480" y="3017880"/>
                <a:ext cx="21891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9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3463920" y="3754440"/>
                <a:ext cx="2127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Přímá spojovací čára 9"/>
          <p:cNvSpPr/>
          <p:nvPr/>
        </p:nvSpPr>
        <p:spPr>
          <a:xfrm>
            <a:off x="3465360" y="457524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5029200" y="4597560"/>
                <a:ext cx="5904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Elipsa 20"/>
          <p:cNvSpPr/>
          <p:nvPr/>
        </p:nvSpPr>
        <p:spPr>
          <a:xfrm>
            <a:off x="5067360" y="2979720"/>
            <a:ext cx="495360" cy="159876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ovéPole 21"/>
          <p:cNvSpPr/>
          <p:nvPr/>
        </p:nvSpPr>
        <p:spPr>
          <a:xfrm>
            <a:off x="5157720" y="36003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bláček 22"/>
          <p:cNvSpPr/>
          <p:nvPr/>
        </p:nvSpPr>
        <p:spPr>
          <a:xfrm>
            <a:off x="5427720" y="324000"/>
            <a:ext cx="3419280" cy="2249280"/>
          </a:xfrm>
          <a:prstGeom prst="cloudCallout">
            <a:avLst>
              <a:gd name="adj1" fmla="val -50222"/>
              <a:gd name="adj2" fmla="val 64828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oprvé se setkávám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 tím, že součet hodnot daného řádu vychází dvojciferně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I s tím si však dokážeme poradit. Dívej se jak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ovéPole 24"/>
          <p:cNvSpPr/>
          <p:nvPr/>
        </p:nvSpPr>
        <p:spPr>
          <a:xfrm>
            <a:off x="4687920" y="4525920"/>
            <a:ext cx="49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53" dur="3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270000" y="1449360"/>
                <a:ext cx="5256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9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3462480" y="3017880"/>
                <a:ext cx="21891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9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463920" y="3754440"/>
                <a:ext cx="2127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Přímá spojovací čára 9"/>
          <p:cNvSpPr/>
          <p:nvPr/>
        </p:nvSpPr>
        <p:spPr>
          <a:xfrm>
            <a:off x="3465360" y="457524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5"/>
              <p:cNvSpPr txBox="1"/>
              <p:nvPr/>
            </p:nvSpPr>
            <p:spPr>
              <a:xfrm>
                <a:off x="5029200" y="4597560"/>
                <a:ext cx="5904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Elipsa 20"/>
          <p:cNvSpPr/>
          <p:nvPr/>
        </p:nvSpPr>
        <p:spPr>
          <a:xfrm>
            <a:off x="4675320" y="2394000"/>
            <a:ext cx="495000" cy="218448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ovéPole 21"/>
          <p:cNvSpPr/>
          <p:nvPr/>
        </p:nvSpPr>
        <p:spPr>
          <a:xfrm>
            <a:off x="4765680" y="3600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ovéPole 24"/>
          <p:cNvSpPr/>
          <p:nvPr/>
        </p:nvSpPr>
        <p:spPr>
          <a:xfrm>
            <a:off x="4687920" y="2239920"/>
            <a:ext cx="49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ovéPole 13"/>
          <p:cNvSpPr/>
          <p:nvPr/>
        </p:nvSpPr>
        <p:spPr>
          <a:xfrm>
            <a:off x="4776840" y="2889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6"/>
              <p:cNvSpPr txBox="1"/>
              <p:nvPr/>
            </p:nvSpPr>
            <p:spPr>
              <a:xfrm>
                <a:off x="4675320" y="4594320"/>
                <a:ext cx="531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270000" y="1449360"/>
                <a:ext cx="5256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9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3462480" y="3017880"/>
                <a:ext cx="21891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9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3463920" y="3754440"/>
                <a:ext cx="2127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Přímá spojovací čára 9"/>
          <p:cNvSpPr/>
          <p:nvPr/>
        </p:nvSpPr>
        <p:spPr>
          <a:xfrm>
            <a:off x="3465360" y="457524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5"/>
              <p:cNvSpPr txBox="1"/>
              <p:nvPr/>
            </p:nvSpPr>
            <p:spPr>
              <a:xfrm>
                <a:off x="5029200" y="4597560"/>
                <a:ext cx="5904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4675320" y="4594320"/>
                <a:ext cx="531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7"/>
              <p:cNvSpPr txBox="1"/>
              <p:nvPr/>
            </p:nvSpPr>
            <p:spPr>
              <a:xfrm>
                <a:off x="4532400" y="5037120"/>
                <a:ext cx="353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73" name="Přímá spojovací šipka 16"/>
          <p:cNvCxnSpPr/>
          <p:nvPr/>
        </p:nvCxnSpPr>
        <p:spPr>
          <a:xfrm flipH="1">
            <a:off x="4694040" y="4611240"/>
            <a:ext cx="2160" cy="505800"/>
          </a:xfrm>
          <a:prstGeom prst="straightConnector1">
            <a:avLst/>
          </a:prstGeom>
          <a:ln w="25560">
            <a:solidFill>
              <a:srgbClr val="262699"/>
            </a:solidFill>
            <a:miter/>
            <a:tailEnd len="med" type="arrow" w="med"/>
          </a:ln>
        </p:spPr>
      </p:cxnSp>
      <p:sp>
        <p:nvSpPr>
          <p:cNvPr id="274" name="Elipsa 17"/>
          <p:cNvSpPr/>
          <p:nvPr/>
        </p:nvSpPr>
        <p:spPr>
          <a:xfrm>
            <a:off x="4186080" y="2979720"/>
            <a:ext cx="495360" cy="159876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ovéPole 18"/>
          <p:cNvSpPr/>
          <p:nvPr/>
        </p:nvSpPr>
        <p:spPr>
          <a:xfrm>
            <a:off x="4276800" y="3600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ovéPole 23"/>
          <p:cNvSpPr/>
          <p:nvPr/>
        </p:nvSpPr>
        <p:spPr>
          <a:xfrm>
            <a:off x="3836880" y="4525920"/>
            <a:ext cx="49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8"/>
              <p:cNvSpPr txBox="1"/>
              <p:nvPr/>
            </p:nvSpPr>
            <p:spPr>
              <a:xfrm>
                <a:off x="4192560" y="4600440"/>
                <a:ext cx="5317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12" dur="3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500"/>
                            </p:stCondLst>
                            <p:childTnLst>
                              <p:par>
                                <p:cTn id="5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270000" y="1449360"/>
                <a:ext cx="5256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9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3462480" y="3017880"/>
                <a:ext cx="21891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9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3463920" y="3754440"/>
                <a:ext cx="2127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Přímá spojovací čára 9"/>
          <p:cNvSpPr/>
          <p:nvPr/>
        </p:nvSpPr>
        <p:spPr>
          <a:xfrm>
            <a:off x="3465360" y="457524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5029200" y="4597560"/>
                <a:ext cx="5904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4675320" y="4594320"/>
                <a:ext cx="531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>
                <a:off x="4532400" y="5037120"/>
                <a:ext cx="353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8"/>
              <p:cNvSpPr txBox="1"/>
              <p:nvPr/>
            </p:nvSpPr>
            <p:spPr>
              <a:xfrm>
                <a:off x="4192560" y="4600440"/>
                <a:ext cx="5317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Elipsa 20"/>
          <p:cNvSpPr/>
          <p:nvPr/>
        </p:nvSpPr>
        <p:spPr>
          <a:xfrm>
            <a:off x="3863880" y="2394000"/>
            <a:ext cx="495360" cy="218448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ovéPole 21"/>
          <p:cNvSpPr/>
          <p:nvPr/>
        </p:nvSpPr>
        <p:spPr>
          <a:xfrm>
            <a:off x="3954600" y="3600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ovéPole 22"/>
          <p:cNvSpPr/>
          <p:nvPr/>
        </p:nvSpPr>
        <p:spPr>
          <a:xfrm>
            <a:off x="3840120" y="2239920"/>
            <a:ext cx="49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ovéPole 24"/>
          <p:cNvSpPr/>
          <p:nvPr/>
        </p:nvSpPr>
        <p:spPr>
          <a:xfrm>
            <a:off x="3965400" y="28893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9"/>
              <p:cNvSpPr txBox="1"/>
              <p:nvPr/>
            </p:nvSpPr>
            <p:spPr>
              <a:xfrm>
                <a:off x="3807000" y="4599000"/>
                <a:ext cx="591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TextovéPole 25"/>
          <p:cNvSpPr/>
          <p:nvPr/>
        </p:nvSpPr>
        <p:spPr>
          <a:xfrm>
            <a:off x="3483000" y="4525920"/>
            <a:ext cx="49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57" dur="3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270000" y="1449360"/>
                <a:ext cx="5256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9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3462480" y="3017880"/>
                <a:ext cx="21891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9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3463920" y="3754440"/>
                <a:ext cx="2127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Přímá spojovací čára 9"/>
          <p:cNvSpPr/>
          <p:nvPr/>
        </p:nvSpPr>
        <p:spPr>
          <a:xfrm>
            <a:off x="3465360" y="457524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5"/>
              <p:cNvSpPr txBox="1"/>
              <p:nvPr/>
            </p:nvSpPr>
            <p:spPr>
              <a:xfrm>
                <a:off x="5029200" y="4597560"/>
                <a:ext cx="5904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6"/>
              <p:cNvSpPr txBox="1"/>
              <p:nvPr/>
            </p:nvSpPr>
            <p:spPr>
              <a:xfrm>
                <a:off x="4675320" y="4594320"/>
                <a:ext cx="531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7"/>
              <p:cNvSpPr txBox="1"/>
              <p:nvPr/>
            </p:nvSpPr>
            <p:spPr>
              <a:xfrm>
                <a:off x="4532400" y="5037120"/>
                <a:ext cx="353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8"/>
              <p:cNvSpPr txBox="1"/>
              <p:nvPr/>
            </p:nvSpPr>
            <p:spPr>
              <a:xfrm>
                <a:off x="4192560" y="4600440"/>
                <a:ext cx="5317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Elipsa 20"/>
          <p:cNvSpPr/>
          <p:nvPr/>
        </p:nvSpPr>
        <p:spPr>
          <a:xfrm>
            <a:off x="3506760" y="2394000"/>
            <a:ext cx="495360" cy="218448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ovéPole 21"/>
          <p:cNvSpPr/>
          <p:nvPr/>
        </p:nvSpPr>
        <p:spPr>
          <a:xfrm>
            <a:off x="3597120" y="36003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ovéPole 22"/>
          <p:cNvSpPr/>
          <p:nvPr/>
        </p:nvSpPr>
        <p:spPr>
          <a:xfrm>
            <a:off x="3483000" y="2239920"/>
            <a:ext cx="49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ovéPole 24"/>
          <p:cNvSpPr/>
          <p:nvPr/>
        </p:nvSpPr>
        <p:spPr>
          <a:xfrm>
            <a:off x="3608280" y="28893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9"/>
              <p:cNvSpPr txBox="1"/>
              <p:nvPr/>
            </p:nvSpPr>
            <p:spPr>
              <a:xfrm>
                <a:off x="3807000" y="4599000"/>
                <a:ext cx="591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0"/>
              <p:cNvSpPr txBox="1"/>
              <p:nvPr/>
            </p:nvSpPr>
            <p:spPr>
              <a:xfrm>
                <a:off x="3129120" y="4600440"/>
                <a:ext cx="82836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11"/>
              <p:cNvSpPr txBox="1"/>
              <p:nvPr/>
            </p:nvSpPr>
            <p:spPr>
              <a:xfrm>
                <a:off x="5450040" y="1449360"/>
                <a:ext cx="23619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6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Přímá spojovací čára 9"/>
          <p:cNvSpPr/>
          <p:nvPr/>
        </p:nvSpPr>
        <p:spPr>
          <a:xfrm>
            <a:off x="5586480" y="2271600"/>
            <a:ext cx="2124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římá spojovací čára 9"/>
          <p:cNvSpPr/>
          <p:nvPr/>
        </p:nvSpPr>
        <p:spPr>
          <a:xfrm>
            <a:off x="5586480" y="2316240"/>
            <a:ext cx="2124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297000" y="1449360"/>
                <a:ext cx="63198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3578400" y="3789360"/>
                <a:ext cx="1714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4"/>
              <p:cNvSpPr txBox="1"/>
              <p:nvPr/>
            </p:nvSpPr>
            <p:spPr>
              <a:xfrm>
                <a:off x="3878280" y="4584600"/>
                <a:ext cx="1773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Přímá spojovací čára 9"/>
          <p:cNvSpPr/>
          <p:nvPr/>
        </p:nvSpPr>
        <p:spPr>
          <a:xfrm>
            <a:off x="3465360" y="540540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5"/>
              <p:cNvSpPr txBox="1"/>
              <p:nvPr/>
            </p:nvSpPr>
            <p:spPr>
              <a:xfrm>
                <a:off x="5119560" y="5397480"/>
                <a:ext cx="532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Obláček 22"/>
          <p:cNvSpPr/>
          <p:nvPr/>
        </p:nvSpPr>
        <p:spPr>
          <a:xfrm>
            <a:off x="5472000" y="2619360"/>
            <a:ext cx="3419640" cy="2249640"/>
          </a:xfrm>
          <a:prstGeom prst="cloudCallout">
            <a:avLst>
              <a:gd name="adj1" fmla="val -51958"/>
              <a:gd name="adj2" fmla="val -68203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co když bude sčítanců více než dva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láček 13"/>
          <p:cNvSpPr/>
          <p:nvPr/>
        </p:nvSpPr>
        <p:spPr>
          <a:xfrm>
            <a:off x="5472000" y="2619360"/>
            <a:ext cx="3419640" cy="2249640"/>
          </a:xfrm>
          <a:prstGeom prst="cloudCallout">
            <a:avLst>
              <a:gd name="adj1" fmla="val -51958"/>
              <a:gd name="adj2" fmla="val -68203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 v případě desetinných čísel je možné zapsat pod sebe a sčítat libovolný počet sčítanců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6"/>
              <p:cNvSpPr txBox="1"/>
              <p:nvPr/>
            </p:nvSpPr>
            <p:spPr>
              <a:xfrm>
                <a:off x="3560760" y="3024360"/>
                <a:ext cx="1479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297000" y="1449360"/>
                <a:ext cx="63198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3578400" y="3789360"/>
                <a:ext cx="1714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4"/>
              <p:cNvSpPr txBox="1"/>
              <p:nvPr/>
            </p:nvSpPr>
            <p:spPr>
              <a:xfrm>
                <a:off x="3878280" y="4584600"/>
                <a:ext cx="1773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Přímá spojovací čára 9"/>
          <p:cNvSpPr/>
          <p:nvPr/>
        </p:nvSpPr>
        <p:spPr>
          <a:xfrm>
            <a:off x="3465360" y="540540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5"/>
              <p:cNvSpPr txBox="1"/>
              <p:nvPr/>
            </p:nvSpPr>
            <p:spPr>
              <a:xfrm>
                <a:off x="4762440" y="5408640"/>
                <a:ext cx="531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Elipsa 20"/>
          <p:cNvSpPr/>
          <p:nvPr/>
        </p:nvSpPr>
        <p:spPr>
          <a:xfrm>
            <a:off x="4772160" y="3809880"/>
            <a:ext cx="495000" cy="159876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ovéPole 21"/>
          <p:cNvSpPr/>
          <p:nvPr/>
        </p:nvSpPr>
        <p:spPr>
          <a:xfrm>
            <a:off x="4862520" y="443088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ovéPole 24"/>
          <p:cNvSpPr/>
          <p:nvPr/>
        </p:nvSpPr>
        <p:spPr>
          <a:xfrm>
            <a:off x="4392720" y="5321160"/>
            <a:ext cx="49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3560760" y="3024360"/>
                <a:ext cx="1479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5119560" y="5397480"/>
                <a:ext cx="532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65587E-006 L 0.00243 -0.44334 E">
                                      <p:cBhvr>
                                        <p:cTn id="669" dur="3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3500"/>
                            </p:stCondLst>
                            <p:childTnLst>
                              <p:par>
                                <p:cTn id="6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297000" y="1449360"/>
                <a:ext cx="63198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3578400" y="3789360"/>
                <a:ext cx="1714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4"/>
              <p:cNvSpPr txBox="1"/>
              <p:nvPr/>
            </p:nvSpPr>
            <p:spPr>
              <a:xfrm>
                <a:off x="3878280" y="4584600"/>
                <a:ext cx="1773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Přímá spojovací čára 9"/>
          <p:cNvSpPr/>
          <p:nvPr/>
        </p:nvSpPr>
        <p:spPr>
          <a:xfrm>
            <a:off x="3465360" y="540540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"/>
              <p:cNvSpPr txBox="1"/>
              <p:nvPr/>
            </p:nvSpPr>
            <p:spPr>
              <a:xfrm>
                <a:off x="4762440" y="5408640"/>
                <a:ext cx="531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560760" y="3024360"/>
                <a:ext cx="1479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7"/>
              <p:cNvSpPr txBox="1"/>
              <p:nvPr/>
            </p:nvSpPr>
            <p:spPr>
              <a:xfrm>
                <a:off x="5119560" y="5397480"/>
                <a:ext cx="532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Elipsa 14"/>
          <p:cNvSpPr/>
          <p:nvPr/>
        </p:nvSpPr>
        <p:spPr>
          <a:xfrm>
            <a:off x="4437000" y="2349360"/>
            <a:ext cx="495360" cy="305784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ovéPole 15"/>
          <p:cNvSpPr/>
          <p:nvPr/>
        </p:nvSpPr>
        <p:spPr>
          <a:xfrm>
            <a:off x="4527720" y="442908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ovéPole 16"/>
          <p:cNvSpPr/>
          <p:nvPr/>
        </p:nvSpPr>
        <p:spPr>
          <a:xfrm>
            <a:off x="4538520" y="36543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9"/>
              <p:cNvSpPr txBox="1"/>
              <p:nvPr/>
            </p:nvSpPr>
            <p:spPr>
              <a:xfrm>
                <a:off x="4384800" y="5403960"/>
                <a:ext cx="591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TextovéPole 18"/>
          <p:cNvSpPr/>
          <p:nvPr/>
        </p:nvSpPr>
        <p:spPr>
          <a:xfrm>
            <a:off x="3941640" y="5330880"/>
            <a:ext cx="49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ovéPole 19"/>
          <p:cNvSpPr/>
          <p:nvPr/>
        </p:nvSpPr>
        <p:spPr>
          <a:xfrm>
            <a:off x="4403880" y="2270160"/>
            <a:ext cx="49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ovéPole 22"/>
          <p:cNvSpPr/>
          <p:nvPr/>
        </p:nvSpPr>
        <p:spPr>
          <a:xfrm>
            <a:off x="4538520" y="29098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9"/>
              <p:cNvSpPr txBox="1"/>
              <p:nvPr/>
            </p:nvSpPr>
            <p:spPr>
              <a:xfrm>
                <a:off x="4257720" y="5824440"/>
                <a:ext cx="35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57" name="Přímá spojovací šipka 21"/>
          <p:cNvCxnSpPr/>
          <p:nvPr/>
        </p:nvCxnSpPr>
        <p:spPr>
          <a:xfrm flipH="1">
            <a:off x="4416120" y="5513040"/>
            <a:ext cx="2160" cy="359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518E-006 L -0.00243 -0.44473 E">
                                      <p:cBhvr>
                                        <p:cTn id="720" dur="3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03"/>
              <p:cNvSpPr txBox="1"/>
              <p:nvPr/>
            </p:nvSpPr>
            <p:spPr>
              <a:xfrm>
                <a:off x="538200" y="1449360"/>
                <a:ext cx="41338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Obláček 15"/>
          <p:cNvSpPr/>
          <p:nvPr/>
        </p:nvSpPr>
        <p:spPr>
          <a:xfrm>
            <a:off x="4842000" y="2079720"/>
            <a:ext cx="3870360" cy="2923920"/>
          </a:xfrm>
          <a:prstGeom prst="cloudCallout">
            <a:avLst>
              <a:gd name="adj1" fmla="val -69939"/>
              <a:gd name="adj2" fmla="val -4555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při sčítání desetinných čísel budeme chtít využít znalosti sčítání čísel pod sebou. Proto si čísla nejprve pod sebe přepíšeme. Ale ja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522360" y="514836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užijeme k tomu analogie se sčítáním čísel přirozených, tedy čísel vyjadřujících jen cel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"/>
              <p:cNvSpPr txBox="1"/>
              <p:nvPr/>
            </p:nvSpPr>
            <p:spPr>
              <a:xfrm>
                <a:off x="297000" y="1449360"/>
                <a:ext cx="63198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3578400" y="3789360"/>
                <a:ext cx="1714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3878280" y="4584600"/>
                <a:ext cx="1773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Přímá spojovací čára 9"/>
          <p:cNvSpPr/>
          <p:nvPr/>
        </p:nvSpPr>
        <p:spPr>
          <a:xfrm>
            <a:off x="3465360" y="540540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5"/>
              <p:cNvSpPr txBox="1"/>
              <p:nvPr/>
            </p:nvSpPr>
            <p:spPr>
              <a:xfrm>
                <a:off x="4762440" y="5408640"/>
                <a:ext cx="531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3560760" y="3024360"/>
                <a:ext cx="1479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5119560" y="5397480"/>
                <a:ext cx="532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Elipsa 14"/>
          <p:cNvSpPr/>
          <p:nvPr/>
        </p:nvSpPr>
        <p:spPr>
          <a:xfrm>
            <a:off x="3930480" y="2349360"/>
            <a:ext cx="495360" cy="305784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ovéPole 15"/>
          <p:cNvSpPr/>
          <p:nvPr/>
        </p:nvSpPr>
        <p:spPr>
          <a:xfrm>
            <a:off x="4021200" y="442908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ovéPole 16"/>
          <p:cNvSpPr/>
          <p:nvPr/>
        </p:nvSpPr>
        <p:spPr>
          <a:xfrm>
            <a:off x="4032360" y="3654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4384800" y="5403960"/>
                <a:ext cx="591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TextovéPole 19"/>
          <p:cNvSpPr/>
          <p:nvPr/>
        </p:nvSpPr>
        <p:spPr>
          <a:xfrm>
            <a:off x="3921120" y="2270160"/>
            <a:ext cx="49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ovéPole 22"/>
          <p:cNvSpPr/>
          <p:nvPr/>
        </p:nvSpPr>
        <p:spPr>
          <a:xfrm>
            <a:off x="4032360" y="290988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4257720" y="5824440"/>
                <a:ext cx="35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3956040" y="5403960"/>
                <a:ext cx="531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TextovéPole 24"/>
          <p:cNvSpPr/>
          <p:nvPr/>
        </p:nvSpPr>
        <p:spPr>
          <a:xfrm>
            <a:off x="3594240" y="5330880"/>
            <a:ext cx="495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518E-006 L -0.00243 -0.44473 E">
                                      <p:cBhvr>
                                        <p:cTn id="773" dur="3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297000" y="1449360"/>
                <a:ext cx="63198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3578400" y="3789360"/>
                <a:ext cx="1714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4"/>
              <p:cNvSpPr txBox="1"/>
              <p:nvPr/>
            </p:nvSpPr>
            <p:spPr>
              <a:xfrm>
                <a:off x="3878280" y="4584600"/>
                <a:ext cx="1773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Přímá spojovací čára 9"/>
          <p:cNvSpPr/>
          <p:nvPr/>
        </p:nvSpPr>
        <p:spPr>
          <a:xfrm>
            <a:off x="3465360" y="540540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5"/>
              <p:cNvSpPr txBox="1"/>
              <p:nvPr/>
            </p:nvSpPr>
            <p:spPr>
              <a:xfrm>
                <a:off x="4762440" y="5408640"/>
                <a:ext cx="531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6"/>
              <p:cNvSpPr txBox="1"/>
              <p:nvPr/>
            </p:nvSpPr>
            <p:spPr>
              <a:xfrm>
                <a:off x="3560760" y="3024360"/>
                <a:ext cx="1479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7"/>
              <p:cNvSpPr txBox="1"/>
              <p:nvPr/>
            </p:nvSpPr>
            <p:spPr>
              <a:xfrm>
                <a:off x="5119560" y="5397480"/>
                <a:ext cx="532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Elipsa 14"/>
          <p:cNvSpPr/>
          <p:nvPr/>
        </p:nvSpPr>
        <p:spPr>
          <a:xfrm>
            <a:off x="3583080" y="2349360"/>
            <a:ext cx="495360" cy="234000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ovéPole 16"/>
          <p:cNvSpPr/>
          <p:nvPr/>
        </p:nvSpPr>
        <p:spPr>
          <a:xfrm>
            <a:off x="3684600" y="3654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9"/>
              <p:cNvSpPr txBox="1"/>
              <p:nvPr/>
            </p:nvSpPr>
            <p:spPr>
              <a:xfrm>
                <a:off x="4384800" y="5403960"/>
                <a:ext cx="591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TextovéPole 19"/>
          <p:cNvSpPr/>
          <p:nvPr/>
        </p:nvSpPr>
        <p:spPr>
          <a:xfrm>
            <a:off x="3573360" y="2270160"/>
            <a:ext cx="49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ovéPole 22"/>
          <p:cNvSpPr/>
          <p:nvPr/>
        </p:nvSpPr>
        <p:spPr>
          <a:xfrm>
            <a:off x="3684600" y="290988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9"/>
              <p:cNvSpPr txBox="1"/>
              <p:nvPr/>
            </p:nvSpPr>
            <p:spPr>
              <a:xfrm>
                <a:off x="4257720" y="5824440"/>
                <a:ext cx="35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0"/>
              <p:cNvSpPr txBox="1"/>
              <p:nvPr/>
            </p:nvSpPr>
            <p:spPr>
              <a:xfrm>
                <a:off x="3956040" y="5403960"/>
                <a:ext cx="531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12"/>
              <p:cNvSpPr txBox="1"/>
              <p:nvPr/>
            </p:nvSpPr>
            <p:spPr>
              <a:xfrm>
                <a:off x="3300480" y="5408640"/>
                <a:ext cx="768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3"/>
              <p:cNvSpPr txBox="1"/>
              <p:nvPr/>
            </p:nvSpPr>
            <p:spPr>
              <a:xfrm>
                <a:off x="6494400" y="1436760"/>
                <a:ext cx="24242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− příklady k pro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522360" y="773280"/>
                <a:ext cx="383868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− příklady k pro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2"/>
              <p:cNvSpPr txBox="1"/>
              <p:nvPr/>
            </p:nvSpPr>
            <p:spPr>
              <a:xfrm>
                <a:off x="522360" y="773280"/>
                <a:ext cx="383868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"/>
              <p:cNvSpPr txBox="1"/>
              <p:nvPr/>
            </p:nvSpPr>
            <p:spPr>
              <a:xfrm>
                <a:off x="6980400" y="4014720"/>
                <a:ext cx="14173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4"/>
              <p:cNvSpPr txBox="1"/>
              <p:nvPr/>
            </p:nvSpPr>
            <p:spPr>
              <a:xfrm>
                <a:off x="7316640" y="4654440"/>
                <a:ext cx="14176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Přímá spojovací čára 7"/>
          <p:cNvSpPr/>
          <p:nvPr/>
        </p:nvSpPr>
        <p:spPr>
          <a:xfrm>
            <a:off x="6597720" y="5499000"/>
            <a:ext cx="2160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6969240" y="5445000"/>
                <a:ext cx="17715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− příklady k pro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471600" y="762120"/>
                <a:ext cx="413388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− příklady k pro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471600" y="762120"/>
                <a:ext cx="413388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6802560" y="4014720"/>
                <a:ext cx="1773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6507000" y="4654440"/>
                <a:ext cx="1359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,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Přímá spojovací čára 6"/>
          <p:cNvSpPr/>
          <p:nvPr/>
        </p:nvSpPr>
        <p:spPr>
          <a:xfrm>
            <a:off x="6383160" y="5499000"/>
            <a:ext cx="21607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5"/>
              <p:cNvSpPr txBox="1"/>
              <p:nvPr/>
            </p:nvSpPr>
            <p:spPr>
              <a:xfrm>
                <a:off x="6496200" y="5445000"/>
                <a:ext cx="21254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9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− příklady k pro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487440" y="762120"/>
                <a:ext cx="448920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7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7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− příklady k pro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487440" y="762120"/>
                <a:ext cx="448920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7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7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6315120" y="4014720"/>
                <a:ext cx="1773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7</m:t>
                    </m:r>
                    <m:r>
                      <m:t xml:space="preserve">,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7031160" y="4654440"/>
                <a:ext cx="17715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Přímá spojovací čára 6"/>
          <p:cNvSpPr/>
          <p:nvPr/>
        </p:nvSpPr>
        <p:spPr>
          <a:xfrm>
            <a:off x="6338880" y="5499000"/>
            <a:ext cx="23734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5"/>
              <p:cNvSpPr txBox="1"/>
              <p:nvPr/>
            </p:nvSpPr>
            <p:spPr>
              <a:xfrm>
                <a:off x="6319800" y="5445000"/>
                <a:ext cx="24796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3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− příklady k pro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2"/>
              <p:cNvSpPr txBox="1"/>
              <p:nvPr/>
            </p:nvSpPr>
            <p:spPr>
              <a:xfrm>
                <a:off x="476280" y="762120"/>
                <a:ext cx="60260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,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 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−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příklady k pro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476280" y="762120"/>
                <a:ext cx="60260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,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7023240" y="4014720"/>
                <a:ext cx="14191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4"/>
              <p:cNvSpPr txBox="1"/>
              <p:nvPr/>
            </p:nvSpPr>
            <p:spPr>
              <a:xfrm>
                <a:off x="7031160" y="4654440"/>
                <a:ext cx="17715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Přímá spojovací čára 6"/>
          <p:cNvSpPr/>
          <p:nvPr/>
        </p:nvSpPr>
        <p:spPr>
          <a:xfrm>
            <a:off x="6338880" y="5499000"/>
            <a:ext cx="23734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5"/>
              <p:cNvSpPr txBox="1"/>
              <p:nvPr/>
            </p:nvSpPr>
            <p:spPr>
              <a:xfrm>
                <a:off x="6688080" y="5445000"/>
                <a:ext cx="21258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6"/>
              <p:cNvSpPr txBox="1"/>
              <p:nvPr/>
            </p:nvSpPr>
            <p:spPr>
              <a:xfrm>
                <a:off x="6665760" y="3384720"/>
                <a:ext cx="141768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,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přiroze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598320" y="1392120"/>
                <a:ext cx="41338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Obláček 15"/>
          <p:cNvSpPr/>
          <p:nvPr/>
        </p:nvSpPr>
        <p:spPr>
          <a:xfrm>
            <a:off x="5381640" y="549360"/>
            <a:ext cx="3286080" cy="1754280"/>
          </a:xfrm>
          <a:prstGeom prst="cloudCallout">
            <a:avLst>
              <a:gd name="adj1" fmla="val -76949"/>
              <a:gd name="adj2" fmla="val 16268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k si tedy zapíšeme přirozená čísla při sčítání pod se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3979800" y="2349360"/>
                <a:ext cx="1300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3692520" y="3033720"/>
                <a:ext cx="15368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Přímá spojovací čára 10"/>
          <p:cNvSpPr/>
          <p:nvPr/>
        </p:nvSpPr>
        <p:spPr>
          <a:xfrm>
            <a:off x="3402000" y="3809880"/>
            <a:ext cx="18907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2"/>
          <p:cNvSpPr/>
          <p:nvPr/>
        </p:nvSpPr>
        <p:spPr>
          <a:xfrm>
            <a:off x="4989600" y="2336760"/>
            <a:ext cx="0" cy="1620720"/>
          </a:xfrm>
          <a:prstGeom prst="line">
            <a:avLst/>
          </a:prstGeom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17"/>
          <p:cNvSpPr/>
          <p:nvPr/>
        </p:nvSpPr>
        <p:spPr>
          <a:xfrm>
            <a:off x="4629240" y="2349360"/>
            <a:ext cx="0" cy="161928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římá spojovací čára 18"/>
          <p:cNvSpPr/>
          <p:nvPr/>
        </p:nvSpPr>
        <p:spPr>
          <a:xfrm>
            <a:off x="4257720" y="2349360"/>
            <a:ext cx="0" cy="1619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římá spojovací čára 19"/>
          <p:cNvSpPr/>
          <p:nvPr/>
        </p:nvSpPr>
        <p:spPr>
          <a:xfrm>
            <a:off x="3908520" y="2349360"/>
            <a:ext cx="0" cy="1619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bláček 20"/>
          <p:cNvSpPr/>
          <p:nvPr/>
        </p:nvSpPr>
        <p:spPr>
          <a:xfrm>
            <a:off x="6012000" y="3968640"/>
            <a:ext cx="2385720" cy="900360"/>
          </a:xfrm>
          <a:prstGeom prst="cloudCallout">
            <a:avLst>
              <a:gd name="adj1" fmla="val -87407"/>
              <a:gd name="adj2" fmla="val -60254"/>
            </a:avLst>
          </a:prstGeom>
          <a:solidFill>
            <a:srgbClr val="00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tky pod jednotk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bláček 21"/>
          <p:cNvSpPr/>
          <p:nvPr/>
        </p:nvSpPr>
        <p:spPr>
          <a:xfrm>
            <a:off x="4751280" y="5094360"/>
            <a:ext cx="2521080" cy="900000"/>
          </a:xfrm>
          <a:prstGeom prst="cloudCallout">
            <a:avLst>
              <a:gd name="adj1" fmla="val -52379"/>
              <a:gd name="adj2" fmla="val -172398"/>
            </a:avLst>
          </a:pr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ítky pod desítk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láček 22"/>
          <p:cNvSpPr/>
          <p:nvPr/>
        </p:nvSpPr>
        <p:spPr>
          <a:xfrm>
            <a:off x="836640" y="4014720"/>
            <a:ext cx="2386080" cy="900360"/>
          </a:xfrm>
          <a:prstGeom prst="cloudCallout">
            <a:avLst>
              <a:gd name="adj1" fmla="val 73402"/>
              <a:gd name="adj2" fmla="val -57615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síce pod tisí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láček 23"/>
          <p:cNvSpPr/>
          <p:nvPr/>
        </p:nvSpPr>
        <p:spPr>
          <a:xfrm>
            <a:off x="2097000" y="5138640"/>
            <a:ext cx="2475000" cy="900360"/>
          </a:xfrm>
          <a:prstGeom prst="cloudCallout">
            <a:avLst>
              <a:gd name="adj1" fmla="val 34569"/>
              <a:gd name="adj2" fmla="val -176351"/>
            </a:avLst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vky pod stovk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8"/>
              <p:cNvSpPr txBox="1"/>
              <p:nvPr/>
            </p:nvSpPr>
            <p:spPr>
              <a:xfrm>
                <a:off x="577800" y="1392120"/>
                <a:ext cx="38386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5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− příklady k pro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476280" y="762120"/>
                <a:ext cx="42530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Obláček 4"/>
          <p:cNvSpPr/>
          <p:nvPr/>
        </p:nvSpPr>
        <p:spPr>
          <a:xfrm>
            <a:off x="4167360" y="1673280"/>
            <a:ext cx="3240000" cy="1441440"/>
          </a:xfrm>
          <a:prstGeom prst="cloudCallout">
            <a:avLst>
              <a:gd name="adj1" fmla="val -51958"/>
              <a:gd name="adj2" fmla="val -68203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k. A co teď? Desetinná čárka nikde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0"/>
          <p:cNvSpPr/>
          <p:nvPr/>
        </p:nvSpPr>
        <p:spPr>
          <a:xfrm>
            <a:off x="488880" y="294336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Zapamatuj s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Každé přirozené číslo můžeme jednoduše zapsat i jako číslo desetinné doplněním desetinné čárky za řád jednotek a libovolným počtem nul za 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3"/>
              <p:cNvSpPr txBox="1"/>
              <p:nvPr/>
            </p:nvSpPr>
            <p:spPr>
              <a:xfrm>
                <a:off x="2444760" y="4622760"/>
                <a:ext cx="11826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4"/>
              <p:cNvSpPr txBox="1"/>
              <p:nvPr/>
            </p:nvSpPr>
            <p:spPr>
              <a:xfrm>
                <a:off x="3467160" y="5070600"/>
                <a:ext cx="353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5"/>
              <p:cNvSpPr txBox="1"/>
              <p:nvPr/>
            </p:nvSpPr>
            <p:spPr>
              <a:xfrm>
                <a:off x="3666960" y="4619520"/>
                <a:ext cx="5907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6"/>
              <p:cNvSpPr txBox="1"/>
              <p:nvPr/>
            </p:nvSpPr>
            <p:spPr>
              <a:xfrm>
                <a:off x="4040280" y="4619520"/>
                <a:ext cx="590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7"/>
              <p:cNvSpPr txBox="1"/>
              <p:nvPr/>
            </p:nvSpPr>
            <p:spPr>
              <a:xfrm>
                <a:off x="4416480" y="4613400"/>
                <a:ext cx="5904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8"/>
              <p:cNvSpPr txBox="1"/>
              <p:nvPr/>
            </p:nvSpPr>
            <p:spPr>
              <a:xfrm>
                <a:off x="4781520" y="4608360"/>
                <a:ext cx="5907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9"/>
              <p:cNvSpPr txBox="1"/>
              <p:nvPr/>
            </p:nvSpPr>
            <p:spPr>
              <a:xfrm>
                <a:off x="5141880" y="4608360"/>
                <a:ext cx="5907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0"/>
              <p:cNvSpPr txBox="1"/>
              <p:nvPr/>
            </p:nvSpPr>
            <p:spPr>
              <a:xfrm>
                <a:off x="5506920" y="4608360"/>
                <a:ext cx="5907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1"/>
              <p:cNvSpPr txBox="1"/>
              <p:nvPr/>
            </p:nvSpPr>
            <p:spPr>
              <a:xfrm>
                <a:off x="5921280" y="5003640"/>
                <a:ext cx="649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3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75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− příklady k pro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2"/>
              <p:cNvSpPr txBox="1"/>
              <p:nvPr/>
            </p:nvSpPr>
            <p:spPr>
              <a:xfrm>
                <a:off x="476280" y="762120"/>
                <a:ext cx="42530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2"/>
              <p:cNvSpPr txBox="1"/>
              <p:nvPr/>
            </p:nvSpPr>
            <p:spPr>
              <a:xfrm>
                <a:off x="6699240" y="4014720"/>
                <a:ext cx="2127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3"/>
              <p:cNvSpPr txBox="1"/>
              <p:nvPr/>
            </p:nvSpPr>
            <p:spPr>
              <a:xfrm>
                <a:off x="6416640" y="4654440"/>
                <a:ext cx="24210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Přímá spojovací čára 17"/>
          <p:cNvSpPr/>
          <p:nvPr/>
        </p:nvSpPr>
        <p:spPr>
          <a:xfrm>
            <a:off x="6338880" y="5499000"/>
            <a:ext cx="23734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4"/>
              <p:cNvSpPr txBox="1"/>
              <p:nvPr/>
            </p:nvSpPr>
            <p:spPr>
              <a:xfrm>
                <a:off x="6354720" y="5445000"/>
                <a:ext cx="24796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− příklady k pro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2"/>
              <p:cNvSpPr txBox="1"/>
              <p:nvPr/>
            </p:nvSpPr>
            <p:spPr>
              <a:xfrm>
                <a:off x="476280" y="762120"/>
                <a:ext cx="53751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7</m:t>
                    </m:r>
                    <m:r>
                      <m:t xml:space="preserve">,</m:t>
                    </m:r>
                    <m:r>
                      <m:t xml:space="preserve">9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− příklady k pro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2"/>
              <p:cNvSpPr txBox="1"/>
              <p:nvPr/>
            </p:nvSpPr>
            <p:spPr>
              <a:xfrm>
                <a:off x="476280" y="762120"/>
                <a:ext cx="53751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7</m:t>
                    </m:r>
                    <m:r>
                      <m:t xml:space="preserve">,</m:t>
                    </m:r>
                    <m:r>
                      <m:t xml:space="preserve">9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3"/>
              <p:cNvSpPr txBox="1"/>
              <p:nvPr/>
            </p:nvSpPr>
            <p:spPr>
              <a:xfrm>
                <a:off x="7056360" y="4041720"/>
                <a:ext cx="887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4"/>
              <p:cNvSpPr txBox="1"/>
              <p:nvPr/>
            </p:nvSpPr>
            <p:spPr>
              <a:xfrm>
                <a:off x="6732720" y="4654440"/>
                <a:ext cx="17128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7</m:t>
                    </m:r>
                    <m:r>
                      <m:t xml:space="preserve">,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Přímá spojovací čára 6"/>
          <p:cNvSpPr/>
          <p:nvPr/>
        </p:nvSpPr>
        <p:spPr>
          <a:xfrm>
            <a:off x="6338880" y="5499000"/>
            <a:ext cx="23734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5"/>
              <p:cNvSpPr txBox="1"/>
              <p:nvPr/>
            </p:nvSpPr>
            <p:spPr>
              <a:xfrm>
                <a:off x="6676920" y="5445000"/>
                <a:ext cx="21258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6"/>
              <p:cNvSpPr txBox="1"/>
              <p:nvPr/>
            </p:nvSpPr>
            <p:spPr>
              <a:xfrm>
                <a:off x="7407360" y="3384720"/>
                <a:ext cx="141768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403280" y="193032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uveřejněné odkazy [cit. 2010-05-07]. Dostupné pod licencí Public domain na WWW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clker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om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clipart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-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blackboard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.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1332000" y="119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užité obrázk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přiroze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2"/>
              <p:cNvSpPr txBox="1"/>
              <p:nvPr/>
            </p:nvSpPr>
            <p:spPr>
              <a:xfrm>
                <a:off x="582480" y="1387440"/>
                <a:ext cx="38386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5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3"/>
              <p:cNvSpPr txBox="1"/>
              <p:nvPr/>
            </p:nvSpPr>
            <p:spPr>
              <a:xfrm>
                <a:off x="3979800" y="2349360"/>
                <a:ext cx="1300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3692520" y="3033720"/>
                <a:ext cx="15368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Přímá spojovací čára 10"/>
          <p:cNvSpPr/>
          <p:nvPr/>
        </p:nvSpPr>
        <p:spPr>
          <a:xfrm>
            <a:off x="3402000" y="3809880"/>
            <a:ext cx="18907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římá spojovací čára 12"/>
          <p:cNvSpPr/>
          <p:nvPr/>
        </p:nvSpPr>
        <p:spPr>
          <a:xfrm>
            <a:off x="4989600" y="2336760"/>
            <a:ext cx="0" cy="1620720"/>
          </a:xfrm>
          <a:prstGeom prst="line">
            <a:avLst/>
          </a:prstGeom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římá spojovací čára 17"/>
          <p:cNvSpPr/>
          <p:nvPr/>
        </p:nvSpPr>
        <p:spPr>
          <a:xfrm>
            <a:off x="4629240" y="2349360"/>
            <a:ext cx="0" cy="161928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římá spojovací čára 18"/>
          <p:cNvSpPr/>
          <p:nvPr/>
        </p:nvSpPr>
        <p:spPr>
          <a:xfrm>
            <a:off x="4257720" y="2349360"/>
            <a:ext cx="0" cy="1619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římá spojovací čára 19"/>
          <p:cNvSpPr/>
          <p:nvPr/>
        </p:nvSpPr>
        <p:spPr>
          <a:xfrm>
            <a:off x="3908520" y="2349360"/>
            <a:ext cx="0" cy="1619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bláček 20"/>
          <p:cNvSpPr/>
          <p:nvPr/>
        </p:nvSpPr>
        <p:spPr>
          <a:xfrm>
            <a:off x="6012000" y="3968640"/>
            <a:ext cx="2385720" cy="900360"/>
          </a:xfrm>
          <a:prstGeom prst="cloudCallout">
            <a:avLst>
              <a:gd name="adj1" fmla="val -87407"/>
              <a:gd name="adj2" fmla="val -60254"/>
            </a:avLst>
          </a:prstGeom>
          <a:solidFill>
            <a:srgbClr val="00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tky pod jednotk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láček 21"/>
          <p:cNvSpPr/>
          <p:nvPr/>
        </p:nvSpPr>
        <p:spPr>
          <a:xfrm>
            <a:off x="4751280" y="5094360"/>
            <a:ext cx="2521080" cy="900000"/>
          </a:xfrm>
          <a:prstGeom prst="cloudCallout">
            <a:avLst>
              <a:gd name="adj1" fmla="val -52379"/>
              <a:gd name="adj2" fmla="val -172398"/>
            </a:avLst>
          </a:pr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ítky pod desítk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láček 22"/>
          <p:cNvSpPr/>
          <p:nvPr/>
        </p:nvSpPr>
        <p:spPr>
          <a:xfrm>
            <a:off x="836640" y="4014720"/>
            <a:ext cx="2386080" cy="900360"/>
          </a:xfrm>
          <a:prstGeom prst="cloudCallout">
            <a:avLst>
              <a:gd name="adj1" fmla="val 73402"/>
              <a:gd name="adj2" fmla="val -57615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síce pod tisí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láček 23"/>
          <p:cNvSpPr/>
          <p:nvPr/>
        </p:nvSpPr>
        <p:spPr>
          <a:xfrm>
            <a:off x="2097000" y="5138640"/>
            <a:ext cx="2475000" cy="900360"/>
          </a:xfrm>
          <a:prstGeom prst="cloudCallout">
            <a:avLst>
              <a:gd name="adj1" fmla="val 34569"/>
              <a:gd name="adj2" fmla="val -176351"/>
            </a:avLst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vky pod stovk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341280" y="4194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…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jinými slovy: „Stejné řády pod stejné řády neboli stejné řády pod sebou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0"/>
          <p:cNvSpPr/>
          <p:nvPr/>
        </p:nvSpPr>
        <p:spPr>
          <a:xfrm>
            <a:off x="566640" y="522936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rebuchet MS"/>
              </a:rPr>
              <a:t>A stejně budeme postupovat i při sčítání čísel desetinný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2"/>
              <p:cNvSpPr txBox="1"/>
              <p:nvPr/>
            </p:nvSpPr>
            <p:spPr>
              <a:xfrm>
                <a:off x="538200" y="1449360"/>
                <a:ext cx="41338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4116240" y="2290680"/>
                <a:ext cx="1479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3492360" y="2975040"/>
                <a:ext cx="17146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Přímá spojovací čára 9"/>
          <p:cNvSpPr/>
          <p:nvPr/>
        </p:nvSpPr>
        <p:spPr>
          <a:xfrm>
            <a:off x="3465360" y="380988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římá spojovací čára 11"/>
          <p:cNvSpPr/>
          <p:nvPr/>
        </p:nvSpPr>
        <p:spPr>
          <a:xfrm>
            <a:off x="4416480" y="2325600"/>
            <a:ext cx="0" cy="1619280"/>
          </a:xfrm>
          <a:prstGeom prst="line">
            <a:avLst/>
          </a:prstGeom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římá spojovací čára 12"/>
          <p:cNvSpPr/>
          <p:nvPr/>
        </p:nvSpPr>
        <p:spPr>
          <a:xfrm>
            <a:off x="4056120" y="2336760"/>
            <a:ext cx="0" cy="162072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římá spojovací čára 17"/>
          <p:cNvSpPr/>
          <p:nvPr/>
        </p:nvSpPr>
        <p:spPr>
          <a:xfrm>
            <a:off x="3705120" y="2336760"/>
            <a:ext cx="0" cy="162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římá spojovací čára 18"/>
          <p:cNvSpPr/>
          <p:nvPr/>
        </p:nvSpPr>
        <p:spPr>
          <a:xfrm>
            <a:off x="5294160" y="2327400"/>
            <a:ext cx="0" cy="16207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římá spojovací čára 19"/>
          <p:cNvSpPr/>
          <p:nvPr/>
        </p:nvSpPr>
        <p:spPr>
          <a:xfrm>
            <a:off x="4943520" y="2349360"/>
            <a:ext cx="0" cy="161928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láček 20"/>
          <p:cNvSpPr/>
          <p:nvPr/>
        </p:nvSpPr>
        <p:spPr>
          <a:xfrm>
            <a:off x="2322360" y="5319720"/>
            <a:ext cx="2384640" cy="900000"/>
          </a:xfrm>
          <a:prstGeom prst="cloudCallout">
            <a:avLst>
              <a:gd name="adj1" fmla="val 36064"/>
              <a:gd name="adj2" fmla="val -194824"/>
            </a:avLst>
          </a:prstGeom>
          <a:solidFill>
            <a:srgbClr val="00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tky pod jednotk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láček 21"/>
          <p:cNvSpPr/>
          <p:nvPr/>
        </p:nvSpPr>
        <p:spPr>
          <a:xfrm>
            <a:off x="1143000" y="4530600"/>
            <a:ext cx="2519280" cy="900360"/>
          </a:xfrm>
          <a:prstGeom prst="cloudCallout">
            <a:avLst>
              <a:gd name="adj1" fmla="val 64949"/>
              <a:gd name="adj2" fmla="val -105111"/>
            </a:avLst>
          </a:pr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ítky pod desítk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láček 22"/>
          <p:cNvSpPr/>
          <p:nvPr/>
        </p:nvSpPr>
        <p:spPr>
          <a:xfrm>
            <a:off x="6192720" y="4284720"/>
            <a:ext cx="2384640" cy="900000"/>
          </a:xfrm>
          <a:prstGeom prst="cloudCallout">
            <a:avLst>
              <a:gd name="adj1" fmla="val -84421"/>
              <a:gd name="adj2" fmla="val -78722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iny pod setiny 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láček 23"/>
          <p:cNvSpPr/>
          <p:nvPr/>
        </p:nvSpPr>
        <p:spPr>
          <a:xfrm>
            <a:off x="431640" y="3664080"/>
            <a:ext cx="2475000" cy="900000"/>
          </a:xfrm>
          <a:prstGeom prst="cloudCallout">
            <a:avLst>
              <a:gd name="adj1" fmla="val 78226"/>
              <a:gd name="adj2" fmla="val -14074"/>
            </a:avLst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vky pod stovk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láček 24"/>
          <p:cNvSpPr/>
          <p:nvPr/>
        </p:nvSpPr>
        <p:spPr>
          <a:xfrm>
            <a:off x="4797360" y="5229360"/>
            <a:ext cx="2835360" cy="900000"/>
          </a:xfrm>
          <a:prstGeom prst="cloudCallout">
            <a:avLst>
              <a:gd name="adj1" fmla="val -42597"/>
              <a:gd name="adj2" fmla="val -180310"/>
            </a:avLst>
          </a:prstGeom>
          <a:solidFill>
            <a:srgbClr val="7030a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tiny pod desetiny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láček 15"/>
          <p:cNvSpPr/>
          <p:nvPr/>
        </p:nvSpPr>
        <p:spPr>
          <a:xfrm>
            <a:off x="5651640" y="638280"/>
            <a:ext cx="3016080" cy="1665360"/>
          </a:xfrm>
          <a:prstGeom prst="cloudCallout">
            <a:avLst>
              <a:gd name="adj1" fmla="val -80888"/>
              <a:gd name="adj2" fmla="val 14129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yní tedy zpě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číslům desetinný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538200" y="1449360"/>
                <a:ext cx="41338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4116240" y="2290680"/>
                <a:ext cx="1479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3492360" y="2975040"/>
                <a:ext cx="17146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Přímá spojovací čára 9"/>
          <p:cNvSpPr/>
          <p:nvPr/>
        </p:nvSpPr>
        <p:spPr>
          <a:xfrm>
            <a:off x="3465360" y="380988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ovací čára 11"/>
          <p:cNvSpPr/>
          <p:nvPr/>
        </p:nvSpPr>
        <p:spPr>
          <a:xfrm>
            <a:off x="4416480" y="2325600"/>
            <a:ext cx="0" cy="1619280"/>
          </a:xfrm>
          <a:prstGeom prst="line">
            <a:avLst/>
          </a:prstGeom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římá spojovací čára 12"/>
          <p:cNvSpPr/>
          <p:nvPr/>
        </p:nvSpPr>
        <p:spPr>
          <a:xfrm>
            <a:off x="4056120" y="2336760"/>
            <a:ext cx="0" cy="162072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římá spojovací čára 17"/>
          <p:cNvSpPr/>
          <p:nvPr/>
        </p:nvSpPr>
        <p:spPr>
          <a:xfrm>
            <a:off x="3705120" y="2336760"/>
            <a:ext cx="0" cy="162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římá spojovací čára 18"/>
          <p:cNvSpPr/>
          <p:nvPr/>
        </p:nvSpPr>
        <p:spPr>
          <a:xfrm>
            <a:off x="5294160" y="2327400"/>
            <a:ext cx="0" cy="16207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9"/>
          <p:cNvSpPr/>
          <p:nvPr/>
        </p:nvSpPr>
        <p:spPr>
          <a:xfrm>
            <a:off x="4943520" y="2349360"/>
            <a:ext cx="0" cy="161928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láček 20"/>
          <p:cNvSpPr/>
          <p:nvPr/>
        </p:nvSpPr>
        <p:spPr>
          <a:xfrm>
            <a:off x="2322360" y="5319720"/>
            <a:ext cx="2384640" cy="900000"/>
          </a:xfrm>
          <a:prstGeom prst="cloudCallout">
            <a:avLst>
              <a:gd name="adj1" fmla="val 36064"/>
              <a:gd name="adj2" fmla="val -194824"/>
            </a:avLst>
          </a:prstGeom>
          <a:solidFill>
            <a:srgbClr val="00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otky pod jednotk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láček 21"/>
          <p:cNvSpPr/>
          <p:nvPr/>
        </p:nvSpPr>
        <p:spPr>
          <a:xfrm>
            <a:off x="1143000" y="4530600"/>
            <a:ext cx="2519280" cy="900360"/>
          </a:xfrm>
          <a:prstGeom prst="cloudCallout">
            <a:avLst>
              <a:gd name="adj1" fmla="val 64949"/>
              <a:gd name="adj2" fmla="val -105111"/>
            </a:avLst>
          </a:prstGeom>
          <a:solidFill>
            <a:srgbClr val="00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ítky pod desítk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láček 22"/>
          <p:cNvSpPr/>
          <p:nvPr/>
        </p:nvSpPr>
        <p:spPr>
          <a:xfrm>
            <a:off x="6192720" y="4284720"/>
            <a:ext cx="2384640" cy="900000"/>
          </a:xfrm>
          <a:prstGeom prst="cloudCallout">
            <a:avLst>
              <a:gd name="adj1" fmla="val -84421"/>
              <a:gd name="adj2" fmla="val -78722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iny pod setiny 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bláček 23"/>
          <p:cNvSpPr/>
          <p:nvPr/>
        </p:nvSpPr>
        <p:spPr>
          <a:xfrm>
            <a:off x="431640" y="3664080"/>
            <a:ext cx="2475000" cy="900000"/>
          </a:xfrm>
          <a:prstGeom prst="cloudCallout">
            <a:avLst>
              <a:gd name="adj1" fmla="val 78226"/>
              <a:gd name="adj2" fmla="val -14074"/>
            </a:avLst>
          </a:prstGeom>
          <a:solidFill>
            <a:srgbClr val="ff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vky pod stovk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láček 24"/>
          <p:cNvSpPr/>
          <p:nvPr/>
        </p:nvSpPr>
        <p:spPr>
          <a:xfrm>
            <a:off x="4797360" y="5229360"/>
            <a:ext cx="2835360" cy="900000"/>
          </a:xfrm>
          <a:prstGeom prst="cloudCallout">
            <a:avLst>
              <a:gd name="adj1" fmla="val -42597"/>
              <a:gd name="adj2" fmla="val -180310"/>
            </a:avLst>
          </a:prstGeom>
          <a:solidFill>
            <a:srgbClr val="7030a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tiny pod desetin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0"/>
          <p:cNvSpPr/>
          <p:nvPr/>
        </p:nvSpPr>
        <p:spPr>
          <a:xfrm>
            <a:off x="385920" y="4419720"/>
            <a:ext cx="813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…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jinými slovy: „Desetinnou čárku pod čárku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0"/>
          <p:cNvSpPr/>
          <p:nvPr/>
        </p:nvSpPr>
        <p:spPr>
          <a:xfrm>
            <a:off x="611280" y="54547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rebuchet MS"/>
              </a:rPr>
              <a:t>A stejně tak pak i ve výsledk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lipsa 27"/>
          <p:cNvSpPr/>
          <p:nvPr/>
        </p:nvSpPr>
        <p:spPr>
          <a:xfrm>
            <a:off x="4562640" y="2630520"/>
            <a:ext cx="212400" cy="1271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538200" y="1449360"/>
                <a:ext cx="41338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3"/>
              <p:cNvSpPr txBox="1"/>
              <p:nvPr/>
            </p:nvSpPr>
            <p:spPr>
              <a:xfrm>
                <a:off x="4116240" y="2290680"/>
                <a:ext cx="1479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3492360" y="2975040"/>
                <a:ext cx="17146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Přímá spojovací čára 9"/>
          <p:cNvSpPr/>
          <p:nvPr/>
        </p:nvSpPr>
        <p:spPr>
          <a:xfrm>
            <a:off x="3465360" y="380988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láček 22"/>
          <p:cNvSpPr/>
          <p:nvPr/>
        </p:nvSpPr>
        <p:spPr>
          <a:xfrm>
            <a:off x="4751280" y="279360"/>
            <a:ext cx="2700360" cy="1709640"/>
          </a:xfrm>
          <a:prstGeom prst="cloudCallout">
            <a:avLst>
              <a:gd name="adj1" fmla="val -47476"/>
              <a:gd name="adj2" fmla="val 72412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 nyní už můžeme sčítat pod sebou, jak jsme zvykl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0"/>
          <p:cNvSpPr/>
          <p:nvPr/>
        </p:nvSpPr>
        <p:spPr>
          <a:xfrm>
            <a:off x="566640" y="442764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Ale určitě ne! Zajisté přece víme, že za poslední platnou číslicí za desetinnou čárkou můžeme napsat libovolný počet n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ovéPole 28"/>
          <p:cNvSpPr/>
          <p:nvPr/>
        </p:nvSpPr>
        <p:spPr>
          <a:xfrm>
            <a:off x="5043600" y="2970360"/>
            <a:ext cx="49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bláček 29"/>
          <p:cNvSpPr/>
          <p:nvPr/>
        </p:nvSpPr>
        <p:spPr>
          <a:xfrm>
            <a:off x="6192720" y="1808280"/>
            <a:ext cx="2700360" cy="1711080"/>
          </a:xfrm>
          <a:prstGeom prst="cloudCallout">
            <a:avLst>
              <a:gd name="adj1" fmla="val -74305"/>
              <a:gd name="adj2" fmla="val 48106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bo že by tady snad byl ještě nějaký problé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5"/>
              <p:cNvSpPr txBox="1"/>
              <p:nvPr/>
            </p:nvSpPr>
            <p:spPr>
              <a:xfrm>
                <a:off x="5025960" y="2975040"/>
                <a:ext cx="5907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40"/>
          <p:cNvSpPr/>
          <p:nvPr/>
        </p:nvSpPr>
        <p:spPr>
          <a:xfrm>
            <a:off x="566640" y="537372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rebuchet MS"/>
              </a:rPr>
              <a:t>Anebo si je tam jen domyslet a počítat s ni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538200" y="1449360"/>
                <a:ext cx="41338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4116240" y="2290680"/>
                <a:ext cx="1479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3492360" y="2989440"/>
                <a:ext cx="20703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Přímá spojovací čára 9"/>
          <p:cNvSpPr/>
          <p:nvPr/>
        </p:nvSpPr>
        <p:spPr>
          <a:xfrm>
            <a:off x="3465360" y="380988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5002200" y="3755880"/>
                <a:ext cx="5904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Elipsa 9"/>
          <p:cNvSpPr/>
          <p:nvPr/>
        </p:nvSpPr>
        <p:spPr>
          <a:xfrm>
            <a:off x="5045040" y="2349360"/>
            <a:ext cx="495360" cy="148428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10"/>
          <p:cNvSpPr/>
          <p:nvPr/>
        </p:nvSpPr>
        <p:spPr>
          <a:xfrm>
            <a:off x="5135400" y="285588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čítání desetinných čí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0"/>
          <p:cNvSpPr/>
          <p:nvPr/>
        </p:nvSpPr>
        <p:spPr>
          <a:xfrm>
            <a:off x="476280" y="86364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522360" y="81900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ypočít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538200" y="1449360"/>
                <a:ext cx="41338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4116240" y="2290680"/>
                <a:ext cx="1479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3492360" y="2989440"/>
                <a:ext cx="20703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Přímá spojovací čára 9"/>
          <p:cNvSpPr/>
          <p:nvPr/>
        </p:nvSpPr>
        <p:spPr>
          <a:xfrm>
            <a:off x="3465360" y="3809880"/>
            <a:ext cx="2124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5002200" y="3757680"/>
                <a:ext cx="5904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Elipsa 9"/>
          <p:cNvSpPr/>
          <p:nvPr/>
        </p:nvSpPr>
        <p:spPr>
          <a:xfrm>
            <a:off x="4662360" y="2349360"/>
            <a:ext cx="495360" cy="1484280"/>
          </a:xfrm>
          <a:prstGeom prst="ellipse">
            <a:avLst/>
          </a:pr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ovéPole 10"/>
          <p:cNvSpPr/>
          <p:nvPr/>
        </p:nvSpPr>
        <p:spPr>
          <a:xfrm>
            <a:off x="4751280" y="285588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6"/>
              <p:cNvSpPr txBox="1"/>
              <p:nvPr/>
            </p:nvSpPr>
            <p:spPr>
              <a:xfrm>
                <a:off x="4673520" y="3755880"/>
                <a:ext cx="5317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7"/>
              <p:cNvSpPr txBox="1"/>
              <p:nvPr/>
            </p:nvSpPr>
            <p:spPr>
              <a:xfrm>
                <a:off x="4481640" y="4205160"/>
                <a:ext cx="35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06" name="Přímá spojovací šipka 14"/>
          <p:cNvCxnSpPr/>
          <p:nvPr/>
        </p:nvCxnSpPr>
        <p:spPr>
          <a:xfrm flipH="1">
            <a:off x="4640040" y="3893760"/>
            <a:ext cx="2160" cy="359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Autorem materiálu a všech jeho částí, není-li uvedeno jinak, je Mgr. Radomír Macháň.
Dostupné z Metodického portálu www.rvp.cz, ISSN: 1802-4785, financovaného z ESF a státního rozpočtu ČR.
Provozováno Výzkumným ústavem pedagogickým v Praze.</dc:description>
  <dc:language>en-US</dc:language>
  <cp:lastModifiedBy>VUPPraha</cp:lastModifiedBy>
  <dcterms:modified xsi:type="dcterms:W3CDTF">2011-05-31T07:22:14Z</dcterms:modified>
  <cp:revision>322</cp:revision>
  <dc:subject/>
  <dc:title>Lineární rovnice</dc:title>
</cp:coreProperties>
</file>