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876-7C68-4ACB-820F-EF4E9265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B92-EE59-437B-9B3D-8F27714D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D4E-EDD6-46C4-9992-CCD83526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A21-BE0D-4304-9A00-EC984458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CB47-A252-4490-8BBB-019D73F6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058B-AD95-4B6F-A690-5A42F010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EC6F-8FF8-463D-B0D6-B2994239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0107-9AD6-4DE6-AD67-AD5CA312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E5B-DE93-45FA-9488-3C1DA959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122-7C2B-4872-90A2-187D7F5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14A2-277F-4794-81D8-60AF049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E67-EEEA-4B12-A41C-74D11E7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9C2-F2D2-4F20-AF2C-13375AD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8FC4-0622-444E-BADA-CEA23486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16C-A28E-425A-AE92-0E0E708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014D-D2C4-48C5-994D-0818D572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FBF4-1397-4C92-BA84-75C908AC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489-1C4B-45C8-A29E-199192DE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FC2-1B6F-4AEE-AC48-0A5655AE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2D3-93E7-4864-9924-CC36FF89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1EA-F64F-48CC-A97E-2EB1C331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C4B-E676-433A-A82B-F5C2D01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C3A-5FC3-4B83-A9EC-B13B3F4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A36-B407-47BF-96FF-BE6DFF6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D143-0442-4E98-AD81-767D4DD4E5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64A-54AA-40CF-9BF3-141EAB7A0CD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četní výkony s celými čísly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sčítání a odčítá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 Čísla mají růz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12720" y="155736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484360" y="3357720"/>
            <a:ext cx="417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2 +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3357720"/>
            <a:ext cx="14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11280" y="4003560"/>
            <a:ext cx="7920000" cy="20894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924360" y="4897440"/>
            <a:ext cx="576360" cy="0"/>
          </a:xfrm>
          <a:prstGeom prst="line">
            <a:avLst/>
          </a:prstGeom>
          <a:ln w="190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5800" y="4954680"/>
            <a:ext cx="1150920" cy="1440"/>
          </a:xfrm>
          <a:prstGeom prst="line">
            <a:avLst/>
          </a:prstGeom>
          <a:ln w="954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8640" y="4853160"/>
            <a:ext cx="582480" cy="0"/>
          </a:xfrm>
          <a:prstGeom prst="line">
            <a:avLst/>
          </a:prstGeom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2904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  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+ 4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558972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2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64240" y="5589720"/>
            <a:ext cx="168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+ 2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95560" y="2811600"/>
            <a:ext cx="1151280" cy="25704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320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8800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54400" y="2637000"/>
            <a:ext cx="6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439416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92 L 0.02986 -0.00092 E">
                                      <p:cBhvr>
                                        <p:cTn id="91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500"/>
                            </p:stCondLst>
                            <p:childTnLst>
                              <p:par>
                                <p:cTn id="92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92 L 0.03472 -0.00092 E">
                                      <p:cBhvr>
                                        <p:cTn id="92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500"/>
                            </p:stCondLst>
                            <p:childTnLst>
                              <p:par>
                                <p:cTn id="9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0"/>
                            </p:stCondLst>
                            <p:childTnLst>
                              <p:par>
                                <p:cTn id="93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0092 L 0.0316 -0.00092 E">
                                      <p:cBhvr>
                                        <p:cTn id="93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70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0092 L 0.03299 -0.00092 E">
                                      <p:cBhvr>
                                        <p:cTn id="94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 Čísla mají růz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3640" y="148428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4 =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200340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997360"/>
            <a:ext cx="770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čísla různá znaménka, určíme výsledek tak, že odečteme absolutní hodnoty čísel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(od větší menší)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a ve výsledku napíšeme znaménko, které je před číslem s větší absolutní hodno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065320" y="429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2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63920" y="4336920"/>
            <a:ext cx="57456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95760" y="4335480"/>
            <a:ext cx="574920" cy="5745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440" y="4941720"/>
            <a:ext cx="1800360" cy="574920"/>
          </a:xfrm>
          <a:custGeom>
            <a:avLst/>
            <a:gdLst/>
            <a:ahLst/>
            <a:rect l="l" t="t" r="r" b="b"/>
            <a:pathLst>
              <a:path w="1134" h="362">
                <a:moveTo>
                  <a:pt x="0" y="0"/>
                </a:moveTo>
                <a:cubicBezTo>
                  <a:pt x="132" y="181"/>
                  <a:pt x="265" y="362"/>
                  <a:pt x="454" y="362"/>
                </a:cubicBezTo>
                <a:cubicBezTo>
                  <a:pt x="643" y="362"/>
                  <a:pt x="888" y="181"/>
                  <a:pt x="113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640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76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6532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2736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9564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2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3368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9572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4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46520" y="5619600"/>
            <a:ext cx="28548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83200" y="5618160"/>
            <a:ext cx="28548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13440" y="4192560"/>
            <a:ext cx="804960" cy="792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56000" y="5013360"/>
            <a:ext cx="1944720" cy="1092240"/>
          </a:xfrm>
          <a:custGeom>
            <a:avLst/>
            <a:gdLst/>
            <a:ahLst/>
            <a:rect l="l" t="t" r="r" b="b"/>
            <a:pathLst>
              <a:path w="1225" h="688">
                <a:moveTo>
                  <a:pt x="0" y="590"/>
                </a:moveTo>
                <a:cubicBezTo>
                  <a:pt x="238" y="639"/>
                  <a:pt x="476" y="688"/>
                  <a:pt x="680" y="590"/>
                </a:cubicBezTo>
                <a:cubicBezTo>
                  <a:pt x="884" y="492"/>
                  <a:pt x="1054" y="246"/>
                  <a:pt x="122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5084640"/>
            <a:ext cx="3384720" cy="1225800"/>
          </a:xfrm>
          <a:custGeom>
            <a:avLst/>
            <a:gdLst/>
            <a:ahLst/>
            <a:rect l="l" t="t" r="r" b="b"/>
            <a:pathLst>
              <a:path w="2132" h="772">
                <a:moveTo>
                  <a:pt x="0" y="545"/>
                </a:moveTo>
                <a:cubicBezTo>
                  <a:pt x="639" y="658"/>
                  <a:pt x="1278" y="772"/>
                  <a:pt x="1633" y="681"/>
                </a:cubicBezTo>
                <a:cubicBezTo>
                  <a:pt x="1988" y="590"/>
                  <a:pt x="2060" y="295"/>
                  <a:pt x="213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00720" y="5300640"/>
            <a:ext cx="2160720" cy="1008000"/>
          </a:xfrm>
          <a:prstGeom prst="cloudCallout">
            <a:avLst>
              <a:gd name="adj1" fmla="val -34421"/>
              <a:gd name="adj2" fmla="val -896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4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 Čísla mají růz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148428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4 =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200340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2997360"/>
            <a:ext cx="770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čísla různá znaménka, určíme výsledek tak, že odečteme absolutní hodnoty čísel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(od větší menší)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a ve výsledku napíšeme znaménko, které je před číslem s větší absolutní hodno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65320" y="429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 +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49520" y="4336920"/>
            <a:ext cx="57492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95760" y="4335480"/>
            <a:ext cx="574920" cy="5745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440" y="4941720"/>
            <a:ext cx="1800360" cy="574920"/>
          </a:xfrm>
          <a:custGeom>
            <a:avLst/>
            <a:gdLst/>
            <a:ahLst/>
            <a:rect l="l" t="t" r="r" b="b"/>
            <a:pathLst>
              <a:path w="1134" h="362">
                <a:moveTo>
                  <a:pt x="0" y="0"/>
                </a:moveTo>
                <a:cubicBezTo>
                  <a:pt x="132" y="181"/>
                  <a:pt x="265" y="362"/>
                  <a:pt x="454" y="362"/>
                </a:cubicBezTo>
                <a:cubicBezTo>
                  <a:pt x="643" y="362"/>
                  <a:pt x="888" y="181"/>
                  <a:pt x="113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640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76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6532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2736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2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3368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9572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400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4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17720" y="5619600"/>
            <a:ext cx="28584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26040" y="5618160"/>
            <a:ext cx="28548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440" y="4192560"/>
            <a:ext cx="804960" cy="792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6000" y="5013360"/>
            <a:ext cx="1944720" cy="1092240"/>
          </a:xfrm>
          <a:custGeom>
            <a:avLst/>
            <a:gdLst/>
            <a:ahLst/>
            <a:rect l="l" t="t" r="r" b="b"/>
            <a:pathLst>
              <a:path w="1225" h="688">
                <a:moveTo>
                  <a:pt x="0" y="590"/>
                </a:moveTo>
                <a:cubicBezTo>
                  <a:pt x="238" y="639"/>
                  <a:pt x="476" y="688"/>
                  <a:pt x="680" y="590"/>
                </a:cubicBezTo>
                <a:cubicBezTo>
                  <a:pt x="884" y="492"/>
                  <a:pt x="1054" y="246"/>
                  <a:pt x="122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87640" y="5084640"/>
            <a:ext cx="3384720" cy="1225800"/>
          </a:xfrm>
          <a:custGeom>
            <a:avLst/>
            <a:gdLst/>
            <a:ahLst/>
            <a:rect l="l" t="t" r="r" b="b"/>
            <a:pathLst>
              <a:path w="2132" h="772">
                <a:moveTo>
                  <a:pt x="0" y="545"/>
                </a:moveTo>
                <a:cubicBezTo>
                  <a:pt x="639" y="658"/>
                  <a:pt x="1278" y="772"/>
                  <a:pt x="1633" y="681"/>
                </a:cubicBezTo>
                <a:cubicBezTo>
                  <a:pt x="1988" y="590"/>
                  <a:pt x="2060" y="295"/>
                  <a:pt x="213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5300640"/>
            <a:ext cx="2160720" cy="1008000"/>
          </a:xfrm>
          <a:prstGeom prst="cloudCallout">
            <a:avLst>
              <a:gd name="adj1" fmla="val -34421"/>
              <a:gd name="adj2" fmla="val -896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4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96800" y="2060640"/>
            <a:ext cx="82519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404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1268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 Sčítání a odčítání většího počtu celých čísel „najednou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242100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 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4 + 3 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6 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1 + 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78936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 Sečteme všechna kladná čísla a výsledku dáme znaménko 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2997360"/>
            <a:ext cx="5760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2997360"/>
            <a:ext cx="5760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59280" y="2997360"/>
            <a:ext cx="576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2160" y="242100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458136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2. Sečteme všechna záporná čísla a výsledku dáme znaménko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87360" y="2997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59280" y="299736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24360" y="2997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61080" y="2421000"/>
            <a:ext cx="13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11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537372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 Odečteme absolutní hodnoty čísel a přidáme znaménko čísla s větší absolutní hodno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42320" y="2421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60360" y="15559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+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60360" y="1916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+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60360" y="2276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60360" y="2708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60360" y="31399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60360" y="3573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0360" y="4005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60360" y="4437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+ 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0360" y="486900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60360" y="5300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60360" y="5732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1080" y="15573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080" y="191772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4 + 2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080" y="2278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+ 5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080" y="270972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8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080" y="314172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4 + 2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61080" y="4006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 + 6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61080" y="4438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2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61080" y="48704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0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61080" y="5302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61080" y="5734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+ 7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60360" y="15559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+ 4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60360" y="1916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+ 8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6920" y="2276640"/>
            <a:ext cx="244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60360" y="270828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313992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60360" y="3573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60360" y="400536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4437000"/>
            <a:ext cx="244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+ 40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4869000"/>
            <a:ext cx="244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5300640"/>
            <a:ext cx="244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8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573264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0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40360" y="1557360"/>
            <a:ext cx="27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5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61080" y="191772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4 + 23 =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0720" y="22780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+ 55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00720" y="270972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88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5640" y="3141720"/>
            <a:ext cx="288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5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4 + 23 = 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00720" y="40068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 + 66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443880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29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84720" y="487044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0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1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61080" y="53020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27640" y="573408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4 + 76 =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+ 4 +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03280" y="184464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+ 6 +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227664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+ 2 + 5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56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+ 2 +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+ 7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58920" y="400536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+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+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5640" y="443700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+ 3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2 + 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000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+ 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4 + 5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58920" y="530064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+ 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+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573264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 + 2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 + 1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698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018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+ 4 +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3480" y="184464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+ 6 +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0200" y="227664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+ 2 + 5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58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+ 2 +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145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58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+ 7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89120" y="400536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+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 +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5840" y="443700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 + 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+ 3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2 + 4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302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 + 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4 + 5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89120" y="530064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 + 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 + 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1120" y="5732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3 + 2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 + 1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3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505480" y="141444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6920" y="184464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7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1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6920" y="227664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05480" y="270828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7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6920" y="313992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06920" y="357336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3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2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06920" y="400536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9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06920" y="443700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401840" y="443664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714920" y="443664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201840" y="4436640"/>
            <a:ext cx="64800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49840" y="443664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6920" y="486900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4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8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922560" y="4868640"/>
            <a:ext cx="64800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130560" y="486864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6920" y="530064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0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4 =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06920" y="5734080"/>
            <a:ext cx="30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527720" y="573228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546200" y="573372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54200" y="573372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059280" y="573372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78200" y="573372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265480" y="5733720"/>
            <a:ext cx="64764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 - shrnu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56080" y="3787920"/>
            <a:ext cx="388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4 =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95640" y="4307040"/>
            <a:ext cx="4610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5640" y="530064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čísla různá znaménka, určíme výsledek tak, že odečteme absolutní hodnoty čísel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(od větší menší)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a ve výsledku napíšeme znaménko, které je před číslem s větší absolutní hodnot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68680" y="112536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065480" y="164448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4 =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59280" y="2708280"/>
            <a:ext cx="54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čísla stejná znaménka, určíme výsledek tak, že znaménko opíšeme a sečteme absolutní hodnoty čísel.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žina celých čísel se skládá z přirozených čísel (1, 2, 3, …), nuly a záporných čísel (-1, -2, -3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700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žina celých čísel se v matematice většinou označuj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odle Zahlen (německy čís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8320" y="2492280"/>
            <a:ext cx="792036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86400" y="2797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941720"/>
            <a:ext cx="2521080" cy="1151280"/>
          </a:xfrm>
          <a:prstGeom prst="cloudCallout">
            <a:avLst>
              <a:gd name="adj1" fmla="val -29976"/>
              <a:gd name="adj2" fmla="val -1122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přiroze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795760"/>
            <a:ext cx="3441600" cy="13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941720"/>
            <a:ext cx="2736720" cy="1224000"/>
          </a:xfrm>
          <a:prstGeom prst="cloudCallout">
            <a:avLst>
              <a:gd name="adj1" fmla="val 16416"/>
              <a:gd name="adj2" fmla="val -107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581360"/>
            <a:ext cx="1728720" cy="1368720"/>
          </a:xfrm>
          <a:prstGeom prst="cloudCallout">
            <a:avLst>
              <a:gd name="adj1" fmla="val -13819"/>
              <a:gd name="adj2" fmla="val -10823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dálenost obrazu čísla na číselné ose od nuly se nazývá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bsolutní hodnota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170028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tože se jedná o vzdálenost, je absolutní hodnota vždy číslo kladné nebo nula (nezáporné). Značí s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51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332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724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Taktéž 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4653000"/>
            <a:ext cx="66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edy: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551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říklad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96800" y="1844640"/>
            <a:ext cx="81360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319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0666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změny počtu prvků a jejich porovnávání. Například změny stavu hladin řek, změny teplot vzduchu, změny výše konta v banc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3543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62040" y="3041640"/>
            <a:ext cx="863640" cy="1093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6440" y="4308480"/>
            <a:ext cx="863640" cy="835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205000"/>
            <a:ext cx="3095640" cy="863640"/>
          </a:xfrm>
          <a:prstGeom prst="cloudCallout">
            <a:avLst>
              <a:gd name="adj1" fmla="val -65435"/>
              <a:gd name="adj2" fmla="val 10331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3789360"/>
            <a:ext cx="2447640" cy="792000"/>
          </a:xfrm>
          <a:prstGeom prst="cloudCallout">
            <a:avLst>
              <a:gd name="adj1" fmla="val -102268"/>
              <a:gd name="adj2" fmla="val 431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084640"/>
            <a:ext cx="2736720" cy="1008360"/>
          </a:xfrm>
          <a:prstGeom prst="cloudCallout">
            <a:avLst>
              <a:gd name="adj1" fmla="val -78828"/>
              <a:gd name="adj2" fmla="val -84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4210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; 2; 3; 4; 5; 6; 7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932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rebuchet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537372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-1; -2; -3; -4; -5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 Čísla mají stej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2720" y="155736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84360" y="3357720"/>
            <a:ext cx="417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2 +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9080" y="3357720"/>
            <a:ext cx="6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62680" y="2811600"/>
            <a:ext cx="1150920" cy="25704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4653000"/>
            <a:ext cx="2952720" cy="1655640"/>
          </a:xfrm>
          <a:prstGeom prst="cloudCallout">
            <a:avLst>
              <a:gd name="adj1" fmla="val 23277"/>
              <a:gd name="adj2" fmla="val -92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e-li na začátku příkladu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obvykle nepíš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73400" y="3357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 +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112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996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164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21160" y="2637000"/>
            <a:ext cx="6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11280" y="4003560"/>
            <a:ext cx="7920000" cy="2089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00720" y="4897440"/>
            <a:ext cx="576000" cy="0"/>
          </a:xfrm>
          <a:prstGeom prst="line">
            <a:avLst/>
          </a:prstGeom>
          <a:ln w="190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5280" y="4897440"/>
            <a:ext cx="1116000" cy="1440"/>
          </a:xfrm>
          <a:prstGeom prst="line">
            <a:avLst/>
          </a:prstGeom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4898880"/>
            <a:ext cx="1690560" cy="180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6080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  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+ 4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640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94280" y="5589720"/>
            <a:ext cx="1687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6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99200" y="439416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92 L 0.02986 -0.00092 E">
                                      <p:cBhvr>
                                        <p:cTn id="26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092 L 0.03142 -0.00092 E">
                                      <p:cBhvr>
                                        <p:cTn id="27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92 L 0.02986 -0.00092 E">
                                      <p:cBhvr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92 L 0.02986 -0.00092 E">
                                      <p:cBhvr>
                                        <p:cTn id="29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 Čísla mají stej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2720" y="155736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84360" y="3357720"/>
            <a:ext cx="417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2 -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3357720"/>
            <a:ext cx="14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700360" y="2811600"/>
            <a:ext cx="1209600" cy="25704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8772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2637000"/>
            <a:ext cx="6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1280" y="4003560"/>
            <a:ext cx="7920000" cy="2089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924360" y="4897440"/>
            <a:ext cx="576360" cy="0"/>
          </a:xfrm>
          <a:prstGeom prst="line">
            <a:avLst/>
          </a:prstGeom>
          <a:ln w="190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57600" y="4897440"/>
            <a:ext cx="1150920" cy="1440"/>
          </a:xfrm>
          <a:prstGeom prst="line">
            <a:avLst/>
          </a:prstGeom>
          <a:ln w="190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4897440"/>
            <a:ext cx="1763640" cy="1440"/>
          </a:xfrm>
          <a:prstGeom prst="line">
            <a:avLst/>
          </a:prstGeom>
          <a:ln w="190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2904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  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- 4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558972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2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64240" y="5589720"/>
            <a:ext cx="168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- 6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57600" y="439416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0092 L -0.00174 -0.00092 E">
                                      <p:cBhvr>
                                        <p:cTn id="36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4 -0.00092 L -0.00017 -0.00092 E">
                                      <p:cBhvr>
                                        <p:cTn id="37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0092 L -0.00174 -0.00092 E">
                                      <p:cBhvr>
                                        <p:cTn id="38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-0.00092 L -0.00329 -0.00092 E">
                                      <p:cBhvr>
                                        <p:cTn id="39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 Čísla mají stej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162864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14776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- 2 - 4 = -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314172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Mají-li dvě čísla stejná znaménka, určíme výsledek tak, že znaménko opíšeme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a sečteme absolutní hodnoty číse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65320" y="429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2 +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97000" y="4336920"/>
            <a:ext cx="57492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63920" y="4336920"/>
            <a:ext cx="57456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5760" y="4335480"/>
            <a:ext cx="574920" cy="5745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440" y="4941720"/>
            <a:ext cx="1800360" cy="574920"/>
          </a:xfrm>
          <a:custGeom>
            <a:avLst/>
            <a:gdLst/>
            <a:ahLst/>
            <a:rect l="l" t="t" r="r" b="b"/>
            <a:pathLst>
              <a:path w="1134" h="362">
                <a:moveTo>
                  <a:pt x="0" y="0"/>
                </a:moveTo>
                <a:cubicBezTo>
                  <a:pt x="132" y="181"/>
                  <a:pt x="265" y="362"/>
                  <a:pt x="454" y="362"/>
                </a:cubicBezTo>
                <a:cubicBezTo>
                  <a:pt x="643" y="362"/>
                  <a:pt x="888" y="181"/>
                  <a:pt x="113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4956120"/>
            <a:ext cx="3240360" cy="934920"/>
          </a:xfrm>
          <a:custGeom>
            <a:avLst/>
            <a:gdLst/>
            <a:ahLst/>
            <a:rect l="l" t="t" r="r" b="b"/>
            <a:pathLst>
              <a:path w="2041" h="589">
                <a:moveTo>
                  <a:pt x="0" y="0"/>
                </a:moveTo>
                <a:cubicBezTo>
                  <a:pt x="578" y="294"/>
                  <a:pt x="1157" y="589"/>
                  <a:pt x="1497" y="589"/>
                </a:cubicBezTo>
                <a:cubicBezTo>
                  <a:pt x="1837" y="589"/>
                  <a:pt x="1939" y="294"/>
                  <a:pt x="2041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640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76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6532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2736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2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3368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9572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4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6520" y="5619600"/>
            <a:ext cx="28548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26040" y="5618160"/>
            <a:ext cx="28548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3440" y="4192560"/>
            <a:ext cx="804960" cy="792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6000" y="5013360"/>
            <a:ext cx="1944720" cy="1092240"/>
          </a:xfrm>
          <a:custGeom>
            <a:avLst/>
            <a:gdLst/>
            <a:ahLst/>
            <a:rect l="l" t="t" r="r" b="b"/>
            <a:pathLst>
              <a:path w="1225" h="688">
                <a:moveTo>
                  <a:pt x="0" y="590"/>
                </a:moveTo>
                <a:cubicBezTo>
                  <a:pt x="238" y="639"/>
                  <a:pt x="476" y="688"/>
                  <a:pt x="680" y="590"/>
                </a:cubicBezTo>
                <a:cubicBezTo>
                  <a:pt x="884" y="492"/>
                  <a:pt x="1054" y="246"/>
                  <a:pt x="122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87640" y="5084640"/>
            <a:ext cx="3384720" cy="1225800"/>
          </a:xfrm>
          <a:custGeom>
            <a:avLst/>
            <a:gdLst/>
            <a:ahLst/>
            <a:rect l="l" t="t" r="r" b="b"/>
            <a:pathLst>
              <a:path w="2132" h="772">
                <a:moveTo>
                  <a:pt x="0" y="545"/>
                </a:moveTo>
                <a:cubicBezTo>
                  <a:pt x="639" y="658"/>
                  <a:pt x="1278" y="772"/>
                  <a:pt x="1633" y="681"/>
                </a:cubicBezTo>
                <a:cubicBezTo>
                  <a:pt x="1988" y="590"/>
                  <a:pt x="2060" y="295"/>
                  <a:pt x="213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00720" y="5300640"/>
            <a:ext cx="2160720" cy="1008000"/>
          </a:xfrm>
          <a:prstGeom prst="cloudCallout">
            <a:avLst>
              <a:gd name="adj1" fmla="val -35745"/>
              <a:gd name="adj2" fmla="val -95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2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 Čísla mají stej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162864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2 + 4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214776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- 2 - 4 = -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14172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Mají-li dvě čísla stejná znaménka, určíme výsledek tak, že znaménko opíšeme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a sečteme absolutní hodnoty číse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36600" y="429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 2  -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7000" y="4336920"/>
            <a:ext cx="57492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63920" y="4336920"/>
            <a:ext cx="574560" cy="574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95760" y="4335480"/>
            <a:ext cx="574920" cy="5745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4941720"/>
            <a:ext cx="1800360" cy="574920"/>
          </a:xfrm>
          <a:custGeom>
            <a:avLst/>
            <a:gdLst/>
            <a:ahLst/>
            <a:rect l="l" t="t" r="r" b="b"/>
            <a:pathLst>
              <a:path w="1134" h="362">
                <a:moveTo>
                  <a:pt x="0" y="0"/>
                </a:moveTo>
                <a:cubicBezTo>
                  <a:pt x="132" y="181"/>
                  <a:pt x="265" y="362"/>
                  <a:pt x="454" y="362"/>
                </a:cubicBezTo>
                <a:cubicBezTo>
                  <a:pt x="643" y="362"/>
                  <a:pt x="888" y="181"/>
                  <a:pt x="1134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956120"/>
            <a:ext cx="3240360" cy="934920"/>
          </a:xfrm>
          <a:custGeom>
            <a:avLst/>
            <a:gdLst/>
            <a:ahLst/>
            <a:rect l="l" t="t" r="r" b="b"/>
            <a:pathLst>
              <a:path w="2041" h="589">
                <a:moveTo>
                  <a:pt x="0" y="0"/>
                </a:moveTo>
                <a:cubicBezTo>
                  <a:pt x="578" y="294"/>
                  <a:pt x="1157" y="589"/>
                  <a:pt x="1497" y="589"/>
                </a:cubicBezTo>
                <a:cubicBezTo>
                  <a:pt x="1837" y="589"/>
                  <a:pt x="1939" y="294"/>
                  <a:pt x="2041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2760" y="4292640"/>
            <a:ext cx="76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7680" y="4292640"/>
            <a:ext cx="63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532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2736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2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33680" y="4105440"/>
            <a:ext cx="1297080" cy="1008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95720" y="5157720"/>
            <a:ext cx="0" cy="358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4000" y="547380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4480" y="5619600"/>
            <a:ext cx="28584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1560" y="5618160"/>
            <a:ext cx="285840" cy="285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3440" y="4192560"/>
            <a:ext cx="804960" cy="792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5013360"/>
            <a:ext cx="1944720" cy="1092240"/>
          </a:xfrm>
          <a:custGeom>
            <a:avLst/>
            <a:gdLst/>
            <a:ahLst/>
            <a:rect l="l" t="t" r="r" b="b"/>
            <a:pathLst>
              <a:path w="1225" h="688">
                <a:moveTo>
                  <a:pt x="0" y="590"/>
                </a:moveTo>
                <a:cubicBezTo>
                  <a:pt x="238" y="639"/>
                  <a:pt x="476" y="688"/>
                  <a:pt x="680" y="590"/>
                </a:cubicBezTo>
                <a:cubicBezTo>
                  <a:pt x="884" y="492"/>
                  <a:pt x="1054" y="246"/>
                  <a:pt x="122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5084640"/>
            <a:ext cx="3384720" cy="1225800"/>
          </a:xfrm>
          <a:custGeom>
            <a:avLst/>
            <a:gdLst/>
            <a:ahLst/>
            <a:rect l="l" t="t" r="r" b="b"/>
            <a:pathLst>
              <a:path w="2132" h="772">
                <a:moveTo>
                  <a:pt x="0" y="545"/>
                </a:moveTo>
                <a:cubicBezTo>
                  <a:pt x="639" y="658"/>
                  <a:pt x="1278" y="772"/>
                  <a:pt x="1633" y="681"/>
                </a:cubicBezTo>
                <a:cubicBezTo>
                  <a:pt x="1988" y="590"/>
                  <a:pt x="2060" y="295"/>
                  <a:pt x="2132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0720" y="5300640"/>
            <a:ext cx="2160720" cy="1008000"/>
          </a:xfrm>
          <a:prstGeom prst="cloudCallout">
            <a:avLst>
              <a:gd name="adj1" fmla="val -35745"/>
              <a:gd name="adj2" fmla="val -95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2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9680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ání a odčítá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907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 Čísla mají různá znamé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2720" y="155736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484360" y="3357720"/>
            <a:ext cx="417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2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9080" y="3357720"/>
            <a:ext cx="13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4653000"/>
            <a:ext cx="2952720" cy="1655640"/>
          </a:xfrm>
          <a:prstGeom prst="cloudCallout">
            <a:avLst>
              <a:gd name="adj1" fmla="val 23277"/>
              <a:gd name="adj2" fmla="val -927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Je-li na začátku příkladu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obvykle nepíš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59000" y="3357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11280" y="4003560"/>
            <a:ext cx="7920000" cy="2089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00720" y="4897440"/>
            <a:ext cx="576000" cy="0"/>
          </a:xfrm>
          <a:prstGeom prst="line">
            <a:avLst/>
          </a:prstGeom>
          <a:ln w="190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4954680"/>
            <a:ext cx="1150920" cy="1440"/>
          </a:xfrm>
          <a:prstGeom prst="line">
            <a:avLst/>
          </a:prstGeom>
          <a:ln w="954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4854600"/>
            <a:ext cx="576360" cy="0"/>
          </a:xfrm>
          <a:prstGeom prst="line">
            <a:avLst/>
          </a:prstGeom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6080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  </a:t>
            </a:r>
            <a:r>
              <a:rPr b="1" lang="en-US" sz="6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4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46400" y="5589720"/>
            <a:ext cx="2982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94280" y="5589720"/>
            <a:ext cx="1687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2 </a:t>
            </a:r>
            <a:r>
              <a:rPr b="1" lang="en-US" sz="60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865680" y="2811600"/>
            <a:ext cx="1209600" cy="257040"/>
          </a:xfrm>
          <a:custGeom>
            <a:avLst/>
            <a:gdLst/>
            <a:ahLst/>
            <a:rect l="l" t="t" r="r" b="b"/>
            <a:pathLst>
              <a:path w="2041" h="318">
                <a:moveTo>
                  <a:pt x="0" y="0"/>
                </a:moveTo>
                <a:lnTo>
                  <a:pt x="0" y="318"/>
                </a:lnTo>
                <a:lnTo>
                  <a:pt x="2041" y="3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8968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620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9892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4240" y="1916280"/>
            <a:ext cx="0" cy="64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97320" y="2637000"/>
            <a:ext cx="6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960" y="4394160"/>
            <a:ext cx="0" cy="6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0092 L -0.00174 -0.00092 E">
                                      <p:cBhvr>
                                        <p:cTn id="80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4 -0.00092 L -0.00017 -0.00092 E">
                                      <p:cBhvr>
                                        <p:cTn id="81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500"/>
                            </p:stCondLst>
                            <p:childTnLst>
                              <p:par>
                                <p:cTn id="8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0"/>
                            </p:stCondLst>
                            <p:childTnLst>
                              <p:par>
                                <p:cTn id="824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6 -0.00092 L -0.00174 -0.00092 E">
                                      <p:cBhvr>
                                        <p:cTn id="825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7000"/>
                            </p:stCondLst>
                            <p:childTnLst>
                              <p:par>
                                <p:cTn id="8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7500"/>
                            </p:stCondLst>
                            <p:childTnLst>
                              <p:par>
                                <p:cTn id="834" nodeType="afterEffect" fill="hold" presetClass="path" presetID="63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-0.00092 L -0.00329 -0.00092 E">
                                      <p:cBhvr>
                                        <p:cTn id="83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9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1-22T09:58:52Z</dcterms:modified>
  <cp:revision>170</cp:revision>
  <dc:subject/>
  <dc:title>Celá čísla - sčítání a odčítání</dc:title>
</cp:coreProperties>
</file>