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C8C-4D0E-478F-BA39-8FC7733B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D17-0578-4137-9ACB-C5AF42E5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30B-01CE-409E-9E6D-FB85C3EE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FB0-C89C-4274-A53C-871A1EC6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A758-00E5-4861-943A-620B006E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1F24-0AD3-46EF-ADCA-7F49D648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3702-5C6A-4E2C-9900-B8270EF7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1846-46D3-4A82-B242-3E2FCAFE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689-1EEC-477C-AB08-2366E897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500B-CB29-4D1F-BB66-C2B935BA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C647-64BD-4B24-A96D-3A62B634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C05-54E0-4C98-B7C3-E41B73B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1344-C22D-417D-9008-9B21D78A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7CB1-2234-46B6-96E5-DAF1976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D953-8FA6-474D-81CE-2C6FF7DE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64CA-FE63-47B1-8CC1-F6CD9479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9729-AE3C-4FA8-908C-82B443AF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84C-C36F-4F39-AFC6-D67DB18E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A25-0AB5-4F6D-978C-E64C565F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F7F-B834-43C8-BCFF-E37A1A81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4C7-5507-44FC-8B8E-B77B2859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015-0198-4E30-849A-6748F3FF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7DC-4002-480F-A4FB-93F3F4A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46A-F0A5-45F8-8EB4-BD5B7B2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655-06FD-4BC4-95E9-319E3B1558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A7A4-588F-4FF5-AF80-675A3F0D92C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očetní výkony s celými čísly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násob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60360" y="15559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 .(+ 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60360" y="191628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 .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60360" y="227664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60360" y="270828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9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313992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1)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60360" y="357336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60360" y="400536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.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443700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2 . 4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86900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+ 2)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60360" y="530064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8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573264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34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080" y="15573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27640" y="1917720"/>
            <a:ext cx="24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+ 34) .(+ 2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227808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4) .(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7097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+7) .(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7280" y="3141720"/>
            <a:ext cx="28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0)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61080" y="35751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+ 60) . 3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61080" y="4006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6 .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1080" y="4438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61080" y="487044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0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61080" y="53020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3 .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61080" y="57340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0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43360" y="155736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01960" y="191628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01960" y="227664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0560" y="270828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314172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357336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4760" y="400536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9120" y="443700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486900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95640" y="530064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60720" y="573408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3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00720" y="155736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16800" y="191628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03920" y="227664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03920" y="270828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88000" y="317016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59560" y="357336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400536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57960" y="443700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58040" y="4869000"/>
            <a:ext cx="151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65680" y="530064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0480" y="573408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5280" y="907920"/>
            <a:ext cx="8353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141300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.4.(+ 6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1844640"/>
            <a:ext cx="37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7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).6.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227664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).(+ 2).5.(+ 6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70828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).3.2.(+ 7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13992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2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2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3573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.(+ 7).2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400536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(+ 1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.1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.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443700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0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).(+ 32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32).0.4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4869000"/>
            <a:ext cx="42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(+ 3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4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530064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(+ 3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.7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5732640"/>
            <a:ext cx="48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4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.1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32720" y="6093000"/>
            <a:ext cx="201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907920"/>
            <a:ext cx="8353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141300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.4.(+ 6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03280" y="1844640"/>
            <a:ext cx="37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7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).6.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227664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).(+ 2).5.(+ 6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270828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).3.2.(+ 7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13992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2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2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3573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.(+ 7).2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400536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(+ 1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.1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.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443700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0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).(+ 32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32).0.4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4869000"/>
            <a:ext cx="42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(+ 3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4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530064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(+ 3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.7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5732640"/>
            <a:ext cx="48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4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.1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32360" y="141300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46760" y="2276640"/>
            <a:ext cx="129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03920" y="184464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0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44880" y="272268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8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44880" y="3141720"/>
            <a:ext cx="106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59280" y="3573360"/>
            <a:ext cx="106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44880" y="4005360"/>
            <a:ext cx="106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13240" y="4437000"/>
            <a:ext cx="106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788000" y="4869000"/>
            <a:ext cx="106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61080" y="5300640"/>
            <a:ext cx="106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88000" y="5734080"/>
            <a:ext cx="106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325520"/>
            <a:ext cx="7950240" cy="4911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03920" y="61088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620720" y="1557360"/>
            <a:ext cx="55436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03920" y="61088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95280" y="1363680"/>
            <a:ext cx="8075520" cy="48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050840" y="1413000"/>
            <a:ext cx="6905880" cy="48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95280" y="981000"/>
            <a:ext cx="82375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2232000" cy="244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sobení celých čísel – 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83000" y="4292640"/>
            <a:ext cx="38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2 .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4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22560" y="4811760"/>
            <a:ext cx="461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2 .(+ 4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2000" y="5589720"/>
            <a:ext cx="554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ají-li dvě násobená čísla různá znaménka, výsledek je záporn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2133720"/>
            <a:ext cx="316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2 . 4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54560" y="2652840"/>
            <a:ext cx="3746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2.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4)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03640" y="3355920"/>
            <a:ext cx="54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ají-li obě násobená čísla stejná znaménka, výsledek je kladn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03640" y="1195560"/>
            <a:ext cx="54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Násobení dvou čí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68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779920" cy="2236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sobení celých čísel – 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5300640"/>
            <a:ext cx="55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Je-li mezi násobenými čísly lichý počet záporných čísel, výsledek bude zápor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133720"/>
            <a:ext cx="52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2.3.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4).(+1) =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2998800"/>
            <a:ext cx="54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Je-li mezi násobenými čísly sudý počet záporných čísel, výsledek bude klad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1280" y="1195560"/>
            <a:ext cx="54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Násobení více čí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292640"/>
            <a:ext cx="56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2.3.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4).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1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96800" y="2349360"/>
            <a:ext cx="8136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98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žina celých čísel se skládá z přirozených čísel (1, 2, 3, …), nuly a záporných čísel (-1, -2, -3, 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70028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nožina celých čísel se v matematice většinou označuj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Z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podle </a:t>
            </a:r>
            <a:r>
              <a:rPr b="1" lang="de-DE" sz="2000" spc="-1" strike="noStrike">
                <a:solidFill>
                  <a:srgbClr val="284c6a"/>
                </a:solidFill>
                <a:latin typeface="Trebuchet MS"/>
              </a:rPr>
              <a:t>Zahlen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(německy čís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8320" y="2492280"/>
            <a:ext cx="7920360" cy="208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86400" y="2797200"/>
            <a:ext cx="3441600" cy="1324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941720"/>
            <a:ext cx="2521080" cy="1151280"/>
          </a:xfrm>
          <a:prstGeom prst="cloudCallout">
            <a:avLst>
              <a:gd name="adj1" fmla="val -29976"/>
              <a:gd name="adj2" fmla="val -11220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přiroze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795760"/>
            <a:ext cx="3441600" cy="132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941720"/>
            <a:ext cx="2736720" cy="1224000"/>
          </a:xfrm>
          <a:prstGeom prst="cloudCallout">
            <a:avLst>
              <a:gd name="adj1" fmla="val 16416"/>
              <a:gd name="adj2" fmla="val -1079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zápor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4581360"/>
            <a:ext cx="1728720" cy="1368720"/>
          </a:xfrm>
          <a:prstGeom prst="cloudCallout">
            <a:avLst>
              <a:gd name="adj1" fmla="val -13819"/>
              <a:gd name="adj2" fmla="val -10823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96800" y="2349360"/>
            <a:ext cx="8136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76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052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dálenost obrazu čísla na číselné ose od nuly se nazývá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bsolutní hodnota čísl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2720" y="242100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170028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tože se jedná o vzdálenost, je absolutní hodnota vždy číslo kladné nebo nula (nezáporné). Značí s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512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3320" y="42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72428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0" y="4653000"/>
            <a:ext cx="2160720" cy="1224000"/>
          </a:xfrm>
          <a:prstGeom prst="cloudCallout">
            <a:avLst>
              <a:gd name="adj1" fmla="val -76157"/>
              <a:gd name="adj2" fmla="val -78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Arial"/>
              </a:rPr>
              <a:t>Vzdálenost pěti jedno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724280"/>
            <a:ext cx="2160720" cy="1224000"/>
          </a:xfrm>
          <a:prstGeom prst="cloudCallout">
            <a:avLst>
              <a:gd name="adj1" fmla="val 71824"/>
              <a:gd name="adj2" fmla="val -84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Arial"/>
              </a:rPr>
              <a:t>Taktéž vzdálenost pěti jedno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4653000"/>
            <a:ext cx="2160720" cy="1224000"/>
          </a:xfrm>
          <a:prstGeom prst="cloudCallout">
            <a:avLst>
              <a:gd name="adj1" fmla="val -76157"/>
              <a:gd name="adj2" fmla="val -78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724280"/>
            <a:ext cx="2160720" cy="1224000"/>
          </a:xfrm>
          <a:prstGeom prst="cloudCallout">
            <a:avLst>
              <a:gd name="adj1" fmla="val 71824"/>
              <a:gd name="adj2" fmla="val -84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-5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4653000"/>
            <a:ext cx="66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Tedy: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-x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551664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říklad: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-5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96800" y="1844640"/>
            <a:ext cx="81360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319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0666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změny počtu prvků a jejich porovnávání. Například změny stavu hladin řek, změny teplot vzduchu, změny výše konta v bance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3543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62040" y="3041640"/>
            <a:ext cx="863640" cy="10936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6440" y="4308480"/>
            <a:ext cx="863640" cy="835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205000"/>
            <a:ext cx="3095640" cy="863640"/>
          </a:xfrm>
          <a:prstGeom prst="cloudCallout">
            <a:avLst>
              <a:gd name="adj1" fmla="val -65435"/>
              <a:gd name="adj2" fmla="val 10331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3789360"/>
            <a:ext cx="2447640" cy="792000"/>
          </a:xfrm>
          <a:prstGeom prst="cloudCallout">
            <a:avLst>
              <a:gd name="adj1" fmla="val -102268"/>
              <a:gd name="adj2" fmla="val 431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5084640"/>
            <a:ext cx="2736720" cy="1008360"/>
          </a:xfrm>
          <a:prstGeom prst="cloudCallout">
            <a:avLst>
              <a:gd name="adj1" fmla="val -78828"/>
              <a:gd name="adj2" fmla="val -841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zápor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42100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; 2; 3; 4; 5; 6; 7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393228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rebuchet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537372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-1; -2; -3; -4; -5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sobe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338120"/>
            <a:ext cx="41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2.(+4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133992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852640"/>
            <a:ext cx="3313080" cy="2087640"/>
          </a:xfrm>
          <a:prstGeom prst="cloudCallout">
            <a:avLst>
              <a:gd name="adj1" fmla="val -9703"/>
              <a:gd name="adj2" fmla="val -865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-li na začátku příkladu či závorky kladné číslo, znaménko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bvykle nepíš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74760" y="1339920"/>
            <a:ext cx="30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.4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1123920"/>
            <a:ext cx="3311280" cy="1297080"/>
          </a:xfrm>
          <a:prstGeom prst="cloudCallout">
            <a:avLst>
              <a:gd name="adj1" fmla="val -91513"/>
              <a:gd name="adj2" fmla="val -8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Násobíme-li dvě čísla kladná, výsledek je kladný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2852640"/>
            <a:ext cx="37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2.(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4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2924280"/>
            <a:ext cx="3168720" cy="1944720"/>
          </a:xfrm>
          <a:prstGeom prst="cloudCallout">
            <a:avLst>
              <a:gd name="adj1" fmla="val 85870"/>
              <a:gd name="adj2" fmla="val -87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Násobíme-li číslo kladné a číslo záporné nezávisle na pořadí, je výsledek záporný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26160" y="2852640"/>
            <a:ext cx="12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645000"/>
            <a:ext cx="374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.(+4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6160" y="3645000"/>
            <a:ext cx="129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3645000"/>
            <a:ext cx="31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.4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4508640"/>
            <a:ext cx="3097440" cy="1800000"/>
          </a:xfrm>
          <a:prstGeom prst="cloudCallout">
            <a:avLst>
              <a:gd name="adj1" fmla="val 69731"/>
              <a:gd name="adj2" fmla="val -579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-li na začátku příkladu či závorky kladné číslo, znaménko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bvykle nepíš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3680" y="2852640"/>
            <a:ext cx="37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.(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4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010120"/>
            <a:ext cx="41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.(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4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2560" y="501156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4508640"/>
            <a:ext cx="2736720" cy="1655640"/>
          </a:xfrm>
          <a:prstGeom prst="cloudCallout">
            <a:avLst>
              <a:gd name="adj1" fmla="val -79870"/>
              <a:gd name="adj2" fmla="val 20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Násobíme-li dvě čísla záporná, výsledek je kladný.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sobe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8480" y="1338120"/>
            <a:ext cx="367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. + =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5720" y="1989000"/>
            <a:ext cx="367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.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=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1327320"/>
            <a:ext cx="367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.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974960"/>
            <a:ext cx="367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. + =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7120" y="1197000"/>
            <a:ext cx="2158920" cy="15843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3880" y="1197000"/>
            <a:ext cx="2158920" cy="1584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500280"/>
            <a:ext cx="3240360" cy="1513080"/>
          </a:xfrm>
          <a:prstGeom prst="cloudCallout">
            <a:avLst>
              <a:gd name="adj1" fmla="val -15458"/>
              <a:gd name="adj2" fmla="val -86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jná znaménka dávají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+ (plu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3500280"/>
            <a:ext cx="3384720" cy="1584360"/>
          </a:xfrm>
          <a:prstGeom prst="cloudCallout">
            <a:avLst>
              <a:gd name="adj1" fmla="val -14824"/>
              <a:gd name="adj2" fmla="val -84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čná znaménka dávají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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(mínu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47380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můcka: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Taky si můžete spočítat čárečky, plus má dvě čárečky a mínus jednu. Vyjde-li vám číslo liché, je výsledek záporný. 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naopak, vyjde-li vám číslo sudé, je výsledek kladn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sobe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8480" y="2347920"/>
            <a:ext cx="262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. +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119700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můcka: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Taky si můžete spočítat a sečíst čárečky, plus má dvě čárečky a mínus jednu. Vyjde-li vám číslo liché, je výsledek mínus. A naopak, vyjde-li vám číslo sudé, je výsledek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04800" y="3645000"/>
            <a:ext cx="9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349360"/>
            <a:ext cx="74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116000" y="2852640"/>
            <a:ext cx="633600" cy="63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258560" y="2707920"/>
            <a:ext cx="49068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749600" y="2707920"/>
            <a:ext cx="37440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749600" y="2852640"/>
            <a:ext cx="518760" cy="63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89240" y="3645000"/>
            <a:ext cx="9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4292640"/>
            <a:ext cx="262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.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33600" y="5589720"/>
            <a:ext cx="9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62400" y="4294080"/>
            <a:ext cx="74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130040" y="4711680"/>
            <a:ext cx="647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78040" y="4723920"/>
            <a:ext cx="490320" cy="7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0520" y="5589720"/>
            <a:ext cx="9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5120" y="2349360"/>
            <a:ext cx="262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.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1800" y="3646440"/>
            <a:ext cx="9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10600" y="2351160"/>
            <a:ext cx="74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192640" y="2854080"/>
            <a:ext cx="633600" cy="63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335200" y="2709360"/>
            <a:ext cx="49068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826240" y="2781360"/>
            <a:ext cx="54612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3646440"/>
            <a:ext cx="9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5120" y="4292640"/>
            <a:ext cx="262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. +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1800" y="5589720"/>
            <a:ext cx="9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10600" y="4294080"/>
            <a:ext cx="74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148000" y="4723920"/>
            <a:ext cx="677880" cy="7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826240" y="4652640"/>
            <a:ext cx="37440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826240" y="4797360"/>
            <a:ext cx="519120" cy="63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5589720"/>
            <a:ext cx="9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96800" y="1700280"/>
            <a:ext cx="825192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04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sobe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052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sobení většího počtu celých čísel „najednou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3357720"/>
            <a:ext cx="7058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.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).(+3).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5).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).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989000"/>
            <a:ext cx="81378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Pro výsledné znaménko je rozhodující počet záporných čísel, jinými slovy počet „mínusů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400536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1.) Je-li záporných čísel sudý počet, výsledek bude kladn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60520" y="400536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65600" y="400536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88080" y="4005360"/>
            <a:ext cx="57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5516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2.) Je-li záporných čísel lichý počet, výsledek bude záporn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08720" y="3357720"/>
            <a:ext cx="1498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40440" y="400356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4869000"/>
            <a:ext cx="7057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.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).(+3).5.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).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61960" y="551664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26040" y="5516640"/>
            <a:ext cx="57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78400" y="551664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4869000"/>
            <a:ext cx="2005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6800" y="907920"/>
            <a:ext cx="82519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60360" y="15559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 .(+ 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60360" y="191628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 .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60360" y="227664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60360" y="270828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9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313992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1)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60360" y="357336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60360" y="400536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.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60360" y="443700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2 . 4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486900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+ 2)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60360" y="530064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8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573264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34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1080" y="15573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1917720"/>
            <a:ext cx="24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+ 34) .(+ 2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227808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4) .(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27097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+7) .(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67280" y="3141720"/>
            <a:ext cx="28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0)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1080" y="35751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+ 60) . 3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61080" y="4006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6 .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61080" y="4438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61080" y="487044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0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61080" y="53020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3 .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61080" y="57340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0 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3920" y="61088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Bizova</cp:lastModifiedBy>
  <dcterms:modified xsi:type="dcterms:W3CDTF">2009-01-26T16:09:17Z</dcterms:modified>
  <cp:revision>191</cp:revision>
  <dc:subject/>
  <dc:title>Celá čísla - násobení</dc:title>
</cp:coreProperties>
</file>