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EB7-7A4C-430C-88B3-287B3915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FE9-957F-4AE5-BF68-A37B5614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68A-58E0-4B80-8EDA-32032493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ED2-7D3E-4D98-BDEB-0E71B9DA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20CD-B2AB-4738-9229-5C32881B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64F1-5631-42EE-99C5-5790B219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E4C9-6C71-4948-9E9D-48DEC1E4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2751-C2AE-44FB-88BB-D21173CA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3311-F4B8-4DE9-A799-9F62AFCB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F4A5-D049-4E69-A195-1175565D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6CAC-1940-4AC8-BB2D-18EA5BD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E67-9051-43A4-BFAC-6A894AA8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92C4-40A2-4D17-AC53-EBAB9C95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5B67-3D4A-49AA-8F6B-D60471E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1B90-0338-4CA4-B711-C90A7422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A822-2553-47B3-B2C4-59F418E9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4374-4E21-4DA4-A488-59A93686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1D7-47C9-40B4-AE8B-F794F766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D39-39FC-495D-BDF2-4DF7F496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A04-0D32-4949-8A55-6B963474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96C-8841-43F8-8670-2B92962A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E45-46E3-477F-B8FC-B9E7B929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580-8E25-46B7-9407-CA3689D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C38-8598-4882-BC35-6B9C4EB0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140-CB53-4C74-AF4D-86286D7AC3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4849-9898-4A3F-A6B3-7E8533C7540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očetní výkony s celými čísly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děl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96800" y="907920"/>
            <a:ext cx="82519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155592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5) : ( +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191628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+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2276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270828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5) : ( 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31399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5) : ( +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357336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+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400536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-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443700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5) : ( -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486900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75) : ( -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60360" y="5300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2 : ( - 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573264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75 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00720" y="155736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0 : ( - 8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191772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42) :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56000" y="227808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36) : 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84720" y="27097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42) : ( - 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314172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17) : ( -1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61080" y="35751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75)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4006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5 : ( -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61080" y="4438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5 : ( -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61080" y="487044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-144) : 1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530208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- 63) : ( -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27640" y="5734080"/>
            <a:ext cx="24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42) : ( -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9080" y="1557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44720" y="1916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27280" y="2276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4720" y="2708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31399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57520" y="3573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4005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71920" y="4437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27280" y="4869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85960" y="5300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7280" y="5732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00720" y="1557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00720" y="19162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00720" y="2276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3520" y="270828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9120" y="31417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5080" y="3573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0720" y="4005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43640" y="4437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4869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3520" y="53006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9120" y="574668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6800" y="907920"/>
            <a:ext cx="82519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155592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6) : ( +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191628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6) : ( -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2276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6) : ( -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270828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6) : ( +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4360" y="31399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2) : ( -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357336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2) : ( -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400536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443700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245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486900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245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530064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25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573264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25) : ( -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00720" y="155736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 : ( -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80000" y="191772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0 ) :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56000" y="227808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47 : ( - 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4720" y="27097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1 : ( +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314172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72) : 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61080" y="35751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56) :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6000" y="400680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69) : 1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00720" y="44388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42) : ( - 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487044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+9100 : ( - 7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530208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-14) : ( -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27640" y="5734080"/>
            <a:ext cx="24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 : ( - 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3920" y="61088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96800" y="907920"/>
            <a:ext cx="82519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155592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6) : ( +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191628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6) : ( -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1640" y="2276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6) : ( -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00000" y="270828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6) : ( +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31399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2) : ( -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357336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2) : ( -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5640" y="400536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443700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245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486900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245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30064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25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573264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25) : ( -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155736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 : ( -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91772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0 ) :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56000" y="227808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47 : ( - 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84720" y="27097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1 : ( +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67280" y="314172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72) : 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61080" y="35751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56) :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56000" y="400680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69) : 1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0720" y="44388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42) : ( - 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708360" y="487044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+ 9100 : ( - 7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530208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-14) : ( -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27640" y="5734080"/>
            <a:ext cx="24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 : ( - 8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56000" y="1557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70040" y="193032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229068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86040" y="2708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16360" y="31399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3573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57600" y="4005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16360" y="443700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486900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71640" y="530064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71640" y="573264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56360" y="1557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32720" y="1916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l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227664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56360" y="2708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72360" y="31417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72360" y="3573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45160" y="4005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56360" y="443700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86900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530064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2360" y="57340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03920" y="61088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68360" y="1327320"/>
            <a:ext cx="8007480" cy="48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2567160" y="1079640"/>
            <a:ext cx="4849560" cy="50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03920" y="61088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95280" y="1625760"/>
            <a:ext cx="8288280" cy="43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2268360" y="1098720"/>
            <a:ext cx="5435640" cy="50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á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03920" y="61088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395280" y="1687680"/>
            <a:ext cx="8240760" cy="44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24000" y="907920"/>
            <a:ext cx="84247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á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268360" y="1282680"/>
            <a:ext cx="5334120" cy="47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95280" y="907920"/>
            <a:ext cx="8353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šes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1640" y="141300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5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5640" y="184464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4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7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227664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5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3):(+ 2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270828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2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):(+ 7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313992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:2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:2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5640" y="3573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2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:(+ 2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4005360"/>
            <a:ext cx="48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0:(+ 1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1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443700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8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):(+ 2):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0000" y="486900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20:(+ 3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:4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5300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66:(+ 3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:(+ 2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1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4000" y="5732640"/>
            <a:ext cx="48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0:4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1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6093000"/>
            <a:ext cx="201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98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žina celých čísel se skládá z přirozených čísel (1, 2, 3, …), nuly a záporných čísel (-1, -2, -3, 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700280"/>
            <a:ext cx="85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nožina celých čísel se v matematice většinou označuj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Z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podle Zahlen (německy čís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8320" y="2492280"/>
            <a:ext cx="7920360" cy="208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86400" y="2797200"/>
            <a:ext cx="3441600" cy="1324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941720"/>
            <a:ext cx="2521080" cy="1151280"/>
          </a:xfrm>
          <a:prstGeom prst="cloudCallout">
            <a:avLst>
              <a:gd name="adj1" fmla="val -29976"/>
              <a:gd name="adj2" fmla="val -11220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přiroze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795760"/>
            <a:ext cx="3441600" cy="1323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941720"/>
            <a:ext cx="2736720" cy="1224000"/>
          </a:xfrm>
          <a:prstGeom prst="cloudCallout">
            <a:avLst>
              <a:gd name="adj1" fmla="val 16416"/>
              <a:gd name="adj2" fmla="val -1079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zápo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4581360"/>
            <a:ext cx="1728720" cy="1368720"/>
          </a:xfrm>
          <a:prstGeom prst="cloudCallout">
            <a:avLst>
              <a:gd name="adj1" fmla="val -13819"/>
              <a:gd name="adj2" fmla="val -10823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95280" y="907920"/>
            <a:ext cx="8353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– pošes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141300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5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184464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4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7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227664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5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3):(+ 2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270828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2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):(+ 7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4360" y="3139920"/>
            <a:ext cx="44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:2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:2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3573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2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6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:(+ 2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" y="4005360"/>
            <a:ext cx="48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0:(+ 1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1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443700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8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4):(+ 2):0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00000" y="486900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20:(+ 3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:4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5300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66:(+ 3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):(+ 2).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11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732640"/>
            <a:ext cx="48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00:4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):1:(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95640" y="1413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81600" y="184464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2766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270828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84720" y="313992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068720" y="358776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67280" y="400536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86400" y="443700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l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84720" y="486900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4720" y="530064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84720" y="573264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95280" y="981000"/>
            <a:ext cx="82375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68360" y="1198440"/>
            <a:ext cx="3382920" cy="3382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ení celých čísel – 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83000" y="4292640"/>
            <a:ext cx="38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8 :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4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22560" y="4811760"/>
            <a:ext cx="461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8 :(+ 4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32000" y="5589720"/>
            <a:ext cx="554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ají-li dvě dělená čísla různá znaménka, výsledek je záporn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88000" y="2133720"/>
            <a:ext cx="316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8 : 4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54560" y="2652840"/>
            <a:ext cx="3746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8: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4)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335592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ají-li obě dělená čísla stejná znaménka, výsledek je kladn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3640" y="119556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Dělení dvou čí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68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5580000" y="1197000"/>
            <a:ext cx="3095640" cy="2381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ení celých čísel – 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5300640"/>
            <a:ext cx="55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e-li mezi dělenými čísly lichý počet záporných čísel, výsledek bude zápor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1280" y="2133720"/>
            <a:ext cx="52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60:3: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4):(+1)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1280" y="299880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e-li mezi dělenými čísly sudý počet záporných čísel, výsledek bude klad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1280" y="1195560"/>
            <a:ext cx="54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Dělení více čí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1280" y="4292640"/>
            <a:ext cx="56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60:3: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4):(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1) = 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96800" y="2349360"/>
            <a:ext cx="8136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6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052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dálenost obrazu čísla na číselné ose od nuly se nazývá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bsolutní hodnota čísl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2720" y="2421000"/>
            <a:ext cx="7920000" cy="208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170028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tože se jedná o vzdálenost, je absolutní hodnota vždy číslo kladné nebo nula (nezáporné). Značí s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512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73320" y="42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72428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6000" y="4653000"/>
            <a:ext cx="2160720" cy="1224000"/>
          </a:xfrm>
          <a:prstGeom prst="cloudCallout">
            <a:avLst>
              <a:gd name="adj1" fmla="val -76157"/>
              <a:gd name="adj2" fmla="val -78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Arial"/>
              </a:rPr>
              <a:t>Vzdálenost pěti jedno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724280"/>
            <a:ext cx="2160720" cy="1224000"/>
          </a:xfrm>
          <a:prstGeom prst="cloudCallout">
            <a:avLst>
              <a:gd name="adj1" fmla="val 71824"/>
              <a:gd name="adj2" fmla="val -84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Arial"/>
              </a:rPr>
              <a:t>Taktéž vzdálenost pěti jednot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4653000"/>
            <a:ext cx="2160720" cy="1224000"/>
          </a:xfrm>
          <a:prstGeom prst="cloudCallout">
            <a:avLst>
              <a:gd name="adj1" fmla="val -76157"/>
              <a:gd name="adj2" fmla="val -78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4724280"/>
            <a:ext cx="2160720" cy="1224000"/>
          </a:xfrm>
          <a:prstGeom prst="cloudCallout">
            <a:avLst>
              <a:gd name="adj1" fmla="val 71824"/>
              <a:gd name="adj2" fmla="val -84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-5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4653000"/>
            <a:ext cx="66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Tedy: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-x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551664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říklad: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-5</a:t>
            </a:r>
            <a:r>
              <a:rPr b="1" lang="en-US" sz="54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=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96800" y="1844640"/>
            <a:ext cx="81360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319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el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0666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uží k vyjádření změny počtu prvků a jejich porovnávání. Například změny stavu hladin řek, změny teplot vzduchu, změny výše konta v bance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3543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62040" y="3041640"/>
            <a:ext cx="863640" cy="10936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76440" y="4308480"/>
            <a:ext cx="863640" cy="835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205000"/>
            <a:ext cx="3095640" cy="863640"/>
          </a:xfrm>
          <a:prstGeom prst="cloudCallout">
            <a:avLst>
              <a:gd name="adj1" fmla="val -65435"/>
              <a:gd name="adj2" fmla="val 10331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3789360"/>
            <a:ext cx="2447640" cy="792000"/>
          </a:xfrm>
          <a:prstGeom prst="cloudCallout">
            <a:avLst>
              <a:gd name="adj1" fmla="val -102268"/>
              <a:gd name="adj2" fmla="val 431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5084640"/>
            <a:ext cx="2736720" cy="1008360"/>
          </a:xfrm>
          <a:prstGeom prst="cloudCallout">
            <a:avLst>
              <a:gd name="adj1" fmla="val -78828"/>
              <a:gd name="adj2" fmla="val -841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zápor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42100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; 2; 3; 4; 5; 6; 7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393228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rebuchet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537372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-1; -2; -3; -4; -5;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e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338120"/>
            <a:ext cx="41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8:(+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133992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852640"/>
            <a:ext cx="3313080" cy="2087640"/>
          </a:xfrm>
          <a:prstGeom prst="cloudCallout">
            <a:avLst>
              <a:gd name="adj1" fmla="val -9703"/>
              <a:gd name="adj2" fmla="val -865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-li na začátku příkladu či závorky kladné číslo, znaménko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bvykle nepíš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74760" y="133992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:2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1123920"/>
            <a:ext cx="3311280" cy="1297080"/>
          </a:xfrm>
          <a:prstGeom prst="cloudCallout">
            <a:avLst>
              <a:gd name="adj1" fmla="val -91513"/>
              <a:gd name="adj2" fmla="val -8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Dělíme-li dvě čísla kladná, výsledek je kladný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2852640"/>
            <a:ext cx="37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8:(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2637000"/>
            <a:ext cx="3168720" cy="1944360"/>
          </a:xfrm>
          <a:prstGeom prst="cloudCallout">
            <a:avLst>
              <a:gd name="adj1" fmla="val 85870"/>
              <a:gd name="adj2" fmla="val -2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Dělíme-li číslo kladné a číslo záporné, nezávisle na pořadí, je výsledek záporný.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26160" y="2852640"/>
            <a:ext cx="12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645000"/>
            <a:ext cx="37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:(+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6160" y="3645000"/>
            <a:ext cx="129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3645000"/>
            <a:ext cx="31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:2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4508640"/>
            <a:ext cx="3097440" cy="1800000"/>
          </a:xfrm>
          <a:prstGeom prst="cloudCallout">
            <a:avLst>
              <a:gd name="adj1" fmla="val 69731"/>
              <a:gd name="adj2" fmla="val -57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-li na začátku příkladu či závorky kladné číslo, znaménko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bvykle nepíš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3680" y="2852640"/>
            <a:ext cx="37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:(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010120"/>
            <a:ext cx="41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8:(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)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2560" y="501156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4508640"/>
            <a:ext cx="2736720" cy="1655640"/>
          </a:xfrm>
          <a:prstGeom prst="cloudCallout">
            <a:avLst>
              <a:gd name="adj1" fmla="val -79870"/>
              <a:gd name="adj2" fmla="val 2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Dělíme-li dvě čísla záporná, výsledek je kladný.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e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6800" y="83664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8480" y="1236600"/>
            <a:ext cx="367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: + =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5720" y="2060640"/>
            <a:ext cx="367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: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=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1225440"/>
            <a:ext cx="367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: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2046240"/>
            <a:ext cx="367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: + =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7120" y="1197000"/>
            <a:ext cx="2158920" cy="15843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3880" y="1197000"/>
            <a:ext cx="2158920" cy="1584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3500280"/>
            <a:ext cx="3529080" cy="1513080"/>
          </a:xfrm>
          <a:prstGeom prst="cloudCallout">
            <a:avLst>
              <a:gd name="adj1" fmla="val -14194"/>
              <a:gd name="adj2" fmla="val -86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jná znaménka „dávají“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+ (plu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3500280"/>
            <a:ext cx="3745080" cy="1584360"/>
          </a:xfrm>
          <a:prstGeom prst="cloudCallout">
            <a:avLst>
              <a:gd name="adj1" fmla="val -8583"/>
              <a:gd name="adj2" fmla="val -84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čná znaménka „dávají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minu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54738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ůcka: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Taky si můžete spočítat čárečky, plus má dvě čárečky a minus jednu. Vyjde-li vám číslo liché, je výsledek záporný. 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aopak, vyjde-li vám číslo sudé, je výsledek kladn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e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6800" y="907920"/>
            <a:ext cx="81788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8480" y="2347920"/>
            <a:ext cx="262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: +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119700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ůcka: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Taky si můžete spočítat a sečíst čárečky, plus má dvě čárečky a minus jednu. Vyjde-li vám číslo liché, je výsledek minus. A naopak, vyjde-li vám číslo sudé, je výsledek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04800" y="3645000"/>
            <a:ext cx="9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3600" y="2349360"/>
            <a:ext cx="74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116000" y="2852640"/>
            <a:ext cx="633600" cy="6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258560" y="2707920"/>
            <a:ext cx="49068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749600" y="2707920"/>
            <a:ext cx="37440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749600" y="2852640"/>
            <a:ext cx="518760" cy="6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89240" y="3645000"/>
            <a:ext cx="9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4292640"/>
            <a:ext cx="262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: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33600" y="5589720"/>
            <a:ext cx="9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62400" y="4294080"/>
            <a:ext cx="74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130040" y="4711680"/>
            <a:ext cx="647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78040" y="4723920"/>
            <a:ext cx="490320" cy="7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0520" y="5589720"/>
            <a:ext cx="9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5120" y="2349360"/>
            <a:ext cx="262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+ : </a:t>
            </a: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1800" y="3646440"/>
            <a:ext cx="9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10600" y="2351160"/>
            <a:ext cx="74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192640" y="2854080"/>
            <a:ext cx="633600" cy="63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335200" y="2709360"/>
            <a:ext cx="49068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826240" y="2781360"/>
            <a:ext cx="54612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3646440"/>
            <a:ext cx="9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5120" y="4292640"/>
            <a:ext cx="262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: +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1800" y="5589720"/>
            <a:ext cx="9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10600" y="4294080"/>
            <a:ext cx="74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148000" y="4723920"/>
            <a:ext cx="677880" cy="7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826240" y="4652640"/>
            <a:ext cx="374400" cy="77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826240" y="4797360"/>
            <a:ext cx="519120" cy="6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5589720"/>
            <a:ext cx="9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96800" y="1700280"/>
            <a:ext cx="825192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04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ení celých čí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052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ělení většího počtu celých čísel „najednou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357720"/>
            <a:ext cx="74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20: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):(+3):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5):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4):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989000"/>
            <a:ext cx="81378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Pro výsledné znaménko je rozhodující počet záporných čísel, jinými slovy počet „minusů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400536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1.) Je-li záporných čísel sudý počet, výsledek bude kladn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1200" y="4005360"/>
            <a:ext cx="57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55920" y="400536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78400" y="400536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516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2.) Je-li záporných čísel lichý počet, výsledek bude záporn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40720" y="3357720"/>
            <a:ext cx="79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31120" y="4003560"/>
            <a:ext cx="57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4869000"/>
            <a:ext cx="73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20: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):(+3):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5):(+4):(</a:t>
            </a:r>
            <a:r>
              <a:rPr b="1" lang="en-US" sz="4000" spc="-1" strike="noStrike">
                <a:solidFill>
                  <a:srgbClr val="284c6a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22400" y="5516640"/>
            <a:ext cx="576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26040" y="5516640"/>
            <a:ext cx="57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1120" y="5516640"/>
            <a:ext cx="57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12000" y="4869000"/>
            <a:ext cx="115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4292640"/>
            <a:ext cx="3745080" cy="1944720"/>
          </a:xfrm>
          <a:prstGeom prst="cloudCallout">
            <a:avLst>
              <a:gd name="adj1" fmla="val -88064"/>
              <a:gd name="adj2" fmla="val -617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i dělení většího počtu čísel postupujeme tak, že dělíme postupn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le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4437000"/>
            <a:ext cx="2089080" cy="1152720"/>
          </a:xfrm>
          <a:prstGeom prst="cloudCallout">
            <a:avLst>
              <a:gd name="adj1" fmla="val 15578"/>
              <a:gd name="adj2" fmla="val -93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20:(-2)=-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229360"/>
            <a:ext cx="2087640" cy="1008000"/>
          </a:xfrm>
          <a:prstGeom prst="cloudCallout">
            <a:avLst>
              <a:gd name="adj1" fmla="val -342"/>
              <a:gd name="adj2" fmla="val -180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-60:(+3)=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394160"/>
            <a:ext cx="1785960" cy="965160"/>
          </a:xfrm>
          <a:prstGeom prst="cloudCallout">
            <a:avLst>
              <a:gd name="adj1" fmla="val -13824"/>
              <a:gd name="adj2" fmla="val -100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-20:(-5)=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013360"/>
            <a:ext cx="1785960" cy="965160"/>
          </a:xfrm>
          <a:prstGeom prst="cloudCallout">
            <a:avLst>
              <a:gd name="adj1" fmla="val -25467"/>
              <a:gd name="adj2" fmla="val -1621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:(-4)=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15120" y="4408560"/>
            <a:ext cx="1785960" cy="965160"/>
          </a:xfrm>
          <a:prstGeom prst="cloudCallout">
            <a:avLst>
              <a:gd name="adj1" fmla="val -51689"/>
              <a:gd name="adj2" fmla="val -1039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-1:(-1)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781360"/>
            <a:ext cx="2089080" cy="1152360"/>
          </a:xfrm>
          <a:prstGeom prst="cloudCallout">
            <a:avLst>
              <a:gd name="adj1" fmla="val 10032"/>
              <a:gd name="adj2" fmla="val 143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20:(-2)=-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6720" y="3573360"/>
            <a:ext cx="2087640" cy="1008000"/>
          </a:xfrm>
          <a:prstGeom prst="cloudCallout">
            <a:avLst>
              <a:gd name="adj1" fmla="val -5893"/>
              <a:gd name="adj2" fmla="val 907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-60:(+3)=-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1080" y="2738520"/>
            <a:ext cx="1785960" cy="965160"/>
          </a:xfrm>
          <a:prstGeom prst="cloudCallout">
            <a:avLst>
              <a:gd name="adj1" fmla="val -20310"/>
              <a:gd name="adj2" fmla="val 1825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-20:(-5)=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8000" y="3357720"/>
            <a:ext cx="1785960" cy="965160"/>
          </a:xfrm>
          <a:prstGeom prst="cloudCallout">
            <a:avLst>
              <a:gd name="adj1" fmla="val -31953"/>
              <a:gd name="adj2" fmla="val 1212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:(+4)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59480" y="2752560"/>
            <a:ext cx="1785960" cy="965520"/>
          </a:xfrm>
          <a:prstGeom prst="cloudCallout">
            <a:avLst>
              <a:gd name="adj1" fmla="val -58175"/>
              <a:gd name="adj2" fmla="val 179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:(-1)=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96800" y="907920"/>
            <a:ext cx="825192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98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55592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5) : ( +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191628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+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2276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270828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5) : ( 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31399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5) : ( +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357336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+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400536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15) : ( -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443700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15) : ( - 3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486900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75) : ( -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30064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2 : ( - 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5732640"/>
            <a:ext cx="26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+ 75 ) : ( +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155736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20 : ( - 8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0" y="191772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42) :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2278080"/>
            <a:ext cx="252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36) : 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70972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42) : ( - 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7280" y="314172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17) : ( -1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61080" y="357516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75)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61080" y="4006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5 : ( -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61080" y="44388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5 : ( - 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61080" y="487044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-144) : 1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30208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- 63) : ( -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734080"/>
            <a:ext cx="24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 - 42) : ( -7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03920" y="6108840"/>
            <a:ext cx="201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3-13T11:31:14Z</dcterms:modified>
  <cp:revision>199</cp:revision>
  <dc:subject/>
  <dc:title>Celá čísla - dělení</dc:title>
</cp:coreProperties>
</file>