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78B6-083E-4AC0-9B80-359E47E8F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BDFF-2815-4416-8703-AB6FAA6E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8E97-A779-4841-A29D-E27675EE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1487-A412-4948-9EA4-B2F5F1C84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83F4-4353-4246-B4E5-6512E74DE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A1D5-2B09-4E90-8239-750F1BB7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530D-5B11-4AE3-AB77-B41A2957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5872-BDD9-4C55-A36C-BCCE6B40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6BF9-6AB3-4DF9-B736-144ECAF9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5BB7-DCA7-45FA-A203-0DAFE6FC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9CFA-9E55-4FCC-88D4-68E4EE95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C5F7-E9DD-415E-BC10-84E8F17C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E87E-DFD3-43E7-8452-B53C681C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0290-C5BC-4DD3-9AA3-5069CFBF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EB17-EE0F-4523-B05F-8A572E46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6CB9-7224-4C41-8832-989395655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4E55-250C-4CEB-B927-E91FDF764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2DF5-4674-49C2-8335-B0E91088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1991-443C-44A6-915A-D350C9A7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9776-810B-41D5-86E6-B7D80C3C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0906-7236-472C-8F0C-B15A135F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F881-0F00-4019-A126-914A6CB8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3310-D719-4350-83E3-833F7B68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215F-AA8C-4554-84A3-FD1BACD1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D0E7-ABF6-4468-94B1-B93FED5DAB3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7F79-C679-4AB2-9CC4-F2E8C0FB7886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Celá čísla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3860640"/>
            <a:ext cx="80773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Úvod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Porovnávání celých čísel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2565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524720" y="836640"/>
            <a:ext cx="142884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96800" y="1916280"/>
            <a:ext cx="813600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orovnávání celých čí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90792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Směrem doprava leží na číselné ose čísla větší, směrem doleva menš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12720" y="2060640"/>
            <a:ext cx="7920000" cy="20890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916360" y="5516640"/>
            <a:ext cx="1150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-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2760" y="141300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V následujících příkladech doplň správný znak nerovn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03640" y="5516640"/>
            <a:ext cx="100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-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160800" y="2549520"/>
            <a:ext cx="345960" cy="93672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3933720"/>
            <a:ext cx="42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ísla -4 i -9 jsou čísla záporná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4360" y="4264200"/>
            <a:ext cx="770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braz čísla -9 leží na číselné ose více vlev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4360" y="4624560"/>
            <a:ext cx="784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íslo -9 je tedy menší než číslo -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900000" y="3559320"/>
            <a:ext cx="2433600" cy="360360"/>
          </a:xfrm>
          <a:custGeom>
            <a:avLst/>
            <a:gdLst/>
            <a:ahLst/>
            <a:rect l="l" t="t" r="r" b="b"/>
            <a:pathLst>
              <a:path w="2041" h="318">
                <a:moveTo>
                  <a:pt x="0" y="0"/>
                </a:moveTo>
                <a:lnTo>
                  <a:pt x="0" y="318"/>
                </a:lnTo>
                <a:lnTo>
                  <a:pt x="2041" y="318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83200" y="5516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&g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0920" y="4508640"/>
            <a:ext cx="82659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Ze dvou záporných čísel je menší to, jehož obraz leží na číselné ose více vle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35200" y="2550960"/>
            <a:ext cx="345960" cy="93672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0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000"/>
                            </p:stCondLst>
                            <p:childTnLst>
                              <p:par>
                                <p:cTn id="7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0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96800" y="1916280"/>
            <a:ext cx="813600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orovnávání celých čí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8360" y="90792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Směrem doprava leží na číselné ose čísla větší, směrem doleva menš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612720" y="2060640"/>
            <a:ext cx="7920000" cy="20890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987640" y="5516640"/>
            <a:ext cx="1150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-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2760" y="141300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V následujících příkladech doplň správný znak nerovn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932360" y="5516640"/>
            <a:ext cx="100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97160" y="2549520"/>
            <a:ext cx="345960" cy="93672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4360" y="3933720"/>
            <a:ext cx="72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íslo -7 je číslo záporné, zatímco číslo 5 je číslo kladn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4360" y="4437000"/>
            <a:ext cx="770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84c6a"/>
                </a:solidFill>
                <a:latin typeface="Trebuchet MS"/>
              </a:rPr>
              <a:t>Kladná čísla jsou na číselné ose vpravo od záporných. Tedy</a:t>
            </a:r>
            <a:br>
              <a:rPr sz="1900"/>
            </a:br>
            <a:r>
              <a:rPr b="1" lang="en-US" sz="1900" spc="-1" strike="noStrike">
                <a:solidFill>
                  <a:srgbClr val="284c6a"/>
                </a:solidFill>
                <a:latin typeface="Trebuchet MS"/>
              </a:rPr>
              <a:t> i obraz čísla 5 leží na číselné ose více vpravo než obraz čísla -7.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4360" y="499896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íslo 5 je tedy větší než číslo -7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54120" y="3559320"/>
            <a:ext cx="5502600" cy="360360"/>
          </a:xfrm>
          <a:custGeom>
            <a:avLst/>
            <a:gdLst/>
            <a:ahLst/>
            <a:rect l="l" t="t" r="r" b="b"/>
            <a:pathLst>
              <a:path w="2041" h="318">
                <a:moveTo>
                  <a:pt x="0" y="0"/>
                </a:moveTo>
                <a:lnTo>
                  <a:pt x="0" y="318"/>
                </a:lnTo>
                <a:lnTo>
                  <a:pt x="2041" y="318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183200" y="5516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&l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9640" y="4508640"/>
            <a:ext cx="8266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Každé kladné číslo je větší než číslo záporn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767560" y="2550960"/>
            <a:ext cx="345960" cy="93672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0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500"/>
                            </p:stCondLst>
                            <p:childTnLst>
                              <p:par>
                                <p:cTn id="8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8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5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0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- poprv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9640" y="98100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K daným číslům urči čísla opačn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5640" y="152712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92360" y="1598760"/>
            <a:ext cx="15840" cy="449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5640" y="19890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55640" y="24210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5640" y="285264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5640" y="328464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5640" y="371628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5640" y="414828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55640" y="457992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55640" y="501336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3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5640" y="54450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54560" y="152892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077240" y="1600200"/>
            <a:ext cx="15840" cy="449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154560" y="19908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54560" y="242244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154560" y="285444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154560" y="328608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5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54560" y="371808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54560" y="414972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54560" y="458136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54560" y="50148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12000" y="5446800"/>
            <a:ext cx="100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500"/>
                            </p:stCondLst>
                            <p:childTnLst>
                              <p:par>
                                <p:cTn id="9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- poprv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9640" y="98100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Řeš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55640" y="152712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92360" y="1598760"/>
            <a:ext cx="15840" cy="449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Název souboru: j0397474.wmf&#13;Klí&amp;ccaron;ová slova: akademikové, chlapci, d&amp;ecaron;ti ...&#13;Velikost souboru: 20 kB"/>
          <p:cNvPicPr/>
          <p:nvPr/>
        </p:nvPicPr>
        <p:blipFill>
          <a:blip r:embed="rId2"/>
          <a:stretch/>
        </p:blipFill>
        <p:spPr>
          <a:xfrm>
            <a:off x="3130560" y="2349360"/>
            <a:ext cx="2736720" cy="27370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55640" y="19890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55640" y="24210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55640" y="285264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55640" y="328464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55640" y="371628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55640" y="414828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55640" y="457992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55640" y="501336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3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5640" y="54450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54560" y="152892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077240" y="1600200"/>
            <a:ext cx="15840" cy="449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154560" y="19908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54560" y="242244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154560" y="285444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154560" y="328608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5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54560" y="371808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154560" y="414972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154560" y="458136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54560" y="50148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12000" y="5446800"/>
            <a:ext cx="100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806480" y="152712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836720" y="19890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36720" y="24210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36720" y="285264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36720" y="328464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20720" y="3716280"/>
            <a:ext cx="107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1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836720" y="414828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36720" y="457992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692360" y="5013360"/>
            <a:ext cx="100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3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836720" y="54450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234200" y="152712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34200" y="19890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234200" y="24210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234200" y="285264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020000" y="3284640"/>
            <a:ext cx="10778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5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234200" y="371628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234200" y="414828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234200" y="457992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234200" y="501336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091280" y="5445000"/>
            <a:ext cx="10065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0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- podruh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39640" y="98100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Urči absolutní hodnotu daných čís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55640" y="152712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692360" y="1598760"/>
            <a:ext cx="15840" cy="449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55640" y="19890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5640" y="24210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11280" y="2852640"/>
            <a:ext cx="100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2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55640" y="328464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55640" y="371628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55640" y="414828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55640" y="457992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55640" y="501336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11280" y="5445000"/>
            <a:ext cx="100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9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154560" y="152892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077240" y="1600200"/>
            <a:ext cx="15840" cy="449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54560" y="19908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154560" y="242244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54560" y="285444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154560" y="328608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154560" y="371808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54560" y="414972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940360" y="4581360"/>
            <a:ext cx="10778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5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154560" y="50148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012000" y="5446800"/>
            <a:ext cx="100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- podruh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9640" y="98100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Řeš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55640" y="152712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692360" y="1598760"/>
            <a:ext cx="15840" cy="449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55640" y="19890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55640" y="24210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11280" y="2852640"/>
            <a:ext cx="100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2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55640" y="328464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55640" y="371628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55640" y="414828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55640" y="457992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55640" y="501336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1280" y="5445000"/>
            <a:ext cx="100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9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154560" y="152892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077240" y="1600200"/>
            <a:ext cx="15840" cy="449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154560" y="19908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154560" y="242244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154560" y="285444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154560" y="328608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154560" y="371808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154560" y="414972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40360" y="4581360"/>
            <a:ext cx="10778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5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154560" y="50148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012000" y="5446800"/>
            <a:ext cx="100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806480" y="152712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836720" y="19890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836720" y="24210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836720" y="285264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2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836720" y="328464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620720" y="3716280"/>
            <a:ext cx="107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836720" y="414828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836720" y="457992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692360" y="5013360"/>
            <a:ext cx="100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836720" y="54450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9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234200" y="152712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234200" y="19890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234200" y="24210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234200" y="285264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020000" y="3284640"/>
            <a:ext cx="10778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234200" y="371628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234200" y="414828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234200" y="457992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5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234200" y="501336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091280" y="5445000"/>
            <a:ext cx="10065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Název souboru: j0344199.wmf&#13;Klí&amp;ccaron;ová slova: d&amp;ecaron;ti, pokojové rostliny, rostliny ...&#13;Velikost souboru: 50 kB"/>
          <p:cNvPicPr/>
          <p:nvPr/>
        </p:nvPicPr>
        <p:blipFill>
          <a:blip r:embed="rId2"/>
          <a:stretch/>
        </p:blipFill>
        <p:spPr>
          <a:xfrm>
            <a:off x="3059280" y="2276640"/>
            <a:ext cx="2808000" cy="28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0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- potřet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9640" y="98100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orovnej následující dvojice čís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55640" y="152712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55640" y="19890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55640" y="24210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11280" y="2852640"/>
            <a:ext cx="100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2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55640" y="328464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55640" y="371628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55640" y="414828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55640" y="457992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55640" y="501336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1280" y="5445000"/>
            <a:ext cx="100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9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154560" y="152892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54560" y="19908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154560" y="242244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154560" y="285444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154560" y="328608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154560" y="371808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154560" y="414972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940360" y="4581360"/>
            <a:ext cx="10778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5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154560" y="50148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012000" y="5446800"/>
            <a:ext cx="100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093760" y="152712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124000" y="19890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124000" y="24210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79640" y="2852640"/>
            <a:ext cx="100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2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124000" y="328464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763640" y="3716280"/>
            <a:ext cx="107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124000" y="414828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24000" y="457992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979640" y="5013360"/>
            <a:ext cx="100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835280" y="5445000"/>
            <a:ext cx="115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9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453440" y="152712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453440" y="19890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453440" y="24210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453440" y="285264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38880" y="3284640"/>
            <a:ext cx="1078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453440" y="371628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453440" y="414828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453440" y="457992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453440" y="501336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0520" y="5445000"/>
            <a:ext cx="10065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- potřet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39640" y="98100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Řeš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55640" y="152712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55640" y="19890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5640" y="24210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1280" y="2852640"/>
            <a:ext cx="100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2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55640" y="328464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55640" y="371628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55640" y="414828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55640" y="457992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55640" y="501336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11280" y="5445000"/>
            <a:ext cx="100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9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154560" y="152892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154560" y="19908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154560" y="242244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154560" y="285444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154560" y="328608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154560" y="371808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154560" y="414972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940360" y="4581360"/>
            <a:ext cx="10778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5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154560" y="50148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012000" y="5446800"/>
            <a:ext cx="100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093760" y="152712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124000" y="19890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24000" y="24210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979640" y="2852640"/>
            <a:ext cx="100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2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24000" y="328464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763640" y="3716280"/>
            <a:ext cx="107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24000" y="414828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124000" y="457992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979640" y="5013360"/>
            <a:ext cx="100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445000"/>
            <a:ext cx="115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9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453440" y="152712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453440" y="19890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453440" y="24210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453440" y="285264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238880" y="3284640"/>
            <a:ext cx="1078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453440" y="371628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453440" y="414828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453440" y="457992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453440" y="501336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310520" y="5445000"/>
            <a:ext cx="10065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Název souboru: j0397474.wmf&#13;Klí&amp;ccaron;ová slova: akademikové, chlapci, d&amp;ecaron;ti ...&#13;Velikost souboru: 20 kB"/>
          <p:cNvPicPr/>
          <p:nvPr/>
        </p:nvPicPr>
        <p:blipFill>
          <a:blip r:embed="rId2"/>
          <a:stretch/>
        </p:blipFill>
        <p:spPr>
          <a:xfrm>
            <a:off x="3276720" y="2421000"/>
            <a:ext cx="2736720" cy="273672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1158840" y="152712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189080" y="19890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189080" y="24210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044720" y="2852640"/>
            <a:ext cx="100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189080" y="328464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71640" y="3716280"/>
            <a:ext cx="107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189080" y="414828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189080" y="457992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044720" y="5013360"/>
            <a:ext cx="100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900000" y="5445000"/>
            <a:ext cx="115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588000" y="152892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618240" y="19908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618240" y="242244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473880" y="2854440"/>
            <a:ext cx="100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618240" y="328608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400800" y="3718080"/>
            <a:ext cx="107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618240" y="414972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618240" y="458136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473880" y="5014800"/>
            <a:ext cx="100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329520" y="5446800"/>
            <a:ext cx="115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1" dur="indefinite" restart="never" nodeType="tmRoot">
          <p:childTnLst>
            <p:seq>
              <p:cTn id="1452" dur="indefinite" nodeType="mainSeq">
                <p:childTnLst>
                  <p:par>
                    <p:cTn id="1453" fill="hold">
                      <p:stCondLst>
                        <p:cond delay="0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– počtvr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39640" y="98100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Uspořádej vzestupně čís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98320" y="5445000"/>
            <a:ext cx="8150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Trebuchet MS"/>
              </a:rPr>
              <a:t>Vzestupně znamená od nejmenšího po největší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11280" y="1268280"/>
            <a:ext cx="81500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31; 2; -4; 5; 3; 0; -3; -7; 4; 6; -8;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1" dur="indefinite" restart="never" nodeType="tmRoot">
          <p:childTnLst>
            <p:seq>
              <p:cTn id="1642" dur="indefinite" nodeType="mainSeq">
                <p:childTnLst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2771640" y="2205000"/>
            <a:ext cx="3240360" cy="244800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– počtvr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39640" y="98100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Uspořádej vzestupně čísla - řeš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98320" y="5445000"/>
            <a:ext cx="8150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Trebuchet MS"/>
              </a:rPr>
              <a:t>Vzestupně znamená od nejmenšího po největší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11280" y="1268280"/>
            <a:ext cx="81500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31; 2; -4; 5; 3; 0; -3; -7; 4; 6; -8;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280" y="4724280"/>
            <a:ext cx="81500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-31; -8; -7; -4; -3; 2; 0; 3; 4; 5; 6;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4" dur="indefinite" restart="never" nodeType="tmRoot">
          <p:childTnLst>
            <p:seq>
              <p:cTn id="1655" dur="indefinite" nodeType="mainSeq">
                <p:childTnLst>
                  <p:par>
                    <p:cTn id="1656" fill="hold">
                      <p:stCondLst>
                        <p:cond delay="0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96800" y="1844640"/>
            <a:ext cx="813600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4618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irozená čís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112536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louží k vyjádření počtu prvků konečných neprázdných množin (počtu osob, zvířat, předmětů apod.) nebo pořadí prvk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627280" y="3933720"/>
            <a:ext cx="1039680" cy="2087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852560" y="2421000"/>
            <a:ext cx="1040040" cy="2089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3076560" y="2205000"/>
            <a:ext cx="1039680" cy="2089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4643280" y="2276640"/>
            <a:ext cx="1927440" cy="1893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692360" y="2133720"/>
            <a:ext cx="2592360" cy="381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6084720" y="3357720"/>
            <a:ext cx="1729080" cy="1699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211640" y="2133720"/>
            <a:ext cx="3816360" cy="324144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2349360"/>
            <a:ext cx="7345440" cy="37436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4292640"/>
            <a:ext cx="244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0000"/>
                </a:solidFill>
                <a:latin typeface="Trebuchet MS"/>
              </a:rPr>
              <a:t>3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27920" y="5011560"/>
            <a:ext cx="2447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koč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81160" y="4437000"/>
            <a:ext cx="244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00cc00"/>
                </a:solidFill>
                <a:latin typeface="Trebuchet MS"/>
              </a:rPr>
              <a:t>2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0" y="5156280"/>
            <a:ext cx="2447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p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4654440"/>
            <a:ext cx="244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3333cc"/>
                </a:solidFill>
                <a:latin typeface="Trebuchet MS"/>
              </a:rPr>
              <a:t>5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72280" y="5373720"/>
            <a:ext cx="244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zvíř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1547640" y="2362320"/>
            <a:ext cx="6120000" cy="387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– popá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39640" y="125424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ormální stav hladiny řeky je dán výškou 150 cm. Zapište kladnými či zápornými čísly odchylky od normálního stavu hladin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484360" y="1700280"/>
            <a:ext cx="1440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56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413080" y="2162160"/>
            <a:ext cx="1511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48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197080" y="2593800"/>
            <a:ext cx="172728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67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908000" y="3025800"/>
            <a:ext cx="201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206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197080" y="3457440"/>
            <a:ext cx="1727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3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908000" y="3889440"/>
            <a:ext cx="201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43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332000" y="4321080"/>
            <a:ext cx="259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39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124000" y="4753080"/>
            <a:ext cx="18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57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413080" y="5186520"/>
            <a:ext cx="1511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201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268360" y="5618160"/>
            <a:ext cx="165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11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0" dur="indefinite" restart="never" nodeType="tmRoot">
          <p:childTnLst>
            <p:seq>
              <p:cTn id="1671" dur="indefinite" nodeType="mainSeq">
                <p:childTnLst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– popá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39640" y="125424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ormální stav hladiny řeky je dán výškou 150 cm. Zapište kladnými či zápornými čísly odchylky od normálního stavu hladiny. Řešení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645080" y="1700280"/>
            <a:ext cx="143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56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573440" y="2162160"/>
            <a:ext cx="1511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48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357800" y="2593800"/>
            <a:ext cx="172692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67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068720" y="3025800"/>
            <a:ext cx="201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206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357800" y="3457440"/>
            <a:ext cx="1726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3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068720" y="3889440"/>
            <a:ext cx="201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43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4321080"/>
            <a:ext cx="259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39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284720" y="4753080"/>
            <a:ext cx="1800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57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573440" y="5186520"/>
            <a:ext cx="1511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201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429080" y="5618160"/>
            <a:ext cx="1655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11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084720" y="1714680"/>
            <a:ext cx="1440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+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013440" y="2176560"/>
            <a:ext cx="1511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797440" y="2608200"/>
            <a:ext cx="1727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+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508720" y="3040200"/>
            <a:ext cx="201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+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797440" y="3471840"/>
            <a:ext cx="1727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508720" y="3903840"/>
            <a:ext cx="201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932360" y="4335480"/>
            <a:ext cx="259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724360" y="4767120"/>
            <a:ext cx="18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+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013440" y="5200560"/>
            <a:ext cx="1511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+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869080" y="5632560"/>
            <a:ext cx="1655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1403280" y="2852640"/>
            <a:ext cx="2494080" cy="26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7" dur="indefinite" restart="never" nodeType="tmRoot">
          <p:childTnLst>
            <p:seq>
              <p:cTn id="1708" dur="indefinite" nodeType="mainSeq">
                <p:childTnLst>
                  <p:par>
                    <p:cTn id="1709" fill="hold">
                      <p:stCondLst>
                        <p:cond delay="0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96800" y="2349360"/>
            <a:ext cx="8136000" cy="403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476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Celá čís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112392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 obrazu každého přirozeného čísla na číselné ose existuje obraz souměrný podle obrazu čísla nu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2720" y="2421000"/>
            <a:ext cx="7920000" cy="2089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V="1" rot="5400000">
            <a:off x="3318840" y="2638080"/>
            <a:ext cx="2305800" cy="2304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63" y="19"/>
                </a:moveTo>
                <a:arcTo wR="10800" hR="10800" stAng="-5602898" swAng="11228255"/>
                <a:lnTo>
                  <a:pt x="10800" y="10800"/>
                </a:lnTo>
                <a:close/>
              </a:path>
              <a:path fill="none" w="21600" h="21600">
                <a:moveTo>
                  <a:pt x="10163" y="19"/>
                </a:moveTo>
                <a:arcTo wR="10800" hR="10800" stAng="-5602898" swAng="11228255"/>
              </a:path>
            </a:pathLst>
          </a:custGeom>
          <a:noFill/>
          <a:ln w="28440">
            <a:solidFill>
              <a:srgbClr val="00cc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628640"/>
            <a:ext cx="85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Říkáme, že ke každému přirozenému číslu přiřazujeme číslo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opačné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25600" y="5084640"/>
            <a:ext cx="46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 číslu </a:t>
            </a: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4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existuje opačné číslo </a:t>
            </a: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-4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19280" y="5589720"/>
            <a:ext cx="6192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Říkáme, že čísla 4 a -4 jsou čísla navzájem opač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 rot="5400000">
            <a:off x="3318840" y="1242720"/>
            <a:ext cx="2305800" cy="5095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63" y="19"/>
                </a:moveTo>
                <a:arcTo wR="10800" hR="10800" stAng="-5602898" swAng="11228255"/>
                <a:lnTo>
                  <a:pt x="10800" y="10800"/>
                </a:lnTo>
                <a:close/>
              </a:path>
              <a:path fill="none" w="21600" h="21600">
                <a:moveTo>
                  <a:pt x="10163" y="19"/>
                </a:moveTo>
                <a:arcTo wR="10800" hR="10800" stAng="-5602898" swAng="11228255"/>
              </a:path>
            </a:pathLst>
          </a:custGeom>
          <a:noFill/>
          <a:ln w="28440">
            <a:solidFill>
              <a:srgbClr val="00cc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25600" y="5084640"/>
            <a:ext cx="46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 číslu </a:t>
            </a: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9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existuje opačné číslo </a:t>
            </a: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-9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5589720"/>
            <a:ext cx="6192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Říkáme, že čísla 9 a -9 jsou čísla navzájem opač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 rot="5400000">
            <a:off x="3319560" y="3186000"/>
            <a:ext cx="2305800" cy="120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63" y="19"/>
                </a:moveTo>
                <a:arcTo wR="10800" hR="10800" stAng="-5602898" swAng="11228255"/>
                <a:lnTo>
                  <a:pt x="10800" y="10800"/>
                </a:lnTo>
                <a:close/>
              </a:path>
              <a:path fill="none" w="21600" h="21600">
                <a:moveTo>
                  <a:pt x="10163" y="19"/>
                </a:moveTo>
                <a:arcTo wR="10800" hR="10800" stAng="-5602898" swAng="11228255"/>
              </a:path>
            </a:pathLst>
          </a:custGeom>
          <a:noFill/>
          <a:ln w="28440">
            <a:solidFill>
              <a:srgbClr val="00cc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25600" y="5084640"/>
            <a:ext cx="46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 číslu </a:t>
            </a: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existuje opačné číslo </a:t>
            </a: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-2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19280" y="5589720"/>
            <a:ext cx="64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Říkáme, že čísla 2 a -2 jsou čísla navzájem opačn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96800" y="2349360"/>
            <a:ext cx="8136000" cy="403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476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Celá čís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981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Celá čísla jsou čísla přirozená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98320" y="2492280"/>
            <a:ext cx="7920360" cy="2089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68360" y="1413000"/>
            <a:ext cx="8532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ísla na číselné ose vpravo od nuly se nazývají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celá kladná čísla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86400" y="2797200"/>
            <a:ext cx="3441600" cy="132408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4941720"/>
            <a:ext cx="2521080" cy="1151280"/>
          </a:xfrm>
          <a:prstGeom prst="cloudCallout">
            <a:avLst>
              <a:gd name="adj1" fmla="val -29976"/>
              <a:gd name="adj2" fmla="val -112208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ísla přiroze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9760" y="98280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ísla k nim opač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2795760"/>
            <a:ext cx="3441600" cy="1323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4941720"/>
            <a:ext cx="2736720" cy="1224000"/>
          </a:xfrm>
          <a:prstGeom prst="cloudCallout">
            <a:avLst>
              <a:gd name="adj1" fmla="val 16416"/>
              <a:gd name="adj2" fmla="val -10797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ísla opačná k přirozený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4120" y="98100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  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 nu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51280" y="4581360"/>
            <a:ext cx="1728720" cy="1368720"/>
          </a:xfrm>
          <a:prstGeom prst="cloudCallout">
            <a:avLst>
              <a:gd name="adj1" fmla="val -13819"/>
              <a:gd name="adj2" fmla="val -108236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íslo n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86400" y="2795760"/>
            <a:ext cx="3441600" cy="132372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4940280"/>
            <a:ext cx="2521080" cy="1150920"/>
          </a:xfrm>
          <a:prstGeom prst="cloudCallout">
            <a:avLst>
              <a:gd name="adj1" fmla="val -29976"/>
              <a:gd name="adj2" fmla="val -112208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ísla klad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1728720"/>
            <a:ext cx="85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levo od nuly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celá záporná čísla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2795760"/>
            <a:ext cx="3441600" cy="1323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4941720"/>
            <a:ext cx="2736720" cy="1224000"/>
          </a:xfrm>
          <a:prstGeom prst="cloudCallout">
            <a:avLst>
              <a:gd name="adj1" fmla="val 16416"/>
              <a:gd name="adj2" fmla="val -10797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ísla zápor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51280" y="4581360"/>
            <a:ext cx="1728720" cy="1368720"/>
          </a:xfrm>
          <a:prstGeom prst="cloudCallout">
            <a:avLst>
              <a:gd name="adj1" fmla="val -13819"/>
              <a:gd name="adj2" fmla="val -108236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íslo n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96800" y="1844640"/>
            <a:ext cx="813600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33192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Celá čís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10666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louží k vyjádření změny počtu prvků a jejich porovnávání. Například změny stavu hladin řek, změny teplot vzduchu, změny výše konta v bance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187280" y="1989000"/>
            <a:ext cx="1354320" cy="43196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562040" y="3041640"/>
            <a:ext cx="863640" cy="109368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76440" y="4308480"/>
            <a:ext cx="863640" cy="835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16360" y="2205000"/>
            <a:ext cx="3095640" cy="863640"/>
          </a:xfrm>
          <a:prstGeom prst="cloudCallout">
            <a:avLst>
              <a:gd name="adj1" fmla="val -65435"/>
              <a:gd name="adj2" fmla="val 10331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ísla klad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3789360"/>
            <a:ext cx="2447640" cy="792000"/>
          </a:xfrm>
          <a:prstGeom prst="cloudCallout">
            <a:avLst>
              <a:gd name="adj1" fmla="val -102268"/>
              <a:gd name="adj2" fmla="val 431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íslo n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03640" y="5084640"/>
            <a:ext cx="2736720" cy="1008360"/>
          </a:xfrm>
          <a:prstGeom prst="cloudCallout">
            <a:avLst>
              <a:gd name="adj1" fmla="val -78828"/>
              <a:gd name="adj2" fmla="val -8417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ísla zápor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56360" y="2421000"/>
            <a:ext cx="24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1; 2; 3; 4; 5; 6; 7;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56360" y="3932280"/>
            <a:ext cx="22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rebuchet MS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56360" y="5373720"/>
            <a:ext cx="24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-1; -2; -3; -4; -5;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96800" y="2349360"/>
            <a:ext cx="8136000" cy="403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476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Celá čís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05264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zdálenost obrazu čísla na číselné ose od nuly se nazývá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absolutní hodnota čísla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12720" y="2421000"/>
            <a:ext cx="7920000" cy="2089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68360" y="1700280"/>
            <a:ext cx="85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rotože se jedná o vzdálenost, je absolutní hodnota vždy číslo kladné nebo nula. Značí se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00720" y="3716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40360" y="3716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00720" y="422100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75120" y="3716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73320" y="4221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4724280"/>
            <a:ext cx="208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96000" y="4653000"/>
            <a:ext cx="2160720" cy="1224000"/>
          </a:xfrm>
          <a:prstGeom prst="cloudCallout">
            <a:avLst>
              <a:gd name="adj1" fmla="val -76157"/>
              <a:gd name="adj2" fmla="val -780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Arial"/>
              </a:rPr>
              <a:t>Vzdálenost pěti jednot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6000" y="4724280"/>
            <a:ext cx="2160720" cy="1224000"/>
          </a:xfrm>
          <a:prstGeom prst="cloudCallout">
            <a:avLst>
              <a:gd name="adj1" fmla="val 71824"/>
              <a:gd name="adj2" fmla="val -8411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Arial"/>
              </a:rPr>
              <a:t>Taktéž vzdálenost pěti jednot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6000" y="4653000"/>
            <a:ext cx="2160720" cy="1224000"/>
          </a:xfrm>
          <a:prstGeom prst="cloudCallout">
            <a:avLst>
              <a:gd name="adj1" fmla="val -76157"/>
              <a:gd name="adj2" fmla="val -780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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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=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4724280"/>
            <a:ext cx="2160720" cy="1224000"/>
          </a:xfrm>
          <a:prstGeom prst="cloudCallout">
            <a:avLst>
              <a:gd name="adj1" fmla="val 71824"/>
              <a:gd name="adj2" fmla="val -8411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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-5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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=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95640" y="4653000"/>
            <a:ext cx="662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Tedy:</a:t>
            </a:r>
            <a:r>
              <a:rPr b="1" lang="en-US" sz="5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54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5400" spc="-1" strike="noStrike">
                <a:solidFill>
                  <a:srgbClr val="00cc00"/>
                </a:solidFill>
                <a:latin typeface="Trebuchet MS"/>
              </a:rPr>
              <a:t>x</a:t>
            </a:r>
            <a:r>
              <a:rPr b="1" lang="en-US" sz="54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5400" spc="-1" strike="noStrike">
                <a:solidFill>
                  <a:srgbClr val="00cc00"/>
                </a:solidFill>
                <a:latin typeface="Trebuchet MS"/>
              </a:rPr>
              <a:t> = </a:t>
            </a:r>
            <a:r>
              <a:rPr b="1" lang="en-US" sz="54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5400" spc="-1" strike="noStrike">
                <a:solidFill>
                  <a:srgbClr val="00cc00"/>
                </a:solidFill>
                <a:latin typeface="Trebuchet MS"/>
              </a:rPr>
              <a:t>-x</a:t>
            </a:r>
            <a:r>
              <a:rPr b="1" lang="en-US" sz="54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5400" spc="-1" strike="noStrike">
                <a:solidFill>
                  <a:srgbClr val="00cc00"/>
                </a:solidFill>
                <a:latin typeface="Trebuchet MS"/>
              </a:rPr>
              <a:t> = 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050920" y="5516640"/>
            <a:ext cx="504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Příklad: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54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5400" spc="-1" strike="noStrike">
                <a:solidFill>
                  <a:srgbClr val="00cc00"/>
                </a:solidFill>
                <a:latin typeface="Trebuchet MS"/>
              </a:rPr>
              <a:t>5</a:t>
            </a:r>
            <a:r>
              <a:rPr b="1" lang="en-US" sz="54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5400" spc="-1" strike="noStrike">
                <a:solidFill>
                  <a:srgbClr val="00cc00"/>
                </a:solidFill>
                <a:latin typeface="Trebuchet MS"/>
              </a:rPr>
              <a:t> = </a:t>
            </a:r>
            <a:r>
              <a:rPr b="1" lang="en-US" sz="54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5400" spc="-1" strike="noStrike">
                <a:solidFill>
                  <a:srgbClr val="00cc00"/>
                </a:solidFill>
                <a:latin typeface="Trebuchet MS"/>
              </a:rPr>
              <a:t>-5</a:t>
            </a:r>
            <a:r>
              <a:rPr b="1" lang="en-US" sz="54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5400" spc="-1" strike="noStrike">
                <a:solidFill>
                  <a:srgbClr val="00cc00"/>
                </a:solidFill>
                <a:latin typeface="Trebuchet MS"/>
              </a:rPr>
              <a:t> =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5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96800" y="1916280"/>
            <a:ext cx="813600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orovnávání celých čí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90792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Směrem doprava leží na číselné ose čísla větší, směrem doleva menš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12720" y="2060640"/>
            <a:ext cx="7920000" cy="20890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419640" y="5516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2760" y="141300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V následujících příkladech doplň správný znak nerovn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03640" y="5516640"/>
            <a:ext cx="6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86400" y="2392200"/>
            <a:ext cx="3441600" cy="132408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407664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íslo 7 je číslo kladn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8000" y="4076640"/>
            <a:ext cx="504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 kladná čísla leží vpravo od nu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4360" y="422100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                                                                                       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íslo 7 je tedy větší než nul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00720" y="3429000"/>
            <a:ext cx="3816360" cy="504720"/>
          </a:xfrm>
          <a:custGeom>
            <a:avLst/>
            <a:gdLst/>
            <a:ahLst/>
            <a:rect l="l" t="t" r="r" b="b"/>
            <a:pathLst>
              <a:path w="2041" h="318">
                <a:moveTo>
                  <a:pt x="0" y="0"/>
                </a:moveTo>
                <a:lnTo>
                  <a:pt x="0" y="318"/>
                </a:lnTo>
                <a:lnTo>
                  <a:pt x="2041" y="318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211640" y="5516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&g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6880" y="4581360"/>
            <a:ext cx="813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Každé kladné číslo je větší než nul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96800" y="1916280"/>
            <a:ext cx="813600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orovnávání celých čí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90792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Směrem doprava leží na číselné ose čísla větší, směrem doleva menš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12720" y="2060640"/>
            <a:ext cx="7920000" cy="2089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132000" y="5516640"/>
            <a:ext cx="93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-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2760" y="141300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V následujících příkladech doplň správný znak nerovn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03640" y="5516640"/>
            <a:ext cx="6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71640" y="2392200"/>
            <a:ext cx="3441600" cy="132408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4360" y="407664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íslo -5 je číslo záporn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348000" y="4076640"/>
            <a:ext cx="504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  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 záporná čísla leží vlevo od nu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4360" y="443700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íslo -5 je tedy menší než nul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826200" y="3429000"/>
            <a:ext cx="3673800" cy="504720"/>
          </a:xfrm>
          <a:custGeom>
            <a:avLst/>
            <a:gdLst/>
            <a:ahLst/>
            <a:rect l="l" t="t" r="r" b="b"/>
            <a:pathLst>
              <a:path w="2041" h="318">
                <a:moveTo>
                  <a:pt x="0" y="0"/>
                </a:moveTo>
                <a:lnTo>
                  <a:pt x="0" y="318"/>
                </a:lnTo>
                <a:lnTo>
                  <a:pt x="2041" y="318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11640" y="5516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&l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4040" y="4724280"/>
            <a:ext cx="8265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rebuchet MS"/>
              </a:rPr>
              <a:t>Každé záporné číslo je menší než nula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96800" y="1916280"/>
            <a:ext cx="813600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orovnávání celých čí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8360" y="90792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Směrem doprava leží na číselné ose čísla větší, směrem doleva menš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12720" y="2060640"/>
            <a:ext cx="7920000" cy="20890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132000" y="5516640"/>
            <a:ext cx="93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2760" y="141300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V následujících příkladech doplň správný znak nerovn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03640" y="5516640"/>
            <a:ext cx="6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76800" y="2549520"/>
            <a:ext cx="345960" cy="93672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4360" y="3933720"/>
            <a:ext cx="42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bě čísla 3 i 8 jsou čísla kladná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8400" y="4264200"/>
            <a:ext cx="770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braz čísla 8 však leží na číselné ose více vprav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4360" y="4624560"/>
            <a:ext cx="784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íslo 8 je tedy větší než číslo 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49960" y="3559320"/>
            <a:ext cx="2751120" cy="360360"/>
          </a:xfrm>
          <a:custGeom>
            <a:avLst/>
            <a:gdLst/>
            <a:ahLst/>
            <a:rect l="l" t="t" r="r" b="b"/>
            <a:pathLst>
              <a:path w="2041" h="318">
                <a:moveTo>
                  <a:pt x="0" y="0"/>
                </a:moveTo>
                <a:lnTo>
                  <a:pt x="0" y="318"/>
                </a:lnTo>
                <a:lnTo>
                  <a:pt x="2041" y="318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68800" y="5516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&l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4653000"/>
            <a:ext cx="8266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Ze dvou kladných čísel je větší to, jehož obraz leží na číselné ose více vpra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16800" y="2550960"/>
            <a:ext cx="345960" cy="93672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7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Bizova</cp:lastModifiedBy>
  <dcterms:modified xsi:type="dcterms:W3CDTF">2009-01-26T16:18:33Z</dcterms:modified>
  <cp:revision>161</cp:revision>
  <dc:subject/>
  <dc:title>Celá čísla - úvod, porovnávání</dc:title>
</cp:coreProperties>
</file>