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470-3B1E-4322-9182-02ACEED3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FC1-97E6-49B4-8431-5E02DEB8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2F9-27E2-470C-AD0B-87E55930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B7E-026B-402C-A35B-9EB28BA4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A7D-BEE4-4CD2-987E-061290FF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74D-094A-4BA6-8D1F-2EC266EB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3EC-629F-468A-B460-420F2B3F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E92-D4A5-4FD4-994D-8B93960A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1EF-8C93-4088-9731-73094234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9DA7-FCB6-4D7E-973B-5C525865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BAD-001E-4733-937E-5C54A9C6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986-8E86-4E7F-9DC8-AA07BD1F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1F75-6A0D-4ABC-B337-5163E4E662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77DD-01E4-4532-9305-C40230094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á mocnina a odmocn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á odmocn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Zástupný symbol pro text 2"/>
              <p:cNvSpPr txBox="1"/>
              <p:nvPr/>
            </p:nvSpPr>
            <p:spPr>
              <a:xfrm>
                <a:off x="0" y="2276640"/>
                <a:ext cx="2843280" cy="27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 000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000 000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 000 000</m:t>
                            </m:r>
                          </m:e>
                        </m:ra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2843280" y="2421000"/>
            <a:ext cx="1800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1484280"/>
            <a:ext cx="2952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ypočítej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484280"/>
            <a:ext cx="2952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pamatujte 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00720" y="2205000"/>
                <a:ext cx="3006720" cy="276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,01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,000 1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,000 001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,000 000 01</m:t>
                            </m:r>
                          </m:e>
                        </m:ra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7488360" y="2349360"/>
            <a:ext cx="165564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,000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32000" y="1989000"/>
            <a:ext cx="1295640" cy="2952720"/>
          </a:xfrm>
          <a:prstGeom prst="rtTriangle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85080" y="1989000"/>
            <a:ext cx="1079640" cy="2952720"/>
          </a:xfrm>
          <a:prstGeom prst="rtTriangl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23280" y="1989000"/>
            <a:ext cx="2160360" cy="2952720"/>
          </a:xfrm>
          <a:prstGeom prst="rtTriangle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003640" y="1916280"/>
            <a:ext cx="2089440" cy="3025440"/>
          </a:xfrm>
          <a:prstGeom prst="rtTriangl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5229360"/>
            <a:ext cx="2303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poloviční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počet n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5013360"/>
            <a:ext cx="277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poloviční počet desetinných mí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50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50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á odmocn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Zástupný symbol pro text 2"/>
              <p:cNvSpPr txBox="1"/>
              <p:nvPr/>
            </p:nvSpPr>
            <p:spPr>
              <a:xfrm>
                <a:off x="1979640" y="2133720"/>
                <a:ext cx="20160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Zástupný symbol pro text 2"/>
              <p:cNvSpPr txBox="1"/>
              <p:nvPr/>
            </p:nvSpPr>
            <p:spPr>
              <a:xfrm>
                <a:off x="4716360" y="2637000"/>
                <a:ext cx="3527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Zástupný symbol pro text 2"/>
              <p:cNvSpPr txBox="1"/>
              <p:nvPr/>
            </p:nvSpPr>
            <p:spPr>
              <a:xfrm>
                <a:off x="1908000" y="4248000"/>
                <a:ext cx="1256040" cy="181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9640" y="3860640"/>
                <a:ext cx="1398600" cy="234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4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</m:e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44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468360" y="1413000"/>
            <a:ext cx="81471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vidla pro počítání s druhou odmocni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4076640"/>
            <a:ext cx="4103640" cy="237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ruhá odmocnina podí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133720"/>
            <a:ext cx="4102200" cy="1511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ruhá odmocnina souč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292720" y="4508640"/>
                <a:ext cx="2305080" cy="17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Zástupný symbol pro text 2"/>
              <p:cNvSpPr txBox="1"/>
              <p:nvPr/>
            </p:nvSpPr>
            <p:spPr>
              <a:xfrm>
                <a:off x="250920" y="2133720"/>
                <a:ext cx="180000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7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9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6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čítejte s tabulka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1512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 20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268280"/>
            <a:ext cx="7632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duj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1916280"/>
            <a:ext cx="7667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72.100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7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10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5 184.10 000 = 51 840 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789360"/>
            <a:ext cx="2160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0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0,47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145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,7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95640" y="3762360"/>
            <a:ext cx="482436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24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0,036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0,220 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okrouhlíme n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,15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4,622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3,8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190,4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3068640"/>
            <a:ext cx="763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čete druhou mocninu čís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421000"/>
            <a:ext cx="151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,6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2421000"/>
            <a:ext cx="7667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67.0,01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6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0,0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4 489 . 0,000 1 = 0,448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0"/>
                            </p:stCondLst>
                            <p:childTnLst>
                              <p:par>
                                <p:cTn id="6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čítejte s tabulka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Zástupný symbol pro text 2"/>
              <p:cNvSpPr txBox="1"/>
              <p:nvPr/>
            </p:nvSpPr>
            <p:spPr>
              <a:xfrm>
                <a:off x="1763640" y="1844640"/>
                <a:ext cx="5630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,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611280" y="1268280"/>
            <a:ext cx="7632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duj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3357720"/>
            <a:ext cx="763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čete druhou odmocninu čís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95280" y="3789360"/>
                <a:ext cx="1376280" cy="28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8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 800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,34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 159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646 </m:t>
                            </m:r>
                          </m:e>
                        </m:ra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95280" y="1844640"/>
                <a:ext cx="13590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 900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50920" y="2492280"/>
                <a:ext cx="1523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0,0357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784520" y="2492280"/>
                <a:ext cx="735948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,000 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57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0,000 1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,8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,0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18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Zástupný symbol pro text 2"/>
              <p:cNvSpPr txBox="1"/>
              <p:nvPr/>
            </p:nvSpPr>
            <p:spPr>
              <a:xfrm>
                <a:off x="1763640" y="3860640"/>
                <a:ext cx="534852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5,4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,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,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,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58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okrouhlíme n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 200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1,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0,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okrouhlíme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65 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,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8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000"/>
                            </p:stCondLst>
                            <p:childTnLst>
                              <p:par>
                                <p:cTn id="6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92360" y="3789360"/>
            <a:ext cx="1584360" cy="1224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360" y="3789360"/>
            <a:ext cx="1584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á mocn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5843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součin dvou stejných činitel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421000"/>
            <a:ext cx="1942920" cy="60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. a 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8000" y="3789360"/>
            <a:ext cx="1943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7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339640" y="4581360"/>
            <a:ext cx="158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4437000"/>
            <a:ext cx="201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076720" y="335736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5157720"/>
            <a:ext cx="2232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cn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5157720"/>
            <a:ext cx="2159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cn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xpon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3068640"/>
            <a:ext cx="295128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druhá mocnina čísla </a:t>
            </a:r>
            <a:r>
              <a:rPr b="0" i="1" lang="en-US" sz="3200" spc="-1" strike="noStrike">
                <a:solidFill>
                  <a:srgbClr val="1f497d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á mocn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9760" y="2131920"/>
            <a:ext cx="16682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7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0,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0,1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268280"/>
            <a:ext cx="7632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čete druhou mocninu čís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2133720"/>
            <a:ext cx="3960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. 7 = 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7).(-7) = 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2 . 0,2 =  0,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0,2).(-0,2) = 0,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11 . 0,11 = 0,012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0,11).(-0,11)= 0,012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133720"/>
            <a:ext cx="1728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2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0,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0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0,03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2133720"/>
            <a:ext cx="14414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000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000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0200" y="5516640"/>
            <a:ext cx="8389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uhá mocnina libovolného čísla je vždy kladná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á mocn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484280"/>
            <a:ext cx="2952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ypočítej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2492280"/>
            <a:ext cx="1773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0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0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2492280"/>
            <a:ext cx="2232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000 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2492280"/>
            <a:ext cx="1882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0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00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000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4720" y="2492280"/>
            <a:ext cx="2305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0,000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0,000 00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0,000 000 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2276640"/>
            <a:ext cx="2305080" cy="2232000"/>
          </a:xfrm>
          <a:prstGeom prst="triangle">
            <a:avLst>
              <a:gd name="adj" fmla="val 1292"/>
            </a:avLst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2205000"/>
            <a:ext cx="2305080" cy="2303640"/>
          </a:xfrm>
          <a:prstGeom prst="triangle">
            <a:avLst>
              <a:gd name="adj" fmla="val 1292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39640" y="2276640"/>
            <a:ext cx="1008000" cy="2232000"/>
          </a:xfrm>
          <a:prstGeom prst="rtTriangle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716360" y="2276640"/>
            <a:ext cx="1008000" cy="2232000"/>
          </a:xfrm>
          <a:prstGeom prst="rtTriangl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4724280"/>
            <a:ext cx="23032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Dvojnásobný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počet n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4724280"/>
            <a:ext cx="26625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vojnásobný 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počet desetinných mí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484280"/>
            <a:ext cx="2952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pamatujte 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5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á mocn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hodni, zda se sobě rovnaj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2349360"/>
            <a:ext cx="863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11640" y="2349360"/>
            <a:ext cx="11509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 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2349360"/>
            <a:ext cx="360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5013360"/>
            <a:ext cx="5398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kladem druhé mocniny je číslo 8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: - 8.8 = -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50560" y="2924280"/>
            <a:ext cx="1081080" cy="20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3640" y="2924280"/>
            <a:ext cx="1513080" cy="10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3860640"/>
            <a:ext cx="511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kladem druhé mocniny je číslo -8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: (-8).(-8) = + 64 =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6000" y="2421000"/>
            <a:ext cx="28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zor na závork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á mocn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471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vidla pro počítání s druhou mocnin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Zástupný symbol pro text 2"/>
              <p:cNvSpPr txBox="1"/>
              <p:nvPr/>
            </p:nvSpPr>
            <p:spPr>
              <a:xfrm>
                <a:off x="2340000" y="5157720"/>
                <a:ext cx="1727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5148360" y="4292640"/>
            <a:ext cx="3673440" cy="19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ruhá mocnina podí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421000"/>
            <a:ext cx="187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 . 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2421000"/>
            <a:ext cx="295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5 = 2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2565360"/>
            <a:ext cx="3743280" cy="1150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ruhá mocnina souč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 . b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00000" y="3933720"/>
                <a:ext cx="13050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Zástupný symbol pro text 2"/>
              <p:cNvSpPr txBox="1"/>
              <p:nvPr/>
            </p:nvSpPr>
            <p:spPr>
              <a:xfrm>
                <a:off x="2268360" y="4005360"/>
                <a:ext cx="18352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42920" y="5084640"/>
                <a:ext cx="114948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7280" y="4797360"/>
                <a:ext cx="2241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á mocn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OZOR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3141720"/>
            <a:ext cx="187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 + 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3141720"/>
            <a:ext cx="295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25 =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2492280"/>
            <a:ext cx="316728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 + 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4724280"/>
            <a:ext cx="2089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6 - 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68360" y="4724280"/>
            <a:ext cx="295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49 = 2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3357720"/>
            <a:ext cx="35272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6 - 7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2276640"/>
            <a:ext cx="22431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počíte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92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1925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1925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1925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7000"/>
                            </p:stCondLst>
                            <p:childTnLst>
                              <p:par>
                                <p:cTn id="3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15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1155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115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115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á odmocn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Zástupný symbol pro text 2"/>
              <p:cNvSpPr txBox="1"/>
              <p:nvPr/>
            </p:nvSpPr>
            <p:spPr>
              <a:xfrm>
                <a:off x="3492360" y="1557360"/>
                <a:ext cx="17766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066920" y="3213000"/>
            <a:ext cx="14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00000" y="2062080"/>
            <a:ext cx="1584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932360" y="2491920"/>
            <a:ext cx="1224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773360"/>
            <a:ext cx="2232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mocn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989000"/>
            <a:ext cx="237636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mocnít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3860640"/>
            <a:ext cx="3529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druhá odmocnina čísla </a:t>
            </a:r>
            <a:r>
              <a:rPr b="0" i="1" lang="en-US" sz="3200" spc="-1" strike="noStrike">
                <a:solidFill>
                  <a:srgbClr val="1f497d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Zástupný symbol pro text 2"/>
              <p:cNvSpPr txBox="1"/>
              <p:nvPr/>
            </p:nvSpPr>
            <p:spPr>
              <a:xfrm>
                <a:off x="1403280" y="5373720"/>
                <a:ext cx="63374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  </m:t>
                    </m:r>
                    <m:r>
                      <m:rPr>
                        <m:lit/>
                        <m:nor/>
                      </m:rPr>
                      <m:t xml:space="preserve">potom platí, že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á odmocn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Zástupný symbol pro text 2"/>
              <p:cNvSpPr txBox="1"/>
              <p:nvPr/>
            </p:nvSpPr>
            <p:spPr>
              <a:xfrm>
                <a:off x="468360" y="5084640"/>
                <a:ext cx="16556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-36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Zástupný symbol pro text 2"/>
              <p:cNvSpPr txBox="1"/>
              <p:nvPr/>
            </p:nvSpPr>
            <p:spPr>
              <a:xfrm>
                <a:off x="755640" y="2781360"/>
                <a:ext cx="45370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Zástupný symbol pro text 2"/>
              <p:cNvSpPr txBox="1"/>
              <p:nvPr/>
            </p:nvSpPr>
            <p:spPr>
              <a:xfrm>
                <a:off x="6084720" y="1916280"/>
                <a:ext cx="1714680" cy="45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4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69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,25</m:t>
                            </m:r>
                          </m:e>
                        </m:ra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14320" y="2060640"/>
                <a:ext cx="4334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7740720" y="1989000"/>
            <a:ext cx="86364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1341360"/>
            <a:ext cx="22431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počíte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5280" y="3502080"/>
                <a:ext cx="52578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0,25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2124000" y="5084640"/>
            <a:ext cx="3457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eexistuj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že druhá mocnina je vždy klad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Zástupný symbol pro text 2"/>
              <p:cNvSpPr txBox="1"/>
              <p:nvPr/>
            </p:nvSpPr>
            <p:spPr>
              <a:xfrm>
                <a:off x="971640" y="4149720"/>
                <a:ext cx="40431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 flipV="1">
            <a:off x="395280" y="4941360"/>
            <a:ext cx="1512720" cy="107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941720"/>
            <a:ext cx="1511280" cy="107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341360"/>
            <a:ext cx="201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duj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3:20:13Z</dcterms:created>
  <dc:creator>Kamila Mužíková</dc:creator>
  <dc:description>Dostupné z Metodického portálu www.rvp.cz, ISSN: 1802-4785, financovaného z ESF a státního rozpočtu ČR. Provozováno Výzkumným ústavem pedagogickým v Praze.</dc:description>
  <dc:language>en-US</dc:language>
  <cp:lastModifiedBy>Stepanka</cp:lastModifiedBy>
  <dcterms:modified xsi:type="dcterms:W3CDTF">2008-05-30T23:04:31Z</dcterms:modified>
  <cp:revision>61</cp:revision>
  <dc:subject/>
  <dc:title>Druhá mocnina a odmocnina</dc:title>
</cp:coreProperties>
</file>